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9AB-F4D7-4961-AEF9-A7E39B71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5C7-F776-4EA1-B129-1E6F4344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EC1-8A6C-4D08-BAD6-2B7B527E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D05-24C0-40E3-9481-68036B9D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A45-77AA-499F-9C9C-6018CB1D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0F0-7194-4267-9CD3-C048A703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837-6841-4502-A4B9-3BEDB9B8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2D1-17E9-4998-B1CE-79D2EB2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450-5484-410B-8151-733BE6D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432-22F9-44CE-B783-FC70F10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ED1-96C0-468A-A23B-1E91A372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D5A-8ECD-4BAF-9822-83E4B67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442A-63F4-4451-959C-4274C714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-892440"/>
            <a:ext cx="13716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371600" y="0"/>
            <a:ext cx="10515600" cy="612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8520" y="2588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21:29:09Z</dcterms:created>
  <dc:creator>User</dc:creator>
  <dc:description/>
  <dc:language>en-US</dc:language>
  <cp:lastModifiedBy>User</cp:lastModifiedBy>
  <dcterms:modified xsi:type="dcterms:W3CDTF">2005-10-26T21:37:41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83266679</vt:r8>
  </property>
  <property fmtid="{D5CDD505-2E9C-101B-9397-08002B2CF9AE}" pid="3" name="_AuthorEmail">
    <vt:lpwstr>Bill.Fonda@NBORDER.COM</vt:lpwstr>
  </property>
  <property fmtid="{D5CDD505-2E9C-101B-9397-08002B2CF9AE}" pid="4" name="_AuthorEmailDisplayName">
    <vt:lpwstr>Fonda, William </vt:lpwstr>
  </property>
  <property fmtid="{D5CDD505-2E9C-101B-9397-08002B2CF9AE}" pid="5" name="_EmailSubject">
    <vt:lpwstr>Paul Miller - Testimony and Exhibit</vt:lpwstr>
  </property>
  <property fmtid="{D5CDD505-2E9C-101B-9397-08002B2CF9AE}" pid="6" name="_PreviousAdHocReviewCycleID">
    <vt:r8>1087096320</vt:r8>
  </property>
</Properties>
</file>