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734-3607-45BA-ADC9-A64EFF81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CE7-85E4-491E-92F1-FEE3783F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EB9-5CB4-4432-8FAD-F15E819F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B66-8501-42AE-91A3-FD8079AA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D48-8698-42D0-995B-217D8518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6F8-628F-47D0-A306-B47172E7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FE3-3682-413F-8740-3E2743C4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226-A4C4-43E3-B415-1B3EBDF6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32B-95A4-4FFB-9C47-92F5D25C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40E-4E52-4C31-A596-E53BD06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F86-8DA3-447F-934E-C279D364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AAB-7E5D-4EDF-ABA4-CCB4FA8B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7A00-D633-490F-BF7E-ACFB9FA59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4000" y="83808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 Compression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8337600" cy="1825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3000" y="152280"/>
            <a:ext cx="1113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hibit No. NB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edul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04360" y="838080"/>
            <a:ext cx="28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Price Cal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ura and Chic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3000" y="152280"/>
            <a:ext cx="1113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hibit No. NB-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edul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865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5:42:54Z</dcterms:created>
  <dc:creator>User</dc:creator>
  <dc:description/>
  <dc:language>en-US</dc:language>
  <cp:lastModifiedBy>Margaret Atkisson</cp:lastModifiedBy>
  <dcterms:modified xsi:type="dcterms:W3CDTF">2005-10-26T19:28:47Z</dcterms:modified>
  <cp:revision>77</cp:revision>
  <dc:subject/>
  <dc:title>Slide 1</dc:title>
</cp:coreProperties>
</file>