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BB59-19FD-4603-8104-7A24BC90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F6DD-D82F-4E47-83CB-9DCA99E5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7344-27A0-474F-A9B3-CE325C835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FA98-BB1E-4316-BE7F-23FA5A40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EBE5-B113-4B32-982D-5A24D61A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E934-B147-4DE1-A51F-429555AB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7AA5-6501-42DC-8488-32BF546C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43AD-BFF0-4694-9EF8-A79379F6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A531-5815-48D3-988C-6C52377C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AF50-9872-4A36-8F2C-8B9ED940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9C40-760F-4F73-B000-C5173A71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F00B-634F-470B-A5C0-F59CF42E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C0FA-DA74-4DDE-82C2-509DFFA99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824760" y="961920"/>
            <a:ext cx="7537680" cy="5058000"/>
            <a:chOff x="824760" y="961920"/>
            <a:chExt cx="7537680" cy="5058000"/>
          </a:xfrm>
        </p:grpSpPr>
        <p:sp>
          <p:nvSpPr>
            <p:cNvPr id="42" name=""/>
            <p:cNvSpPr/>
            <p:nvPr/>
          </p:nvSpPr>
          <p:spPr>
            <a:xfrm>
              <a:off x="1447560" y="1495440"/>
              <a:ext cx="6045840" cy="37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447560" y="5019840"/>
              <a:ext cx="604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447560" y="4552920"/>
              <a:ext cx="604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47560" y="4086360"/>
              <a:ext cx="604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447560" y="3610080"/>
              <a:ext cx="604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47560" y="3143160"/>
              <a:ext cx="604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47560" y="2666880"/>
              <a:ext cx="604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47560" y="2200320"/>
              <a:ext cx="604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560" y="1733400"/>
              <a:ext cx="604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47560" y="4791240"/>
              <a:ext cx="604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47560" y="4314960"/>
              <a:ext cx="604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560" y="3848040"/>
              <a:ext cx="604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47560" y="3381480"/>
              <a:ext cx="604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560" y="2905200"/>
              <a:ext cx="604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447560" y="2438280"/>
              <a:ext cx="604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560" y="1962000"/>
              <a:ext cx="604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47560" y="1495440"/>
              <a:ext cx="604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88320" y="1495440"/>
              <a:ext cx="1080" cy="376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20080" y="1495440"/>
              <a:ext cx="1080" cy="376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60120" y="1495440"/>
              <a:ext cx="1080" cy="376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00520" y="1495440"/>
              <a:ext cx="1440" cy="376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32280" y="1495440"/>
              <a:ext cx="1440" cy="376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72680" y="1495440"/>
              <a:ext cx="1080" cy="376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413080" y="1495440"/>
              <a:ext cx="1080" cy="376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44840" y="1495440"/>
              <a:ext cx="1080" cy="376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684880" y="1495440"/>
              <a:ext cx="1080" cy="376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25280" y="1495440"/>
              <a:ext cx="1440" cy="376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957040" y="1495440"/>
              <a:ext cx="1440" cy="376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97800" y="1495440"/>
              <a:ext cx="1080" cy="376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37840" y="1495440"/>
              <a:ext cx="1080" cy="376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369600" y="1495440"/>
              <a:ext cx="1080" cy="376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510000" y="1495440"/>
              <a:ext cx="1440" cy="376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50040" y="1495440"/>
              <a:ext cx="1440" cy="376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81800" y="1495440"/>
              <a:ext cx="1440" cy="376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22560" y="1495440"/>
              <a:ext cx="1080" cy="376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062600" y="1495440"/>
              <a:ext cx="1080" cy="376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194360" y="1495440"/>
              <a:ext cx="1080" cy="376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334760" y="1495440"/>
              <a:ext cx="1440" cy="376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75160" y="1495440"/>
              <a:ext cx="1080" cy="376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606560" y="1495440"/>
              <a:ext cx="1440" cy="376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747320" y="1495440"/>
              <a:ext cx="1080" cy="376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9080" y="1495440"/>
              <a:ext cx="1080" cy="376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019120" y="1495440"/>
              <a:ext cx="1080" cy="376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59520" y="1495440"/>
              <a:ext cx="1440" cy="376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291280" y="1495440"/>
              <a:ext cx="1440" cy="376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31680" y="1495440"/>
              <a:ext cx="1080" cy="376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72080" y="1495440"/>
              <a:ext cx="1080" cy="376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03840" y="1495440"/>
              <a:ext cx="1080" cy="376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44240" y="1495440"/>
              <a:ext cx="1080" cy="376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84280" y="1495440"/>
              <a:ext cx="1440" cy="376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16040" y="1495440"/>
              <a:ext cx="1440" cy="376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256800" y="1495440"/>
              <a:ext cx="1080" cy="376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96840" y="1495440"/>
              <a:ext cx="1080" cy="376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528600" y="1495440"/>
              <a:ext cx="1080" cy="376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69000" y="1495440"/>
              <a:ext cx="1440" cy="376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09040" y="1495440"/>
              <a:ext cx="1440" cy="376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40800" y="1495440"/>
              <a:ext cx="1440" cy="376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81560" y="1495440"/>
              <a:ext cx="1080" cy="376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221600" y="1495440"/>
              <a:ext cx="1080" cy="376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53360" y="1495440"/>
              <a:ext cx="1080" cy="376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93760" y="1495440"/>
              <a:ext cx="1440" cy="376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47560" y="1495440"/>
              <a:ext cx="6045840" cy="3762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47560" y="1809720"/>
              <a:ext cx="6045840" cy="3448080"/>
            </a:xfrm>
            <a:custGeom>
              <a:avLst/>
              <a:gdLst/>
              <a:ahLst/>
              <a:rect l="l" t="t" r="r" b="b"/>
              <a:pathLst>
                <a:path w="4134" h="2172">
                  <a:moveTo>
                    <a:pt x="0" y="2172"/>
                  </a:moveTo>
                  <a:lnTo>
                    <a:pt x="0" y="1752"/>
                  </a:lnTo>
                  <a:lnTo>
                    <a:pt x="96" y="816"/>
                  </a:lnTo>
                  <a:lnTo>
                    <a:pt x="186" y="318"/>
                  </a:lnTo>
                  <a:lnTo>
                    <a:pt x="282" y="96"/>
                  </a:lnTo>
                  <a:lnTo>
                    <a:pt x="378" y="0"/>
                  </a:lnTo>
                  <a:lnTo>
                    <a:pt x="468" y="384"/>
                  </a:lnTo>
                  <a:lnTo>
                    <a:pt x="564" y="258"/>
                  </a:lnTo>
                  <a:lnTo>
                    <a:pt x="660" y="702"/>
                  </a:lnTo>
                  <a:lnTo>
                    <a:pt x="750" y="702"/>
                  </a:lnTo>
                  <a:lnTo>
                    <a:pt x="846" y="432"/>
                  </a:lnTo>
                  <a:lnTo>
                    <a:pt x="942" y="300"/>
                  </a:lnTo>
                  <a:lnTo>
                    <a:pt x="1032" y="396"/>
                  </a:lnTo>
                  <a:lnTo>
                    <a:pt x="1128" y="546"/>
                  </a:lnTo>
                  <a:lnTo>
                    <a:pt x="1224" y="480"/>
                  </a:lnTo>
                  <a:lnTo>
                    <a:pt x="1314" y="666"/>
                  </a:lnTo>
                  <a:lnTo>
                    <a:pt x="1410" y="960"/>
                  </a:lnTo>
                  <a:lnTo>
                    <a:pt x="1506" y="966"/>
                  </a:lnTo>
                  <a:lnTo>
                    <a:pt x="1596" y="960"/>
                  </a:lnTo>
                  <a:lnTo>
                    <a:pt x="1692" y="762"/>
                  </a:lnTo>
                  <a:lnTo>
                    <a:pt x="1788" y="738"/>
                  </a:lnTo>
                  <a:lnTo>
                    <a:pt x="1878" y="828"/>
                  </a:lnTo>
                  <a:lnTo>
                    <a:pt x="1974" y="996"/>
                  </a:lnTo>
                  <a:lnTo>
                    <a:pt x="2070" y="1098"/>
                  </a:lnTo>
                  <a:lnTo>
                    <a:pt x="2160" y="1260"/>
                  </a:lnTo>
                  <a:lnTo>
                    <a:pt x="2256" y="1380"/>
                  </a:lnTo>
                  <a:lnTo>
                    <a:pt x="2346" y="1722"/>
                  </a:lnTo>
                  <a:lnTo>
                    <a:pt x="2442" y="1992"/>
                  </a:lnTo>
                  <a:lnTo>
                    <a:pt x="2538" y="2088"/>
                  </a:lnTo>
                  <a:lnTo>
                    <a:pt x="2628" y="2124"/>
                  </a:lnTo>
                  <a:lnTo>
                    <a:pt x="2724" y="2148"/>
                  </a:lnTo>
                  <a:lnTo>
                    <a:pt x="2820" y="2160"/>
                  </a:lnTo>
                  <a:lnTo>
                    <a:pt x="2910" y="2166"/>
                  </a:lnTo>
                  <a:lnTo>
                    <a:pt x="3006" y="2166"/>
                  </a:lnTo>
                  <a:lnTo>
                    <a:pt x="3102" y="2166"/>
                  </a:lnTo>
                  <a:lnTo>
                    <a:pt x="3192" y="2166"/>
                  </a:lnTo>
                  <a:lnTo>
                    <a:pt x="3288" y="2172"/>
                  </a:lnTo>
                  <a:lnTo>
                    <a:pt x="3384" y="2172"/>
                  </a:lnTo>
                  <a:lnTo>
                    <a:pt x="3474" y="2172"/>
                  </a:lnTo>
                  <a:lnTo>
                    <a:pt x="3570" y="2172"/>
                  </a:lnTo>
                  <a:lnTo>
                    <a:pt x="3666" y="2172"/>
                  </a:lnTo>
                  <a:lnTo>
                    <a:pt x="3756" y="2172"/>
                  </a:lnTo>
                  <a:lnTo>
                    <a:pt x="3852" y="2172"/>
                  </a:lnTo>
                  <a:lnTo>
                    <a:pt x="3948" y="2172"/>
                  </a:lnTo>
                  <a:lnTo>
                    <a:pt x="4038" y="2172"/>
                  </a:lnTo>
                  <a:lnTo>
                    <a:pt x="4134" y="2172"/>
                  </a:lnTo>
                  <a:lnTo>
                    <a:pt x="4134" y="2172"/>
                  </a:lnTo>
                  <a:lnTo>
                    <a:pt x="4038" y="2172"/>
                  </a:lnTo>
                  <a:lnTo>
                    <a:pt x="3948" y="2172"/>
                  </a:lnTo>
                  <a:lnTo>
                    <a:pt x="3852" y="2172"/>
                  </a:lnTo>
                  <a:lnTo>
                    <a:pt x="3756" y="2172"/>
                  </a:lnTo>
                  <a:lnTo>
                    <a:pt x="3666" y="2172"/>
                  </a:lnTo>
                  <a:lnTo>
                    <a:pt x="3570" y="2172"/>
                  </a:lnTo>
                  <a:lnTo>
                    <a:pt x="3474" y="2172"/>
                  </a:lnTo>
                  <a:lnTo>
                    <a:pt x="3384" y="2172"/>
                  </a:lnTo>
                  <a:lnTo>
                    <a:pt x="3288" y="2172"/>
                  </a:lnTo>
                  <a:lnTo>
                    <a:pt x="3192" y="2172"/>
                  </a:lnTo>
                  <a:lnTo>
                    <a:pt x="3102" y="2172"/>
                  </a:lnTo>
                  <a:lnTo>
                    <a:pt x="3006" y="2172"/>
                  </a:lnTo>
                  <a:lnTo>
                    <a:pt x="2910" y="2172"/>
                  </a:lnTo>
                  <a:lnTo>
                    <a:pt x="2820" y="2172"/>
                  </a:lnTo>
                  <a:lnTo>
                    <a:pt x="2724" y="2172"/>
                  </a:lnTo>
                  <a:lnTo>
                    <a:pt x="2628" y="2172"/>
                  </a:lnTo>
                  <a:lnTo>
                    <a:pt x="2538" y="2172"/>
                  </a:lnTo>
                  <a:lnTo>
                    <a:pt x="2442" y="2172"/>
                  </a:lnTo>
                  <a:lnTo>
                    <a:pt x="2346" y="2172"/>
                  </a:lnTo>
                  <a:lnTo>
                    <a:pt x="2256" y="2172"/>
                  </a:lnTo>
                  <a:lnTo>
                    <a:pt x="2160" y="2172"/>
                  </a:lnTo>
                  <a:lnTo>
                    <a:pt x="2070" y="2172"/>
                  </a:lnTo>
                  <a:lnTo>
                    <a:pt x="1974" y="2172"/>
                  </a:lnTo>
                  <a:lnTo>
                    <a:pt x="1878" y="2172"/>
                  </a:lnTo>
                  <a:lnTo>
                    <a:pt x="1788" y="2172"/>
                  </a:lnTo>
                  <a:lnTo>
                    <a:pt x="1692" y="2172"/>
                  </a:lnTo>
                  <a:lnTo>
                    <a:pt x="1596" y="2172"/>
                  </a:lnTo>
                  <a:lnTo>
                    <a:pt x="1506" y="2172"/>
                  </a:lnTo>
                  <a:lnTo>
                    <a:pt x="1410" y="2172"/>
                  </a:lnTo>
                  <a:lnTo>
                    <a:pt x="1314" y="2172"/>
                  </a:lnTo>
                  <a:lnTo>
                    <a:pt x="1224" y="2172"/>
                  </a:lnTo>
                  <a:lnTo>
                    <a:pt x="1128" y="2172"/>
                  </a:lnTo>
                  <a:lnTo>
                    <a:pt x="1032" y="2172"/>
                  </a:lnTo>
                  <a:lnTo>
                    <a:pt x="942" y="2172"/>
                  </a:lnTo>
                  <a:lnTo>
                    <a:pt x="846" y="2172"/>
                  </a:lnTo>
                  <a:lnTo>
                    <a:pt x="750" y="2172"/>
                  </a:lnTo>
                  <a:lnTo>
                    <a:pt x="660" y="2172"/>
                  </a:lnTo>
                  <a:lnTo>
                    <a:pt x="564" y="2172"/>
                  </a:lnTo>
                  <a:lnTo>
                    <a:pt x="468" y="2172"/>
                  </a:lnTo>
                  <a:lnTo>
                    <a:pt x="378" y="2172"/>
                  </a:lnTo>
                  <a:lnTo>
                    <a:pt x="282" y="2172"/>
                  </a:lnTo>
                  <a:lnTo>
                    <a:pt x="186" y="2172"/>
                  </a:lnTo>
                  <a:lnTo>
                    <a:pt x="96" y="2172"/>
                  </a:lnTo>
                  <a:lnTo>
                    <a:pt x="0" y="2172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47560" y="1809720"/>
              <a:ext cx="6045840" cy="3448080"/>
            </a:xfrm>
            <a:custGeom>
              <a:avLst/>
              <a:gdLst/>
              <a:ahLst/>
              <a:rect l="l" t="t" r="r" b="b"/>
              <a:pathLst>
                <a:path w="4134" h="2172">
                  <a:moveTo>
                    <a:pt x="0" y="1752"/>
                  </a:moveTo>
                  <a:lnTo>
                    <a:pt x="0" y="1752"/>
                  </a:lnTo>
                  <a:lnTo>
                    <a:pt x="96" y="816"/>
                  </a:lnTo>
                  <a:lnTo>
                    <a:pt x="186" y="318"/>
                  </a:lnTo>
                  <a:lnTo>
                    <a:pt x="282" y="96"/>
                  </a:lnTo>
                  <a:lnTo>
                    <a:pt x="378" y="0"/>
                  </a:lnTo>
                  <a:lnTo>
                    <a:pt x="468" y="384"/>
                  </a:lnTo>
                  <a:lnTo>
                    <a:pt x="564" y="258"/>
                  </a:lnTo>
                  <a:lnTo>
                    <a:pt x="660" y="702"/>
                  </a:lnTo>
                  <a:lnTo>
                    <a:pt x="750" y="702"/>
                  </a:lnTo>
                  <a:lnTo>
                    <a:pt x="846" y="432"/>
                  </a:lnTo>
                  <a:lnTo>
                    <a:pt x="942" y="300"/>
                  </a:lnTo>
                  <a:lnTo>
                    <a:pt x="1032" y="396"/>
                  </a:lnTo>
                  <a:lnTo>
                    <a:pt x="1128" y="546"/>
                  </a:lnTo>
                  <a:lnTo>
                    <a:pt x="1224" y="480"/>
                  </a:lnTo>
                  <a:lnTo>
                    <a:pt x="1314" y="666"/>
                  </a:lnTo>
                  <a:lnTo>
                    <a:pt x="1410" y="960"/>
                  </a:lnTo>
                  <a:lnTo>
                    <a:pt x="1506" y="966"/>
                  </a:lnTo>
                  <a:lnTo>
                    <a:pt x="1596" y="960"/>
                  </a:lnTo>
                  <a:lnTo>
                    <a:pt x="1692" y="762"/>
                  </a:lnTo>
                  <a:lnTo>
                    <a:pt x="1788" y="738"/>
                  </a:lnTo>
                  <a:lnTo>
                    <a:pt x="1878" y="828"/>
                  </a:lnTo>
                  <a:lnTo>
                    <a:pt x="1974" y="996"/>
                  </a:lnTo>
                  <a:lnTo>
                    <a:pt x="2070" y="1098"/>
                  </a:lnTo>
                  <a:lnTo>
                    <a:pt x="2160" y="1260"/>
                  </a:lnTo>
                  <a:lnTo>
                    <a:pt x="2256" y="1380"/>
                  </a:lnTo>
                  <a:lnTo>
                    <a:pt x="2346" y="1488"/>
                  </a:lnTo>
                  <a:lnTo>
                    <a:pt x="2442" y="1596"/>
                  </a:lnTo>
                  <a:lnTo>
                    <a:pt x="2538" y="1692"/>
                  </a:lnTo>
                  <a:lnTo>
                    <a:pt x="2628" y="1782"/>
                  </a:lnTo>
                  <a:lnTo>
                    <a:pt x="2724" y="1854"/>
                  </a:lnTo>
                  <a:lnTo>
                    <a:pt x="2820" y="1914"/>
                  </a:lnTo>
                  <a:lnTo>
                    <a:pt x="2910" y="1956"/>
                  </a:lnTo>
                  <a:lnTo>
                    <a:pt x="3006" y="1992"/>
                  </a:lnTo>
                  <a:lnTo>
                    <a:pt x="3102" y="2022"/>
                  </a:lnTo>
                  <a:lnTo>
                    <a:pt x="3192" y="2046"/>
                  </a:lnTo>
                  <a:lnTo>
                    <a:pt x="3288" y="2064"/>
                  </a:lnTo>
                  <a:lnTo>
                    <a:pt x="3384" y="2082"/>
                  </a:lnTo>
                  <a:lnTo>
                    <a:pt x="3474" y="2094"/>
                  </a:lnTo>
                  <a:lnTo>
                    <a:pt x="3570" y="2106"/>
                  </a:lnTo>
                  <a:lnTo>
                    <a:pt x="3666" y="2118"/>
                  </a:lnTo>
                  <a:lnTo>
                    <a:pt x="3756" y="2124"/>
                  </a:lnTo>
                  <a:lnTo>
                    <a:pt x="3852" y="2130"/>
                  </a:lnTo>
                  <a:lnTo>
                    <a:pt x="3948" y="2136"/>
                  </a:lnTo>
                  <a:lnTo>
                    <a:pt x="4038" y="2142"/>
                  </a:lnTo>
                  <a:lnTo>
                    <a:pt x="4134" y="2148"/>
                  </a:lnTo>
                  <a:lnTo>
                    <a:pt x="4134" y="2172"/>
                  </a:lnTo>
                  <a:lnTo>
                    <a:pt x="4038" y="2172"/>
                  </a:lnTo>
                  <a:lnTo>
                    <a:pt x="3948" y="2172"/>
                  </a:lnTo>
                  <a:lnTo>
                    <a:pt x="3852" y="2172"/>
                  </a:lnTo>
                  <a:lnTo>
                    <a:pt x="3756" y="2172"/>
                  </a:lnTo>
                  <a:lnTo>
                    <a:pt x="3666" y="2172"/>
                  </a:lnTo>
                  <a:lnTo>
                    <a:pt x="3570" y="2172"/>
                  </a:lnTo>
                  <a:lnTo>
                    <a:pt x="3474" y="2172"/>
                  </a:lnTo>
                  <a:lnTo>
                    <a:pt x="3384" y="2172"/>
                  </a:lnTo>
                  <a:lnTo>
                    <a:pt x="3288" y="2172"/>
                  </a:lnTo>
                  <a:lnTo>
                    <a:pt x="3192" y="2166"/>
                  </a:lnTo>
                  <a:lnTo>
                    <a:pt x="3102" y="2166"/>
                  </a:lnTo>
                  <a:lnTo>
                    <a:pt x="3006" y="2166"/>
                  </a:lnTo>
                  <a:lnTo>
                    <a:pt x="2910" y="2166"/>
                  </a:lnTo>
                  <a:lnTo>
                    <a:pt x="2820" y="2160"/>
                  </a:lnTo>
                  <a:lnTo>
                    <a:pt x="2724" y="2148"/>
                  </a:lnTo>
                  <a:lnTo>
                    <a:pt x="2628" y="2124"/>
                  </a:lnTo>
                  <a:lnTo>
                    <a:pt x="2538" y="2088"/>
                  </a:lnTo>
                  <a:lnTo>
                    <a:pt x="2442" y="1992"/>
                  </a:lnTo>
                  <a:lnTo>
                    <a:pt x="2346" y="1722"/>
                  </a:lnTo>
                  <a:lnTo>
                    <a:pt x="2256" y="1380"/>
                  </a:lnTo>
                  <a:lnTo>
                    <a:pt x="2160" y="1260"/>
                  </a:lnTo>
                  <a:lnTo>
                    <a:pt x="2070" y="1098"/>
                  </a:lnTo>
                  <a:lnTo>
                    <a:pt x="1974" y="996"/>
                  </a:lnTo>
                  <a:lnTo>
                    <a:pt x="1878" y="828"/>
                  </a:lnTo>
                  <a:lnTo>
                    <a:pt x="1788" y="738"/>
                  </a:lnTo>
                  <a:lnTo>
                    <a:pt x="1692" y="762"/>
                  </a:lnTo>
                  <a:lnTo>
                    <a:pt x="1596" y="960"/>
                  </a:lnTo>
                  <a:lnTo>
                    <a:pt x="1506" y="966"/>
                  </a:lnTo>
                  <a:lnTo>
                    <a:pt x="1410" y="960"/>
                  </a:lnTo>
                  <a:lnTo>
                    <a:pt x="1314" y="666"/>
                  </a:lnTo>
                  <a:lnTo>
                    <a:pt x="1224" y="480"/>
                  </a:lnTo>
                  <a:lnTo>
                    <a:pt x="1128" y="546"/>
                  </a:lnTo>
                  <a:lnTo>
                    <a:pt x="1032" y="396"/>
                  </a:lnTo>
                  <a:lnTo>
                    <a:pt x="942" y="300"/>
                  </a:lnTo>
                  <a:lnTo>
                    <a:pt x="846" y="432"/>
                  </a:lnTo>
                  <a:lnTo>
                    <a:pt x="750" y="702"/>
                  </a:lnTo>
                  <a:lnTo>
                    <a:pt x="660" y="702"/>
                  </a:lnTo>
                  <a:lnTo>
                    <a:pt x="564" y="258"/>
                  </a:lnTo>
                  <a:lnTo>
                    <a:pt x="468" y="384"/>
                  </a:lnTo>
                  <a:lnTo>
                    <a:pt x="378" y="0"/>
                  </a:lnTo>
                  <a:lnTo>
                    <a:pt x="282" y="96"/>
                  </a:lnTo>
                  <a:lnTo>
                    <a:pt x="186" y="318"/>
                  </a:lnTo>
                  <a:lnTo>
                    <a:pt x="96" y="816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47560" y="1809720"/>
              <a:ext cx="6045840" cy="3409920"/>
            </a:xfrm>
            <a:custGeom>
              <a:avLst/>
              <a:gdLst/>
              <a:ahLst/>
              <a:rect l="l" t="t" r="r" b="b"/>
              <a:pathLst>
                <a:path w="4134" h="2148">
                  <a:moveTo>
                    <a:pt x="0" y="1752"/>
                  </a:moveTo>
                  <a:lnTo>
                    <a:pt x="0" y="1752"/>
                  </a:lnTo>
                  <a:lnTo>
                    <a:pt x="96" y="816"/>
                  </a:lnTo>
                  <a:lnTo>
                    <a:pt x="186" y="318"/>
                  </a:lnTo>
                  <a:lnTo>
                    <a:pt x="282" y="96"/>
                  </a:lnTo>
                  <a:lnTo>
                    <a:pt x="378" y="0"/>
                  </a:lnTo>
                  <a:lnTo>
                    <a:pt x="468" y="384"/>
                  </a:lnTo>
                  <a:lnTo>
                    <a:pt x="564" y="258"/>
                  </a:lnTo>
                  <a:lnTo>
                    <a:pt x="660" y="702"/>
                  </a:lnTo>
                  <a:lnTo>
                    <a:pt x="750" y="702"/>
                  </a:lnTo>
                  <a:lnTo>
                    <a:pt x="846" y="432"/>
                  </a:lnTo>
                  <a:lnTo>
                    <a:pt x="942" y="300"/>
                  </a:lnTo>
                  <a:lnTo>
                    <a:pt x="1032" y="396"/>
                  </a:lnTo>
                  <a:lnTo>
                    <a:pt x="1128" y="546"/>
                  </a:lnTo>
                  <a:lnTo>
                    <a:pt x="1224" y="480"/>
                  </a:lnTo>
                  <a:lnTo>
                    <a:pt x="1314" y="666"/>
                  </a:lnTo>
                  <a:lnTo>
                    <a:pt x="1410" y="960"/>
                  </a:lnTo>
                  <a:lnTo>
                    <a:pt x="1506" y="966"/>
                  </a:lnTo>
                  <a:lnTo>
                    <a:pt x="1596" y="960"/>
                  </a:lnTo>
                  <a:lnTo>
                    <a:pt x="1692" y="762"/>
                  </a:lnTo>
                  <a:lnTo>
                    <a:pt x="1788" y="738"/>
                  </a:lnTo>
                  <a:lnTo>
                    <a:pt x="1878" y="828"/>
                  </a:lnTo>
                  <a:lnTo>
                    <a:pt x="1974" y="996"/>
                  </a:lnTo>
                  <a:lnTo>
                    <a:pt x="2070" y="948"/>
                  </a:lnTo>
                  <a:lnTo>
                    <a:pt x="2160" y="936"/>
                  </a:lnTo>
                  <a:lnTo>
                    <a:pt x="2256" y="1116"/>
                  </a:lnTo>
                  <a:lnTo>
                    <a:pt x="2346" y="1224"/>
                  </a:lnTo>
                  <a:lnTo>
                    <a:pt x="2442" y="1272"/>
                  </a:lnTo>
                  <a:lnTo>
                    <a:pt x="2538" y="1254"/>
                  </a:lnTo>
                  <a:lnTo>
                    <a:pt x="2628" y="1422"/>
                  </a:lnTo>
                  <a:lnTo>
                    <a:pt x="2724" y="1566"/>
                  </a:lnTo>
                  <a:lnTo>
                    <a:pt x="2820" y="1692"/>
                  </a:lnTo>
                  <a:lnTo>
                    <a:pt x="2910" y="1788"/>
                  </a:lnTo>
                  <a:lnTo>
                    <a:pt x="3006" y="1860"/>
                  </a:lnTo>
                  <a:lnTo>
                    <a:pt x="3102" y="1920"/>
                  </a:lnTo>
                  <a:lnTo>
                    <a:pt x="3192" y="1968"/>
                  </a:lnTo>
                  <a:lnTo>
                    <a:pt x="3288" y="2004"/>
                  </a:lnTo>
                  <a:lnTo>
                    <a:pt x="3384" y="2034"/>
                  </a:lnTo>
                  <a:lnTo>
                    <a:pt x="3474" y="2058"/>
                  </a:lnTo>
                  <a:lnTo>
                    <a:pt x="3570" y="2082"/>
                  </a:lnTo>
                  <a:lnTo>
                    <a:pt x="3666" y="2112"/>
                  </a:lnTo>
                  <a:lnTo>
                    <a:pt x="3756" y="2124"/>
                  </a:lnTo>
                  <a:lnTo>
                    <a:pt x="3852" y="2130"/>
                  </a:lnTo>
                  <a:lnTo>
                    <a:pt x="3948" y="2136"/>
                  </a:lnTo>
                  <a:lnTo>
                    <a:pt x="4038" y="2142"/>
                  </a:lnTo>
                  <a:lnTo>
                    <a:pt x="4134" y="2148"/>
                  </a:lnTo>
                  <a:lnTo>
                    <a:pt x="4134" y="2148"/>
                  </a:lnTo>
                  <a:lnTo>
                    <a:pt x="4038" y="2142"/>
                  </a:lnTo>
                  <a:lnTo>
                    <a:pt x="3948" y="2136"/>
                  </a:lnTo>
                  <a:lnTo>
                    <a:pt x="3852" y="2130"/>
                  </a:lnTo>
                  <a:lnTo>
                    <a:pt x="3756" y="2124"/>
                  </a:lnTo>
                  <a:lnTo>
                    <a:pt x="3666" y="2118"/>
                  </a:lnTo>
                  <a:lnTo>
                    <a:pt x="3570" y="2106"/>
                  </a:lnTo>
                  <a:lnTo>
                    <a:pt x="3474" y="2094"/>
                  </a:lnTo>
                  <a:lnTo>
                    <a:pt x="3384" y="2082"/>
                  </a:lnTo>
                  <a:lnTo>
                    <a:pt x="3288" y="2064"/>
                  </a:lnTo>
                  <a:lnTo>
                    <a:pt x="3192" y="2046"/>
                  </a:lnTo>
                  <a:lnTo>
                    <a:pt x="3102" y="2022"/>
                  </a:lnTo>
                  <a:lnTo>
                    <a:pt x="3006" y="1992"/>
                  </a:lnTo>
                  <a:lnTo>
                    <a:pt x="2910" y="1956"/>
                  </a:lnTo>
                  <a:lnTo>
                    <a:pt x="2820" y="1914"/>
                  </a:lnTo>
                  <a:lnTo>
                    <a:pt x="2724" y="1854"/>
                  </a:lnTo>
                  <a:lnTo>
                    <a:pt x="2628" y="1782"/>
                  </a:lnTo>
                  <a:lnTo>
                    <a:pt x="2538" y="1692"/>
                  </a:lnTo>
                  <a:lnTo>
                    <a:pt x="2442" y="1596"/>
                  </a:lnTo>
                  <a:lnTo>
                    <a:pt x="2346" y="1488"/>
                  </a:lnTo>
                  <a:lnTo>
                    <a:pt x="2256" y="1380"/>
                  </a:lnTo>
                  <a:lnTo>
                    <a:pt x="2160" y="1260"/>
                  </a:lnTo>
                  <a:lnTo>
                    <a:pt x="2070" y="1098"/>
                  </a:lnTo>
                  <a:lnTo>
                    <a:pt x="1974" y="996"/>
                  </a:lnTo>
                  <a:lnTo>
                    <a:pt x="1878" y="828"/>
                  </a:lnTo>
                  <a:lnTo>
                    <a:pt x="1788" y="738"/>
                  </a:lnTo>
                  <a:lnTo>
                    <a:pt x="1692" y="762"/>
                  </a:lnTo>
                  <a:lnTo>
                    <a:pt x="1596" y="960"/>
                  </a:lnTo>
                  <a:lnTo>
                    <a:pt x="1506" y="966"/>
                  </a:lnTo>
                  <a:lnTo>
                    <a:pt x="1410" y="960"/>
                  </a:lnTo>
                  <a:lnTo>
                    <a:pt x="1314" y="666"/>
                  </a:lnTo>
                  <a:lnTo>
                    <a:pt x="1224" y="480"/>
                  </a:lnTo>
                  <a:lnTo>
                    <a:pt x="1128" y="546"/>
                  </a:lnTo>
                  <a:lnTo>
                    <a:pt x="1032" y="396"/>
                  </a:lnTo>
                  <a:lnTo>
                    <a:pt x="942" y="300"/>
                  </a:lnTo>
                  <a:lnTo>
                    <a:pt x="846" y="432"/>
                  </a:lnTo>
                  <a:lnTo>
                    <a:pt x="750" y="702"/>
                  </a:lnTo>
                  <a:lnTo>
                    <a:pt x="660" y="702"/>
                  </a:lnTo>
                  <a:lnTo>
                    <a:pt x="564" y="258"/>
                  </a:lnTo>
                  <a:lnTo>
                    <a:pt x="468" y="384"/>
                  </a:lnTo>
                  <a:lnTo>
                    <a:pt x="378" y="0"/>
                  </a:lnTo>
                  <a:lnTo>
                    <a:pt x="282" y="96"/>
                  </a:lnTo>
                  <a:lnTo>
                    <a:pt x="186" y="318"/>
                  </a:lnTo>
                  <a:lnTo>
                    <a:pt x="96" y="816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47560" y="1809720"/>
              <a:ext cx="5905440" cy="3400560"/>
            </a:xfrm>
            <a:custGeom>
              <a:avLst/>
              <a:gdLst/>
              <a:ahLst/>
              <a:rect l="l" t="t" r="r" b="b"/>
              <a:pathLst>
                <a:path w="4038" h="2142">
                  <a:moveTo>
                    <a:pt x="0" y="1752"/>
                  </a:moveTo>
                  <a:lnTo>
                    <a:pt x="0" y="1752"/>
                  </a:lnTo>
                  <a:lnTo>
                    <a:pt x="96" y="816"/>
                  </a:lnTo>
                  <a:lnTo>
                    <a:pt x="186" y="318"/>
                  </a:lnTo>
                  <a:lnTo>
                    <a:pt x="282" y="96"/>
                  </a:lnTo>
                  <a:lnTo>
                    <a:pt x="378" y="0"/>
                  </a:lnTo>
                  <a:lnTo>
                    <a:pt x="468" y="384"/>
                  </a:lnTo>
                  <a:lnTo>
                    <a:pt x="564" y="258"/>
                  </a:lnTo>
                  <a:lnTo>
                    <a:pt x="660" y="702"/>
                  </a:lnTo>
                  <a:lnTo>
                    <a:pt x="750" y="702"/>
                  </a:lnTo>
                  <a:lnTo>
                    <a:pt x="846" y="432"/>
                  </a:lnTo>
                  <a:lnTo>
                    <a:pt x="942" y="300"/>
                  </a:lnTo>
                  <a:lnTo>
                    <a:pt x="1032" y="396"/>
                  </a:lnTo>
                  <a:lnTo>
                    <a:pt x="1128" y="546"/>
                  </a:lnTo>
                  <a:lnTo>
                    <a:pt x="1224" y="480"/>
                  </a:lnTo>
                  <a:lnTo>
                    <a:pt x="1314" y="666"/>
                  </a:lnTo>
                  <a:lnTo>
                    <a:pt x="1410" y="960"/>
                  </a:lnTo>
                  <a:lnTo>
                    <a:pt x="1506" y="966"/>
                  </a:lnTo>
                  <a:lnTo>
                    <a:pt x="1596" y="960"/>
                  </a:lnTo>
                  <a:lnTo>
                    <a:pt x="1692" y="762"/>
                  </a:lnTo>
                  <a:lnTo>
                    <a:pt x="1788" y="738"/>
                  </a:lnTo>
                  <a:lnTo>
                    <a:pt x="1878" y="828"/>
                  </a:lnTo>
                  <a:lnTo>
                    <a:pt x="1974" y="996"/>
                  </a:lnTo>
                  <a:lnTo>
                    <a:pt x="2070" y="948"/>
                  </a:lnTo>
                  <a:lnTo>
                    <a:pt x="2160" y="936"/>
                  </a:lnTo>
                  <a:lnTo>
                    <a:pt x="2256" y="1116"/>
                  </a:lnTo>
                  <a:lnTo>
                    <a:pt x="2346" y="1206"/>
                  </a:lnTo>
                  <a:lnTo>
                    <a:pt x="2442" y="1236"/>
                  </a:lnTo>
                  <a:lnTo>
                    <a:pt x="2538" y="1200"/>
                  </a:lnTo>
                  <a:lnTo>
                    <a:pt x="2628" y="1332"/>
                  </a:lnTo>
                  <a:lnTo>
                    <a:pt x="2724" y="1410"/>
                  </a:lnTo>
                  <a:lnTo>
                    <a:pt x="2820" y="1452"/>
                  </a:lnTo>
                  <a:lnTo>
                    <a:pt x="2910" y="1470"/>
                  </a:lnTo>
                  <a:lnTo>
                    <a:pt x="3006" y="1530"/>
                  </a:lnTo>
                  <a:lnTo>
                    <a:pt x="3102" y="1614"/>
                  </a:lnTo>
                  <a:lnTo>
                    <a:pt x="3192" y="1710"/>
                  </a:lnTo>
                  <a:lnTo>
                    <a:pt x="3288" y="1788"/>
                  </a:lnTo>
                  <a:lnTo>
                    <a:pt x="3384" y="1854"/>
                  </a:lnTo>
                  <a:lnTo>
                    <a:pt x="3474" y="1914"/>
                  </a:lnTo>
                  <a:lnTo>
                    <a:pt x="3570" y="1968"/>
                  </a:lnTo>
                  <a:lnTo>
                    <a:pt x="3666" y="2016"/>
                  </a:lnTo>
                  <a:lnTo>
                    <a:pt x="3756" y="2046"/>
                  </a:lnTo>
                  <a:lnTo>
                    <a:pt x="3852" y="2070"/>
                  </a:lnTo>
                  <a:lnTo>
                    <a:pt x="3948" y="2082"/>
                  </a:lnTo>
                  <a:lnTo>
                    <a:pt x="4038" y="2142"/>
                  </a:lnTo>
                  <a:lnTo>
                    <a:pt x="4038" y="2142"/>
                  </a:lnTo>
                  <a:lnTo>
                    <a:pt x="3948" y="2136"/>
                  </a:lnTo>
                  <a:lnTo>
                    <a:pt x="3852" y="2130"/>
                  </a:lnTo>
                  <a:lnTo>
                    <a:pt x="3756" y="2124"/>
                  </a:lnTo>
                  <a:lnTo>
                    <a:pt x="3666" y="2112"/>
                  </a:lnTo>
                  <a:lnTo>
                    <a:pt x="3570" y="2082"/>
                  </a:lnTo>
                  <a:lnTo>
                    <a:pt x="3474" y="2058"/>
                  </a:lnTo>
                  <a:lnTo>
                    <a:pt x="3384" y="2034"/>
                  </a:lnTo>
                  <a:lnTo>
                    <a:pt x="3288" y="2004"/>
                  </a:lnTo>
                  <a:lnTo>
                    <a:pt x="3192" y="1968"/>
                  </a:lnTo>
                  <a:lnTo>
                    <a:pt x="3102" y="1920"/>
                  </a:lnTo>
                  <a:lnTo>
                    <a:pt x="3006" y="1860"/>
                  </a:lnTo>
                  <a:lnTo>
                    <a:pt x="2910" y="1788"/>
                  </a:lnTo>
                  <a:lnTo>
                    <a:pt x="2820" y="1692"/>
                  </a:lnTo>
                  <a:lnTo>
                    <a:pt x="2724" y="1566"/>
                  </a:lnTo>
                  <a:lnTo>
                    <a:pt x="2628" y="1422"/>
                  </a:lnTo>
                  <a:lnTo>
                    <a:pt x="2538" y="1254"/>
                  </a:lnTo>
                  <a:lnTo>
                    <a:pt x="2442" y="1272"/>
                  </a:lnTo>
                  <a:lnTo>
                    <a:pt x="2346" y="1224"/>
                  </a:lnTo>
                  <a:lnTo>
                    <a:pt x="2256" y="1116"/>
                  </a:lnTo>
                  <a:lnTo>
                    <a:pt x="2160" y="936"/>
                  </a:lnTo>
                  <a:lnTo>
                    <a:pt x="2070" y="948"/>
                  </a:lnTo>
                  <a:lnTo>
                    <a:pt x="1974" y="996"/>
                  </a:lnTo>
                  <a:lnTo>
                    <a:pt x="1878" y="828"/>
                  </a:lnTo>
                  <a:lnTo>
                    <a:pt x="1788" y="738"/>
                  </a:lnTo>
                  <a:lnTo>
                    <a:pt x="1692" y="762"/>
                  </a:lnTo>
                  <a:lnTo>
                    <a:pt x="1596" y="960"/>
                  </a:lnTo>
                  <a:lnTo>
                    <a:pt x="1506" y="966"/>
                  </a:lnTo>
                  <a:lnTo>
                    <a:pt x="1410" y="960"/>
                  </a:lnTo>
                  <a:lnTo>
                    <a:pt x="1314" y="666"/>
                  </a:lnTo>
                  <a:lnTo>
                    <a:pt x="1224" y="480"/>
                  </a:lnTo>
                  <a:lnTo>
                    <a:pt x="1128" y="546"/>
                  </a:lnTo>
                  <a:lnTo>
                    <a:pt x="1032" y="396"/>
                  </a:lnTo>
                  <a:lnTo>
                    <a:pt x="942" y="300"/>
                  </a:lnTo>
                  <a:lnTo>
                    <a:pt x="846" y="432"/>
                  </a:lnTo>
                  <a:lnTo>
                    <a:pt x="750" y="702"/>
                  </a:lnTo>
                  <a:lnTo>
                    <a:pt x="660" y="702"/>
                  </a:lnTo>
                  <a:lnTo>
                    <a:pt x="564" y="258"/>
                  </a:lnTo>
                  <a:lnTo>
                    <a:pt x="468" y="384"/>
                  </a:lnTo>
                  <a:lnTo>
                    <a:pt x="378" y="0"/>
                  </a:lnTo>
                  <a:lnTo>
                    <a:pt x="282" y="96"/>
                  </a:lnTo>
                  <a:lnTo>
                    <a:pt x="186" y="318"/>
                  </a:lnTo>
                  <a:lnTo>
                    <a:pt x="96" y="816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47560" y="1809720"/>
              <a:ext cx="6045840" cy="3448080"/>
            </a:xfrm>
            <a:custGeom>
              <a:avLst/>
              <a:gdLst/>
              <a:ahLst/>
              <a:rect l="l" t="t" r="r" b="b"/>
              <a:pathLst>
                <a:path w="4134" h="2172">
                  <a:moveTo>
                    <a:pt x="0" y="2172"/>
                  </a:moveTo>
                  <a:lnTo>
                    <a:pt x="0" y="1752"/>
                  </a:lnTo>
                  <a:lnTo>
                    <a:pt x="96" y="816"/>
                  </a:lnTo>
                  <a:lnTo>
                    <a:pt x="186" y="318"/>
                  </a:lnTo>
                  <a:lnTo>
                    <a:pt x="282" y="96"/>
                  </a:lnTo>
                  <a:lnTo>
                    <a:pt x="378" y="0"/>
                  </a:lnTo>
                  <a:lnTo>
                    <a:pt x="468" y="384"/>
                  </a:lnTo>
                  <a:lnTo>
                    <a:pt x="564" y="258"/>
                  </a:lnTo>
                  <a:lnTo>
                    <a:pt x="660" y="702"/>
                  </a:lnTo>
                  <a:lnTo>
                    <a:pt x="750" y="702"/>
                  </a:lnTo>
                  <a:lnTo>
                    <a:pt x="846" y="432"/>
                  </a:lnTo>
                  <a:lnTo>
                    <a:pt x="942" y="300"/>
                  </a:lnTo>
                  <a:lnTo>
                    <a:pt x="1032" y="396"/>
                  </a:lnTo>
                  <a:lnTo>
                    <a:pt x="1128" y="546"/>
                  </a:lnTo>
                  <a:lnTo>
                    <a:pt x="1224" y="480"/>
                  </a:lnTo>
                  <a:lnTo>
                    <a:pt x="1314" y="666"/>
                  </a:lnTo>
                  <a:lnTo>
                    <a:pt x="1410" y="960"/>
                  </a:lnTo>
                  <a:lnTo>
                    <a:pt x="1506" y="966"/>
                  </a:lnTo>
                  <a:lnTo>
                    <a:pt x="1596" y="960"/>
                  </a:lnTo>
                  <a:lnTo>
                    <a:pt x="1692" y="762"/>
                  </a:lnTo>
                  <a:lnTo>
                    <a:pt x="1788" y="738"/>
                  </a:lnTo>
                  <a:lnTo>
                    <a:pt x="1878" y="828"/>
                  </a:lnTo>
                  <a:lnTo>
                    <a:pt x="1974" y="996"/>
                  </a:lnTo>
                  <a:lnTo>
                    <a:pt x="2070" y="1098"/>
                  </a:lnTo>
                  <a:lnTo>
                    <a:pt x="2160" y="1260"/>
                  </a:lnTo>
                  <a:lnTo>
                    <a:pt x="2256" y="1380"/>
                  </a:lnTo>
                  <a:lnTo>
                    <a:pt x="2346" y="1722"/>
                  </a:lnTo>
                  <a:lnTo>
                    <a:pt x="2442" y="1992"/>
                  </a:lnTo>
                  <a:lnTo>
                    <a:pt x="2538" y="2088"/>
                  </a:lnTo>
                  <a:lnTo>
                    <a:pt x="2628" y="2124"/>
                  </a:lnTo>
                  <a:lnTo>
                    <a:pt x="2724" y="2148"/>
                  </a:lnTo>
                  <a:lnTo>
                    <a:pt x="2820" y="2160"/>
                  </a:lnTo>
                  <a:lnTo>
                    <a:pt x="2910" y="2166"/>
                  </a:lnTo>
                  <a:lnTo>
                    <a:pt x="3006" y="2166"/>
                  </a:lnTo>
                  <a:lnTo>
                    <a:pt x="3102" y="2166"/>
                  </a:lnTo>
                  <a:lnTo>
                    <a:pt x="3192" y="2166"/>
                  </a:lnTo>
                  <a:lnTo>
                    <a:pt x="3288" y="2172"/>
                  </a:lnTo>
                  <a:lnTo>
                    <a:pt x="3384" y="2172"/>
                  </a:lnTo>
                  <a:lnTo>
                    <a:pt x="3474" y="2172"/>
                  </a:lnTo>
                  <a:lnTo>
                    <a:pt x="3570" y="2172"/>
                  </a:lnTo>
                  <a:lnTo>
                    <a:pt x="3666" y="2172"/>
                  </a:lnTo>
                  <a:lnTo>
                    <a:pt x="3756" y="2172"/>
                  </a:lnTo>
                  <a:lnTo>
                    <a:pt x="3852" y="2172"/>
                  </a:lnTo>
                  <a:lnTo>
                    <a:pt x="3948" y="2172"/>
                  </a:lnTo>
                  <a:lnTo>
                    <a:pt x="4038" y="2172"/>
                  </a:lnTo>
                  <a:lnTo>
                    <a:pt x="4134" y="2172"/>
                  </a:lnTo>
                  <a:lnTo>
                    <a:pt x="4134" y="2172"/>
                  </a:lnTo>
                  <a:lnTo>
                    <a:pt x="4038" y="2172"/>
                  </a:lnTo>
                  <a:lnTo>
                    <a:pt x="3948" y="2172"/>
                  </a:lnTo>
                  <a:lnTo>
                    <a:pt x="3852" y="2172"/>
                  </a:lnTo>
                  <a:lnTo>
                    <a:pt x="3756" y="2172"/>
                  </a:lnTo>
                  <a:lnTo>
                    <a:pt x="3666" y="2172"/>
                  </a:lnTo>
                  <a:lnTo>
                    <a:pt x="3570" y="2172"/>
                  </a:lnTo>
                  <a:lnTo>
                    <a:pt x="3474" y="2172"/>
                  </a:lnTo>
                  <a:lnTo>
                    <a:pt x="3384" y="2172"/>
                  </a:lnTo>
                  <a:lnTo>
                    <a:pt x="3288" y="2172"/>
                  </a:lnTo>
                  <a:lnTo>
                    <a:pt x="3192" y="2172"/>
                  </a:lnTo>
                  <a:lnTo>
                    <a:pt x="3102" y="2172"/>
                  </a:lnTo>
                  <a:lnTo>
                    <a:pt x="3006" y="2172"/>
                  </a:lnTo>
                  <a:lnTo>
                    <a:pt x="2910" y="2172"/>
                  </a:lnTo>
                  <a:lnTo>
                    <a:pt x="2820" y="2172"/>
                  </a:lnTo>
                  <a:lnTo>
                    <a:pt x="2724" y="2172"/>
                  </a:lnTo>
                  <a:lnTo>
                    <a:pt x="2628" y="2172"/>
                  </a:lnTo>
                  <a:lnTo>
                    <a:pt x="2538" y="2172"/>
                  </a:lnTo>
                  <a:lnTo>
                    <a:pt x="2442" y="2172"/>
                  </a:lnTo>
                  <a:lnTo>
                    <a:pt x="2346" y="2172"/>
                  </a:lnTo>
                  <a:lnTo>
                    <a:pt x="2256" y="2172"/>
                  </a:lnTo>
                  <a:lnTo>
                    <a:pt x="2160" y="2172"/>
                  </a:lnTo>
                  <a:lnTo>
                    <a:pt x="2070" y="2172"/>
                  </a:lnTo>
                  <a:lnTo>
                    <a:pt x="1974" y="2172"/>
                  </a:lnTo>
                  <a:lnTo>
                    <a:pt x="1878" y="2172"/>
                  </a:lnTo>
                  <a:lnTo>
                    <a:pt x="1788" y="2172"/>
                  </a:lnTo>
                  <a:lnTo>
                    <a:pt x="1692" y="2172"/>
                  </a:lnTo>
                  <a:lnTo>
                    <a:pt x="1596" y="2172"/>
                  </a:lnTo>
                  <a:lnTo>
                    <a:pt x="1506" y="2172"/>
                  </a:lnTo>
                  <a:lnTo>
                    <a:pt x="1410" y="2172"/>
                  </a:lnTo>
                  <a:lnTo>
                    <a:pt x="1314" y="2172"/>
                  </a:lnTo>
                  <a:lnTo>
                    <a:pt x="1224" y="2172"/>
                  </a:lnTo>
                  <a:lnTo>
                    <a:pt x="1128" y="2172"/>
                  </a:lnTo>
                  <a:lnTo>
                    <a:pt x="1032" y="2172"/>
                  </a:lnTo>
                  <a:lnTo>
                    <a:pt x="942" y="2172"/>
                  </a:lnTo>
                  <a:lnTo>
                    <a:pt x="846" y="2172"/>
                  </a:lnTo>
                  <a:lnTo>
                    <a:pt x="750" y="2172"/>
                  </a:lnTo>
                  <a:lnTo>
                    <a:pt x="660" y="2172"/>
                  </a:lnTo>
                  <a:lnTo>
                    <a:pt x="564" y="2172"/>
                  </a:lnTo>
                  <a:lnTo>
                    <a:pt x="468" y="2172"/>
                  </a:lnTo>
                  <a:lnTo>
                    <a:pt x="378" y="2172"/>
                  </a:lnTo>
                  <a:lnTo>
                    <a:pt x="282" y="2172"/>
                  </a:lnTo>
                  <a:lnTo>
                    <a:pt x="186" y="2172"/>
                  </a:lnTo>
                  <a:lnTo>
                    <a:pt x="96" y="2172"/>
                  </a:lnTo>
                  <a:lnTo>
                    <a:pt x="0" y="217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47560" y="1809720"/>
              <a:ext cx="6045840" cy="3448080"/>
            </a:xfrm>
            <a:custGeom>
              <a:avLst/>
              <a:gdLst/>
              <a:ahLst/>
              <a:rect l="l" t="t" r="r" b="b"/>
              <a:pathLst>
                <a:path w="4134" h="2172">
                  <a:moveTo>
                    <a:pt x="0" y="1752"/>
                  </a:moveTo>
                  <a:lnTo>
                    <a:pt x="0" y="1752"/>
                  </a:lnTo>
                  <a:lnTo>
                    <a:pt x="96" y="816"/>
                  </a:lnTo>
                  <a:lnTo>
                    <a:pt x="186" y="318"/>
                  </a:lnTo>
                  <a:lnTo>
                    <a:pt x="282" y="96"/>
                  </a:lnTo>
                  <a:lnTo>
                    <a:pt x="378" y="0"/>
                  </a:lnTo>
                  <a:lnTo>
                    <a:pt x="468" y="384"/>
                  </a:lnTo>
                  <a:lnTo>
                    <a:pt x="564" y="258"/>
                  </a:lnTo>
                  <a:lnTo>
                    <a:pt x="660" y="702"/>
                  </a:lnTo>
                  <a:lnTo>
                    <a:pt x="750" y="702"/>
                  </a:lnTo>
                  <a:lnTo>
                    <a:pt x="846" y="432"/>
                  </a:lnTo>
                  <a:lnTo>
                    <a:pt x="942" y="300"/>
                  </a:lnTo>
                  <a:lnTo>
                    <a:pt x="1032" y="396"/>
                  </a:lnTo>
                  <a:lnTo>
                    <a:pt x="1128" y="546"/>
                  </a:lnTo>
                  <a:lnTo>
                    <a:pt x="1224" y="480"/>
                  </a:lnTo>
                  <a:lnTo>
                    <a:pt x="1314" y="666"/>
                  </a:lnTo>
                  <a:lnTo>
                    <a:pt x="1410" y="960"/>
                  </a:lnTo>
                  <a:lnTo>
                    <a:pt x="1506" y="966"/>
                  </a:lnTo>
                  <a:lnTo>
                    <a:pt x="1596" y="960"/>
                  </a:lnTo>
                  <a:lnTo>
                    <a:pt x="1692" y="762"/>
                  </a:lnTo>
                  <a:lnTo>
                    <a:pt x="1788" y="738"/>
                  </a:lnTo>
                  <a:lnTo>
                    <a:pt x="1878" y="828"/>
                  </a:lnTo>
                  <a:lnTo>
                    <a:pt x="1974" y="996"/>
                  </a:lnTo>
                  <a:lnTo>
                    <a:pt x="2070" y="1098"/>
                  </a:lnTo>
                  <a:lnTo>
                    <a:pt x="2160" y="1260"/>
                  </a:lnTo>
                  <a:lnTo>
                    <a:pt x="2256" y="1380"/>
                  </a:lnTo>
                  <a:lnTo>
                    <a:pt x="2346" y="1488"/>
                  </a:lnTo>
                  <a:lnTo>
                    <a:pt x="2442" y="1596"/>
                  </a:lnTo>
                  <a:lnTo>
                    <a:pt x="2538" y="1692"/>
                  </a:lnTo>
                  <a:lnTo>
                    <a:pt x="2628" y="1782"/>
                  </a:lnTo>
                  <a:lnTo>
                    <a:pt x="2724" y="1854"/>
                  </a:lnTo>
                  <a:lnTo>
                    <a:pt x="2820" y="1914"/>
                  </a:lnTo>
                  <a:lnTo>
                    <a:pt x="2910" y="1956"/>
                  </a:lnTo>
                  <a:lnTo>
                    <a:pt x="3006" y="1992"/>
                  </a:lnTo>
                  <a:lnTo>
                    <a:pt x="3102" y="2022"/>
                  </a:lnTo>
                  <a:lnTo>
                    <a:pt x="3192" y="2046"/>
                  </a:lnTo>
                  <a:lnTo>
                    <a:pt x="3288" y="2064"/>
                  </a:lnTo>
                  <a:lnTo>
                    <a:pt x="3384" y="2082"/>
                  </a:lnTo>
                  <a:lnTo>
                    <a:pt x="3474" y="2094"/>
                  </a:lnTo>
                  <a:lnTo>
                    <a:pt x="3570" y="2106"/>
                  </a:lnTo>
                  <a:lnTo>
                    <a:pt x="3666" y="2118"/>
                  </a:lnTo>
                  <a:lnTo>
                    <a:pt x="3756" y="2124"/>
                  </a:lnTo>
                  <a:lnTo>
                    <a:pt x="3852" y="2130"/>
                  </a:lnTo>
                  <a:lnTo>
                    <a:pt x="3948" y="2136"/>
                  </a:lnTo>
                  <a:lnTo>
                    <a:pt x="4038" y="2142"/>
                  </a:lnTo>
                  <a:lnTo>
                    <a:pt x="4134" y="2148"/>
                  </a:lnTo>
                  <a:lnTo>
                    <a:pt x="4134" y="2172"/>
                  </a:lnTo>
                  <a:lnTo>
                    <a:pt x="4038" y="2172"/>
                  </a:lnTo>
                  <a:lnTo>
                    <a:pt x="3948" y="2172"/>
                  </a:lnTo>
                  <a:lnTo>
                    <a:pt x="3852" y="2172"/>
                  </a:lnTo>
                  <a:lnTo>
                    <a:pt x="3756" y="2172"/>
                  </a:lnTo>
                  <a:lnTo>
                    <a:pt x="3666" y="2172"/>
                  </a:lnTo>
                  <a:lnTo>
                    <a:pt x="3570" y="2172"/>
                  </a:lnTo>
                  <a:lnTo>
                    <a:pt x="3474" y="2172"/>
                  </a:lnTo>
                  <a:lnTo>
                    <a:pt x="3384" y="2172"/>
                  </a:lnTo>
                  <a:lnTo>
                    <a:pt x="3288" y="2172"/>
                  </a:lnTo>
                  <a:lnTo>
                    <a:pt x="3192" y="2166"/>
                  </a:lnTo>
                  <a:lnTo>
                    <a:pt x="3102" y="2166"/>
                  </a:lnTo>
                  <a:lnTo>
                    <a:pt x="3006" y="2166"/>
                  </a:lnTo>
                  <a:lnTo>
                    <a:pt x="2910" y="2166"/>
                  </a:lnTo>
                  <a:lnTo>
                    <a:pt x="2820" y="2160"/>
                  </a:lnTo>
                  <a:lnTo>
                    <a:pt x="2724" y="2148"/>
                  </a:lnTo>
                  <a:lnTo>
                    <a:pt x="2628" y="2124"/>
                  </a:lnTo>
                  <a:lnTo>
                    <a:pt x="2538" y="2088"/>
                  </a:lnTo>
                  <a:lnTo>
                    <a:pt x="2442" y="1992"/>
                  </a:lnTo>
                  <a:lnTo>
                    <a:pt x="2346" y="1722"/>
                  </a:lnTo>
                  <a:lnTo>
                    <a:pt x="2256" y="1380"/>
                  </a:lnTo>
                  <a:lnTo>
                    <a:pt x="2160" y="1260"/>
                  </a:lnTo>
                  <a:lnTo>
                    <a:pt x="2070" y="1098"/>
                  </a:lnTo>
                  <a:lnTo>
                    <a:pt x="1974" y="996"/>
                  </a:lnTo>
                  <a:lnTo>
                    <a:pt x="1878" y="828"/>
                  </a:lnTo>
                  <a:lnTo>
                    <a:pt x="1788" y="738"/>
                  </a:lnTo>
                  <a:lnTo>
                    <a:pt x="1692" y="762"/>
                  </a:lnTo>
                  <a:lnTo>
                    <a:pt x="1596" y="960"/>
                  </a:lnTo>
                  <a:lnTo>
                    <a:pt x="1506" y="966"/>
                  </a:lnTo>
                  <a:lnTo>
                    <a:pt x="1410" y="960"/>
                  </a:lnTo>
                  <a:lnTo>
                    <a:pt x="1314" y="666"/>
                  </a:lnTo>
                  <a:lnTo>
                    <a:pt x="1224" y="480"/>
                  </a:lnTo>
                  <a:lnTo>
                    <a:pt x="1128" y="546"/>
                  </a:lnTo>
                  <a:lnTo>
                    <a:pt x="1032" y="396"/>
                  </a:lnTo>
                  <a:lnTo>
                    <a:pt x="942" y="300"/>
                  </a:lnTo>
                  <a:lnTo>
                    <a:pt x="846" y="432"/>
                  </a:lnTo>
                  <a:lnTo>
                    <a:pt x="750" y="702"/>
                  </a:lnTo>
                  <a:lnTo>
                    <a:pt x="660" y="702"/>
                  </a:lnTo>
                  <a:lnTo>
                    <a:pt x="564" y="258"/>
                  </a:lnTo>
                  <a:lnTo>
                    <a:pt x="468" y="384"/>
                  </a:lnTo>
                  <a:lnTo>
                    <a:pt x="378" y="0"/>
                  </a:lnTo>
                  <a:lnTo>
                    <a:pt x="282" y="96"/>
                  </a:lnTo>
                  <a:lnTo>
                    <a:pt x="186" y="318"/>
                  </a:lnTo>
                  <a:lnTo>
                    <a:pt x="96" y="816"/>
                  </a:lnTo>
                  <a:lnTo>
                    <a:pt x="0" y="175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47560" y="1809720"/>
              <a:ext cx="6045840" cy="3409920"/>
            </a:xfrm>
            <a:custGeom>
              <a:avLst/>
              <a:gdLst/>
              <a:ahLst/>
              <a:rect l="l" t="t" r="r" b="b"/>
              <a:pathLst>
                <a:path w="4134" h="2148">
                  <a:moveTo>
                    <a:pt x="0" y="1752"/>
                  </a:moveTo>
                  <a:lnTo>
                    <a:pt x="0" y="1752"/>
                  </a:lnTo>
                  <a:lnTo>
                    <a:pt x="96" y="816"/>
                  </a:lnTo>
                  <a:lnTo>
                    <a:pt x="186" y="318"/>
                  </a:lnTo>
                  <a:lnTo>
                    <a:pt x="282" y="96"/>
                  </a:lnTo>
                  <a:lnTo>
                    <a:pt x="378" y="0"/>
                  </a:lnTo>
                  <a:lnTo>
                    <a:pt x="468" y="384"/>
                  </a:lnTo>
                  <a:lnTo>
                    <a:pt x="564" y="258"/>
                  </a:lnTo>
                  <a:lnTo>
                    <a:pt x="660" y="702"/>
                  </a:lnTo>
                  <a:lnTo>
                    <a:pt x="750" y="702"/>
                  </a:lnTo>
                  <a:lnTo>
                    <a:pt x="846" y="432"/>
                  </a:lnTo>
                  <a:lnTo>
                    <a:pt x="942" y="300"/>
                  </a:lnTo>
                  <a:lnTo>
                    <a:pt x="1032" y="396"/>
                  </a:lnTo>
                  <a:lnTo>
                    <a:pt x="1128" y="546"/>
                  </a:lnTo>
                  <a:lnTo>
                    <a:pt x="1224" y="480"/>
                  </a:lnTo>
                  <a:lnTo>
                    <a:pt x="1314" y="666"/>
                  </a:lnTo>
                  <a:lnTo>
                    <a:pt x="1410" y="960"/>
                  </a:lnTo>
                  <a:lnTo>
                    <a:pt x="1506" y="966"/>
                  </a:lnTo>
                  <a:lnTo>
                    <a:pt x="1596" y="960"/>
                  </a:lnTo>
                  <a:lnTo>
                    <a:pt x="1692" y="762"/>
                  </a:lnTo>
                  <a:lnTo>
                    <a:pt x="1788" y="738"/>
                  </a:lnTo>
                  <a:lnTo>
                    <a:pt x="1878" y="828"/>
                  </a:lnTo>
                  <a:lnTo>
                    <a:pt x="1974" y="996"/>
                  </a:lnTo>
                  <a:lnTo>
                    <a:pt x="2070" y="948"/>
                  </a:lnTo>
                  <a:lnTo>
                    <a:pt x="2160" y="936"/>
                  </a:lnTo>
                  <a:lnTo>
                    <a:pt x="2256" y="1116"/>
                  </a:lnTo>
                  <a:lnTo>
                    <a:pt x="2346" y="1224"/>
                  </a:lnTo>
                  <a:lnTo>
                    <a:pt x="2442" y="1272"/>
                  </a:lnTo>
                  <a:lnTo>
                    <a:pt x="2538" y="1254"/>
                  </a:lnTo>
                  <a:lnTo>
                    <a:pt x="2628" y="1422"/>
                  </a:lnTo>
                  <a:lnTo>
                    <a:pt x="2724" y="1566"/>
                  </a:lnTo>
                  <a:lnTo>
                    <a:pt x="2820" y="1692"/>
                  </a:lnTo>
                  <a:lnTo>
                    <a:pt x="2910" y="1788"/>
                  </a:lnTo>
                  <a:lnTo>
                    <a:pt x="3006" y="1860"/>
                  </a:lnTo>
                  <a:lnTo>
                    <a:pt x="3102" y="1920"/>
                  </a:lnTo>
                  <a:lnTo>
                    <a:pt x="3192" y="1968"/>
                  </a:lnTo>
                  <a:lnTo>
                    <a:pt x="3288" y="2004"/>
                  </a:lnTo>
                  <a:lnTo>
                    <a:pt x="3384" y="2034"/>
                  </a:lnTo>
                  <a:lnTo>
                    <a:pt x="3474" y="2058"/>
                  </a:lnTo>
                  <a:lnTo>
                    <a:pt x="3570" y="2082"/>
                  </a:lnTo>
                  <a:lnTo>
                    <a:pt x="3666" y="2112"/>
                  </a:lnTo>
                  <a:lnTo>
                    <a:pt x="3756" y="2124"/>
                  </a:lnTo>
                  <a:lnTo>
                    <a:pt x="3852" y="2130"/>
                  </a:lnTo>
                  <a:lnTo>
                    <a:pt x="3948" y="2136"/>
                  </a:lnTo>
                  <a:lnTo>
                    <a:pt x="4038" y="2142"/>
                  </a:lnTo>
                  <a:lnTo>
                    <a:pt x="4134" y="2148"/>
                  </a:lnTo>
                  <a:lnTo>
                    <a:pt x="4134" y="2148"/>
                  </a:lnTo>
                  <a:lnTo>
                    <a:pt x="4038" y="2142"/>
                  </a:lnTo>
                  <a:lnTo>
                    <a:pt x="3948" y="2136"/>
                  </a:lnTo>
                  <a:lnTo>
                    <a:pt x="3852" y="2130"/>
                  </a:lnTo>
                  <a:lnTo>
                    <a:pt x="3756" y="2124"/>
                  </a:lnTo>
                  <a:lnTo>
                    <a:pt x="3666" y="2118"/>
                  </a:lnTo>
                  <a:lnTo>
                    <a:pt x="3570" y="2106"/>
                  </a:lnTo>
                  <a:lnTo>
                    <a:pt x="3474" y="2094"/>
                  </a:lnTo>
                  <a:lnTo>
                    <a:pt x="3384" y="2082"/>
                  </a:lnTo>
                  <a:lnTo>
                    <a:pt x="3288" y="2064"/>
                  </a:lnTo>
                  <a:lnTo>
                    <a:pt x="3192" y="2046"/>
                  </a:lnTo>
                  <a:lnTo>
                    <a:pt x="3102" y="2022"/>
                  </a:lnTo>
                  <a:lnTo>
                    <a:pt x="3006" y="1992"/>
                  </a:lnTo>
                  <a:lnTo>
                    <a:pt x="2910" y="1956"/>
                  </a:lnTo>
                  <a:lnTo>
                    <a:pt x="2820" y="1914"/>
                  </a:lnTo>
                  <a:lnTo>
                    <a:pt x="2724" y="1854"/>
                  </a:lnTo>
                  <a:lnTo>
                    <a:pt x="2628" y="1782"/>
                  </a:lnTo>
                  <a:lnTo>
                    <a:pt x="2538" y="1692"/>
                  </a:lnTo>
                  <a:lnTo>
                    <a:pt x="2442" y="1596"/>
                  </a:lnTo>
                  <a:lnTo>
                    <a:pt x="2346" y="1488"/>
                  </a:lnTo>
                  <a:lnTo>
                    <a:pt x="2256" y="1380"/>
                  </a:lnTo>
                  <a:lnTo>
                    <a:pt x="2160" y="1260"/>
                  </a:lnTo>
                  <a:lnTo>
                    <a:pt x="2070" y="1098"/>
                  </a:lnTo>
                  <a:lnTo>
                    <a:pt x="1974" y="996"/>
                  </a:lnTo>
                  <a:lnTo>
                    <a:pt x="1878" y="828"/>
                  </a:lnTo>
                  <a:lnTo>
                    <a:pt x="1788" y="738"/>
                  </a:lnTo>
                  <a:lnTo>
                    <a:pt x="1692" y="762"/>
                  </a:lnTo>
                  <a:lnTo>
                    <a:pt x="1596" y="960"/>
                  </a:lnTo>
                  <a:lnTo>
                    <a:pt x="1506" y="966"/>
                  </a:lnTo>
                  <a:lnTo>
                    <a:pt x="1410" y="960"/>
                  </a:lnTo>
                  <a:lnTo>
                    <a:pt x="1314" y="666"/>
                  </a:lnTo>
                  <a:lnTo>
                    <a:pt x="1224" y="480"/>
                  </a:lnTo>
                  <a:lnTo>
                    <a:pt x="1128" y="546"/>
                  </a:lnTo>
                  <a:lnTo>
                    <a:pt x="1032" y="396"/>
                  </a:lnTo>
                  <a:lnTo>
                    <a:pt x="942" y="300"/>
                  </a:lnTo>
                  <a:lnTo>
                    <a:pt x="846" y="432"/>
                  </a:lnTo>
                  <a:lnTo>
                    <a:pt x="750" y="702"/>
                  </a:lnTo>
                  <a:lnTo>
                    <a:pt x="660" y="702"/>
                  </a:lnTo>
                  <a:lnTo>
                    <a:pt x="564" y="258"/>
                  </a:lnTo>
                  <a:lnTo>
                    <a:pt x="468" y="384"/>
                  </a:lnTo>
                  <a:lnTo>
                    <a:pt x="378" y="0"/>
                  </a:lnTo>
                  <a:lnTo>
                    <a:pt x="282" y="96"/>
                  </a:lnTo>
                  <a:lnTo>
                    <a:pt x="186" y="318"/>
                  </a:lnTo>
                  <a:lnTo>
                    <a:pt x="96" y="816"/>
                  </a:lnTo>
                  <a:lnTo>
                    <a:pt x="0" y="175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47560" y="1809720"/>
              <a:ext cx="5905440" cy="3400560"/>
            </a:xfrm>
            <a:custGeom>
              <a:avLst/>
              <a:gdLst/>
              <a:ahLst/>
              <a:rect l="l" t="t" r="r" b="b"/>
              <a:pathLst>
                <a:path w="4038" h="2142">
                  <a:moveTo>
                    <a:pt x="0" y="1752"/>
                  </a:moveTo>
                  <a:lnTo>
                    <a:pt x="0" y="1752"/>
                  </a:lnTo>
                  <a:lnTo>
                    <a:pt x="96" y="816"/>
                  </a:lnTo>
                  <a:lnTo>
                    <a:pt x="186" y="318"/>
                  </a:lnTo>
                  <a:lnTo>
                    <a:pt x="282" y="96"/>
                  </a:lnTo>
                  <a:lnTo>
                    <a:pt x="378" y="0"/>
                  </a:lnTo>
                  <a:lnTo>
                    <a:pt x="468" y="384"/>
                  </a:lnTo>
                  <a:lnTo>
                    <a:pt x="564" y="258"/>
                  </a:lnTo>
                  <a:lnTo>
                    <a:pt x="660" y="702"/>
                  </a:lnTo>
                  <a:lnTo>
                    <a:pt x="750" y="702"/>
                  </a:lnTo>
                  <a:lnTo>
                    <a:pt x="846" y="432"/>
                  </a:lnTo>
                  <a:lnTo>
                    <a:pt x="942" y="300"/>
                  </a:lnTo>
                  <a:lnTo>
                    <a:pt x="1032" y="396"/>
                  </a:lnTo>
                  <a:lnTo>
                    <a:pt x="1128" y="546"/>
                  </a:lnTo>
                  <a:lnTo>
                    <a:pt x="1224" y="480"/>
                  </a:lnTo>
                  <a:lnTo>
                    <a:pt x="1314" y="666"/>
                  </a:lnTo>
                  <a:lnTo>
                    <a:pt x="1410" y="960"/>
                  </a:lnTo>
                  <a:lnTo>
                    <a:pt x="1506" y="966"/>
                  </a:lnTo>
                  <a:lnTo>
                    <a:pt x="1596" y="960"/>
                  </a:lnTo>
                  <a:lnTo>
                    <a:pt x="1692" y="762"/>
                  </a:lnTo>
                  <a:lnTo>
                    <a:pt x="1788" y="738"/>
                  </a:lnTo>
                  <a:lnTo>
                    <a:pt x="1878" y="828"/>
                  </a:lnTo>
                  <a:lnTo>
                    <a:pt x="1974" y="996"/>
                  </a:lnTo>
                  <a:lnTo>
                    <a:pt x="2070" y="948"/>
                  </a:lnTo>
                  <a:lnTo>
                    <a:pt x="2160" y="936"/>
                  </a:lnTo>
                  <a:lnTo>
                    <a:pt x="2256" y="1116"/>
                  </a:lnTo>
                  <a:lnTo>
                    <a:pt x="2346" y="1206"/>
                  </a:lnTo>
                  <a:lnTo>
                    <a:pt x="2442" y="1236"/>
                  </a:lnTo>
                  <a:lnTo>
                    <a:pt x="2538" y="1200"/>
                  </a:lnTo>
                  <a:lnTo>
                    <a:pt x="2628" y="1332"/>
                  </a:lnTo>
                  <a:lnTo>
                    <a:pt x="2724" y="1410"/>
                  </a:lnTo>
                  <a:lnTo>
                    <a:pt x="2820" y="1452"/>
                  </a:lnTo>
                  <a:lnTo>
                    <a:pt x="2910" y="1470"/>
                  </a:lnTo>
                  <a:lnTo>
                    <a:pt x="3006" y="1530"/>
                  </a:lnTo>
                  <a:lnTo>
                    <a:pt x="3102" y="1614"/>
                  </a:lnTo>
                  <a:lnTo>
                    <a:pt x="3192" y="1710"/>
                  </a:lnTo>
                  <a:lnTo>
                    <a:pt x="3288" y="1788"/>
                  </a:lnTo>
                  <a:lnTo>
                    <a:pt x="3384" y="1854"/>
                  </a:lnTo>
                  <a:lnTo>
                    <a:pt x="3474" y="1914"/>
                  </a:lnTo>
                  <a:lnTo>
                    <a:pt x="3570" y="1968"/>
                  </a:lnTo>
                  <a:lnTo>
                    <a:pt x="3666" y="2016"/>
                  </a:lnTo>
                  <a:lnTo>
                    <a:pt x="3756" y="2046"/>
                  </a:lnTo>
                  <a:lnTo>
                    <a:pt x="3852" y="2070"/>
                  </a:lnTo>
                  <a:lnTo>
                    <a:pt x="3948" y="2082"/>
                  </a:lnTo>
                  <a:lnTo>
                    <a:pt x="4038" y="214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47560" y="1809720"/>
              <a:ext cx="5905440" cy="3400560"/>
            </a:xfrm>
            <a:custGeom>
              <a:avLst/>
              <a:gdLst/>
              <a:ahLst/>
              <a:rect l="l" t="t" r="r" b="b"/>
              <a:pathLst>
                <a:path w="4038" h="2142">
                  <a:moveTo>
                    <a:pt x="4038" y="2142"/>
                  </a:moveTo>
                  <a:lnTo>
                    <a:pt x="3948" y="2136"/>
                  </a:lnTo>
                  <a:lnTo>
                    <a:pt x="3852" y="2130"/>
                  </a:lnTo>
                  <a:lnTo>
                    <a:pt x="3756" y="2124"/>
                  </a:lnTo>
                  <a:lnTo>
                    <a:pt x="3666" y="2112"/>
                  </a:lnTo>
                  <a:lnTo>
                    <a:pt x="3570" y="2082"/>
                  </a:lnTo>
                  <a:lnTo>
                    <a:pt x="3474" y="2058"/>
                  </a:lnTo>
                  <a:lnTo>
                    <a:pt x="3384" y="2034"/>
                  </a:lnTo>
                  <a:lnTo>
                    <a:pt x="3288" y="2004"/>
                  </a:lnTo>
                  <a:lnTo>
                    <a:pt x="3192" y="1968"/>
                  </a:lnTo>
                  <a:lnTo>
                    <a:pt x="3102" y="1920"/>
                  </a:lnTo>
                  <a:lnTo>
                    <a:pt x="3006" y="1860"/>
                  </a:lnTo>
                  <a:lnTo>
                    <a:pt x="2910" y="1788"/>
                  </a:lnTo>
                  <a:lnTo>
                    <a:pt x="2820" y="1692"/>
                  </a:lnTo>
                  <a:lnTo>
                    <a:pt x="2724" y="1566"/>
                  </a:lnTo>
                  <a:lnTo>
                    <a:pt x="2628" y="1422"/>
                  </a:lnTo>
                  <a:lnTo>
                    <a:pt x="2538" y="1254"/>
                  </a:lnTo>
                  <a:lnTo>
                    <a:pt x="2442" y="1272"/>
                  </a:lnTo>
                  <a:lnTo>
                    <a:pt x="2346" y="1224"/>
                  </a:lnTo>
                  <a:lnTo>
                    <a:pt x="2256" y="1116"/>
                  </a:lnTo>
                  <a:lnTo>
                    <a:pt x="2160" y="936"/>
                  </a:lnTo>
                  <a:lnTo>
                    <a:pt x="2070" y="948"/>
                  </a:lnTo>
                  <a:lnTo>
                    <a:pt x="1974" y="996"/>
                  </a:lnTo>
                  <a:lnTo>
                    <a:pt x="1878" y="828"/>
                  </a:lnTo>
                  <a:lnTo>
                    <a:pt x="1788" y="738"/>
                  </a:lnTo>
                  <a:lnTo>
                    <a:pt x="1692" y="762"/>
                  </a:lnTo>
                  <a:lnTo>
                    <a:pt x="1596" y="960"/>
                  </a:lnTo>
                  <a:lnTo>
                    <a:pt x="1506" y="966"/>
                  </a:lnTo>
                  <a:lnTo>
                    <a:pt x="1410" y="960"/>
                  </a:lnTo>
                  <a:lnTo>
                    <a:pt x="1314" y="666"/>
                  </a:lnTo>
                  <a:lnTo>
                    <a:pt x="1224" y="480"/>
                  </a:lnTo>
                  <a:lnTo>
                    <a:pt x="1128" y="546"/>
                  </a:lnTo>
                  <a:lnTo>
                    <a:pt x="1032" y="396"/>
                  </a:lnTo>
                  <a:lnTo>
                    <a:pt x="942" y="300"/>
                  </a:lnTo>
                  <a:lnTo>
                    <a:pt x="846" y="432"/>
                  </a:lnTo>
                  <a:lnTo>
                    <a:pt x="750" y="702"/>
                  </a:lnTo>
                  <a:lnTo>
                    <a:pt x="660" y="702"/>
                  </a:lnTo>
                  <a:lnTo>
                    <a:pt x="564" y="258"/>
                  </a:lnTo>
                  <a:lnTo>
                    <a:pt x="468" y="384"/>
                  </a:lnTo>
                  <a:lnTo>
                    <a:pt x="378" y="0"/>
                  </a:lnTo>
                  <a:lnTo>
                    <a:pt x="282" y="96"/>
                  </a:lnTo>
                  <a:lnTo>
                    <a:pt x="186" y="318"/>
                  </a:lnTo>
                  <a:lnTo>
                    <a:pt x="96" y="816"/>
                  </a:lnTo>
                  <a:lnTo>
                    <a:pt x="0" y="175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447560" y="1495440"/>
              <a:ext cx="1440" cy="376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13000" y="5257800"/>
              <a:ext cx="34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13000" y="4791240"/>
              <a:ext cx="34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13000" y="4314960"/>
              <a:ext cx="34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13000" y="3848040"/>
              <a:ext cx="34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13000" y="3381480"/>
              <a:ext cx="34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13000" y="2905200"/>
              <a:ext cx="34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13000" y="2438280"/>
              <a:ext cx="34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13000" y="1962000"/>
              <a:ext cx="34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13000" y="1495440"/>
              <a:ext cx="34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47560" y="5257800"/>
              <a:ext cx="604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1447560" y="52578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1588320" y="5257800"/>
              <a:ext cx="108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1720080" y="5257800"/>
              <a:ext cx="108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1860120" y="5257800"/>
              <a:ext cx="108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2000520" y="52578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2132280" y="52578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272680" y="5257800"/>
              <a:ext cx="108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413080" y="5257800"/>
              <a:ext cx="108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2544840" y="5257800"/>
              <a:ext cx="108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2684880" y="5257800"/>
              <a:ext cx="108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2825280" y="52578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2957040" y="52578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3097800" y="5257800"/>
              <a:ext cx="108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3237840" y="5257800"/>
              <a:ext cx="108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3369600" y="5257800"/>
              <a:ext cx="108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510000" y="52578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3650040" y="52578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781800" y="52578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922560" y="5257800"/>
              <a:ext cx="108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4062600" y="5257800"/>
              <a:ext cx="108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194360" y="5257800"/>
              <a:ext cx="108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334760" y="52578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475160" y="5257800"/>
              <a:ext cx="108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4606560" y="52578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4747320" y="5257800"/>
              <a:ext cx="108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879080" y="5257800"/>
              <a:ext cx="108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5019120" y="5257800"/>
              <a:ext cx="108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5159520" y="52578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5291280" y="52578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5431680" y="5257800"/>
              <a:ext cx="108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5572080" y="5257800"/>
              <a:ext cx="108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5703840" y="5257800"/>
              <a:ext cx="108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5844240" y="5257800"/>
              <a:ext cx="108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984280" y="52578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6116040" y="52578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6256800" y="5257800"/>
              <a:ext cx="108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6396840" y="5257800"/>
              <a:ext cx="108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6528600" y="5257800"/>
              <a:ext cx="108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6669000" y="52578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809040" y="52578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6940800" y="52578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7081560" y="5257800"/>
              <a:ext cx="108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221600" y="5257800"/>
              <a:ext cx="108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7353360" y="5257800"/>
              <a:ext cx="108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493760" y="52578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447560" y="4619520"/>
              <a:ext cx="6045840" cy="1800"/>
            </a:xfrm>
            <a:custGeom>
              <a:avLst/>
              <a:gdLst/>
              <a:ahLst/>
              <a:rect l="l" t="t" r="r" b="b"/>
              <a:pathLst>
                <a:path w="689" h="0">
                  <a:moveTo>
                    <a:pt x="0" y="0"/>
                  </a:moveTo>
                  <a:lnTo>
                    <a:pt x="16" y="0"/>
                  </a:lnTo>
                  <a:lnTo>
                    <a:pt x="31" y="0"/>
                  </a:lnTo>
                  <a:lnTo>
                    <a:pt x="47" y="0"/>
                  </a:lnTo>
                  <a:lnTo>
                    <a:pt x="63" y="0"/>
                  </a:lnTo>
                  <a:lnTo>
                    <a:pt x="78" y="0"/>
                  </a:lnTo>
                  <a:lnTo>
                    <a:pt x="94" y="0"/>
                  </a:lnTo>
                  <a:lnTo>
                    <a:pt x="110" y="0"/>
                  </a:lnTo>
                  <a:lnTo>
                    <a:pt x="125" y="0"/>
                  </a:lnTo>
                  <a:lnTo>
                    <a:pt x="141" y="0"/>
                  </a:lnTo>
                  <a:lnTo>
                    <a:pt x="157" y="0"/>
                  </a:lnTo>
                  <a:lnTo>
                    <a:pt x="172" y="0"/>
                  </a:lnTo>
                  <a:lnTo>
                    <a:pt x="188" y="0"/>
                  </a:lnTo>
                  <a:lnTo>
                    <a:pt x="204" y="0"/>
                  </a:lnTo>
                  <a:lnTo>
                    <a:pt x="219" y="0"/>
                  </a:lnTo>
                  <a:lnTo>
                    <a:pt x="235" y="0"/>
                  </a:lnTo>
                  <a:lnTo>
                    <a:pt x="251" y="0"/>
                  </a:lnTo>
                  <a:lnTo>
                    <a:pt x="266" y="0"/>
                  </a:lnTo>
                  <a:lnTo>
                    <a:pt x="282" y="0"/>
                  </a:lnTo>
                  <a:lnTo>
                    <a:pt x="298" y="0"/>
                  </a:lnTo>
                  <a:lnTo>
                    <a:pt x="313" y="0"/>
                  </a:lnTo>
                  <a:lnTo>
                    <a:pt x="329" y="0"/>
                  </a:lnTo>
                  <a:lnTo>
                    <a:pt x="345" y="0"/>
                  </a:lnTo>
                  <a:lnTo>
                    <a:pt x="360" y="0"/>
                  </a:lnTo>
                  <a:lnTo>
                    <a:pt x="376" y="0"/>
                  </a:lnTo>
                  <a:lnTo>
                    <a:pt x="391" y="0"/>
                  </a:lnTo>
                  <a:lnTo>
                    <a:pt x="407" y="0"/>
                  </a:lnTo>
                  <a:lnTo>
                    <a:pt x="423" y="0"/>
                  </a:lnTo>
                  <a:lnTo>
                    <a:pt x="438" y="0"/>
                  </a:lnTo>
                  <a:lnTo>
                    <a:pt x="454" y="0"/>
                  </a:lnTo>
                  <a:lnTo>
                    <a:pt x="470" y="0"/>
                  </a:lnTo>
                  <a:lnTo>
                    <a:pt x="485" y="0"/>
                  </a:lnTo>
                  <a:lnTo>
                    <a:pt x="501" y="0"/>
                  </a:lnTo>
                  <a:lnTo>
                    <a:pt x="517" y="0"/>
                  </a:lnTo>
                  <a:lnTo>
                    <a:pt x="532" y="0"/>
                  </a:lnTo>
                  <a:lnTo>
                    <a:pt x="548" y="0"/>
                  </a:lnTo>
                  <a:lnTo>
                    <a:pt x="564" y="0"/>
                  </a:lnTo>
                  <a:lnTo>
                    <a:pt x="579" y="0"/>
                  </a:lnTo>
                  <a:lnTo>
                    <a:pt x="595" y="0"/>
                  </a:lnTo>
                  <a:lnTo>
                    <a:pt x="611" y="0"/>
                  </a:lnTo>
                  <a:lnTo>
                    <a:pt x="626" y="0"/>
                  </a:lnTo>
                  <a:lnTo>
                    <a:pt x="642" y="0"/>
                  </a:lnTo>
                  <a:lnTo>
                    <a:pt x="658" y="0"/>
                  </a:lnTo>
                  <a:lnTo>
                    <a:pt x="673" y="0"/>
                  </a:lnTo>
                  <a:lnTo>
                    <a:pt x="689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56720" y="961920"/>
              <a:ext cx="175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HIOS GAS FORECAS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667680" y="4010040"/>
              <a:ext cx="816120" cy="361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51640" y="4048200"/>
              <a:ext cx="614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IOS SHEL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0320" y="4191120"/>
              <a:ext cx="86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ISTING WELL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045400" y="4791240"/>
              <a:ext cx="596880" cy="361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115240" y="4829040"/>
              <a:ext cx="614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IOS SHEL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09840" y="4971960"/>
              <a:ext cx="625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EW WELL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43800" y="3933720"/>
              <a:ext cx="289440" cy="219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00320" y="3971880"/>
              <a:ext cx="29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BG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39160" y="4714920"/>
              <a:ext cx="605160" cy="361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98560" y="4753080"/>
              <a:ext cx="653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EEPWA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04760" y="4896000"/>
              <a:ext cx="413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UTU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319040" y="5181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89080" y="471492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89080" y="42386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89080" y="37720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89080" y="330516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097280" y="282888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,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97280" y="23623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,2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97280" y="188604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,4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97280" y="14191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,6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8900000">
              <a:off x="1172520" y="542340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7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8900000">
              <a:off x="1444320" y="542340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8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8900000">
              <a:off x="1725120" y="542376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8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8900000">
              <a:off x="1997280" y="542340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8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8900000">
              <a:off x="2269080" y="542340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8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8900000">
              <a:off x="2549880" y="542376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8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8900000">
              <a:off x="2822040" y="542340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8900000">
              <a:off x="3094200" y="542376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9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8900000">
              <a:off x="3375000" y="542340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8900000">
              <a:off x="3646800" y="542340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8900000">
              <a:off x="3918960" y="542376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8900000">
              <a:off x="4199760" y="542340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8900000">
              <a:off x="4471920" y="542376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8900000">
              <a:off x="4743720" y="542376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8900000">
              <a:off x="5015520" y="542376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8900000">
              <a:off x="5296680" y="542376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8900000">
              <a:off x="5568480" y="542376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8900000">
              <a:off x="5840640" y="542376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1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8900000">
              <a:off x="6121440" y="542376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1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8900000">
              <a:off x="6393240" y="542376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1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8900000">
              <a:off x="6665400" y="542376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1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8900000">
              <a:off x="6946200" y="542376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8900000">
              <a:off x="7218360" y="542376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2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6200000">
              <a:off x="751320" y="3271680"/>
              <a:ext cx="43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Mcf/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24760" y="5791320"/>
              <a:ext cx="7537680" cy="228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09080" y="5867280"/>
              <a:ext cx="236520" cy="669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39840" y="5819760"/>
              <a:ext cx="1451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IOS Shelf Existing Wel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48400" y="5867280"/>
              <a:ext cx="236520" cy="66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5640" y="5819760"/>
              <a:ext cx="1262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IOS Shelf New Wel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94400" y="5867280"/>
              <a:ext cx="236520" cy="669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974840" y="581976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B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25000" y="5867280"/>
              <a:ext cx="236520" cy="669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68720" y="5819760"/>
              <a:ext cx="1047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epwater  Fut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160400" y="5896080"/>
              <a:ext cx="24552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16720" y="5819760"/>
              <a:ext cx="855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conomic Lim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6705000" y="2286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cket No RP03-Exhibit No. HIO-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979560" y="914400"/>
            <a:ext cx="7278480" cy="5143680"/>
            <a:chOff x="979560" y="914400"/>
            <a:chExt cx="7278480" cy="5143680"/>
          </a:xfrm>
        </p:grpSpPr>
        <p:grpSp>
          <p:nvGrpSpPr>
            <p:cNvPr id="228" name=""/>
            <p:cNvGrpSpPr/>
            <p:nvPr/>
          </p:nvGrpSpPr>
          <p:grpSpPr>
            <a:xfrm>
              <a:off x="979560" y="914400"/>
              <a:ext cx="7278480" cy="5143680"/>
              <a:chOff x="979560" y="914400"/>
              <a:chExt cx="7278480" cy="5143680"/>
            </a:xfrm>
          </p:grpSpPr>
          <p:sp>
            <p:nvSpPr>
              <p:cNvPr id="229" name=""/>
              <p:cNvSpPr/>
              <p:nvPr/>
            </p:nvSpPr>
            <p:spPr>
              <a:xfrm>
                <a:off x="1800360" y="1619280"/>
                <a:ext cx="5790960" cy="394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800360" y="5067360"/>
                <a:ext cx="57909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800360" y="4581360"/>
                <a:ext cx="57909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800360" y="4086360"/>
                <a:ext cx="57909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800360" y="3591000"/>
                <a:ext cx="57909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00360" y="3095640"/>
                <a:ext cx="57909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800360" y="2610000"/>
                <a:ext cx="57909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800360" y="2114640"/>
                <a:ext cx="57909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800360" y="1619280"/>
                <a:ext cx="57909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933560" y="1619280"/>
                <a:ext cx="1440" cy="394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066760" y="1619280"/>
                <a:ext cx="1800" cy="394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190600" y="1619280"/>
                <a:ext cx="1800" cy="394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324160" y="1619280"/>
                <a:ext cx="1440" cy="394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457360" y="1619280"/>
                <a:ext cx="1800" cy="394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590920" y="1619280"/>
                <a:ext cx="1440" cy="394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724120" y="1619280"/>
                <a:ext cx="1440" cy="394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857680" y="1619280"/>
                <a:ext cx="1440" cy="394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981160" y="1619280"/>
                <a:ext cx="1800" cy="394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114720" y="1619280"/>
                <a:ext cx="1440" cy="394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247920" y="1619280"/>
                <a:ext cx="1800" cy="394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381480" y="1619280"/>
                <a:ext cx="1440" cy="394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514680" y="1619280"/>
                <a:ext cx="1800" cy="394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38520" y="1619280"/>
                <a:ext cx="1440" cy="394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772080" y="1619280"/>
                <a:ext cx="1440" cy="394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905280" y="1619280"/>
                <a:ext cx="1440" cy="394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038480" y="1619280"/>
                <a:ext cx="1800" cy="394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172040" y="1619280"/>
                <a:ext cx="1440" cy="394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305240" y="1619280"/>
                <a:ext cx="1800" cy="394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429080" y="1619280"/>
                <a:ext cx="1800" cy="394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562640" y="1619280"/>
                <a:ext cx="1440" cy="394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695840" y="1619280"/>
                <a:ext cx="1440" cy="394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29040" y="1619280"/>
                <a:ext cx="1800" cy="394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962600" y="1619280"/>
                <a:ext cx="1440" cy="394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086440" y="1619280"/>
                <a:ext cx="1440" cy="394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219640" y="1619280"/>
                <a:ext cx="1800" cy="394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353200" y="1619280"/>
                <a:ext cx="1440" cy="394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486400" y="1619280"/>
                <a:ext cx="1440" cy="394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619600" y="1619280"/>
                <a:ext cx="1800" cy="394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753160" y="1619280"/>
                <a:ext cx="1440" cy="394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77000" y="1619280"/>
                <a:ext cx="1440" cy="394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010200" y="1619280"/>
                <a:ext cx="1800" cy="394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143760" y="1619280"/>
                <a:ext cx="1440" cy="394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276960" y="1619280"/>
                <a:ext cx="1440" cy="394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410160" y="1619280"/>
                <a:ext cx="1800" cy="394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534000" y="1619280"/>
                <a:ext cx="1800" cy="394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667560" y="1619280"/>
                <a:ext cx="1440" cy="394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800760" y="1619280"/>
                <a:ext cx="1800" cy="394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934320" y="1619280"/>
                <a:ext cx="1440" cy="394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67520" y="1619280"/>
                <a:ext cx="1440" cy="394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201080" y="1619280"/>
                <a:ext cx="1440" cy="394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324560" y="1619280"/>
                <a:ext cx="1800" cy="394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458120" y="1619280"/>
                <a:ext cx="1440" cy="394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591320" y="1619280"/>
                <a:ext cx="1800" cy="394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800360" y="1619280"/>
                <a:ext cx="5790960" cy="39434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800360" y="5533920"/>
                <a:ext cx="5790960" cy="28800"/>
              </a:xfrm>
              <a:custGeom>
                <a:avLst/>
                <a:gdLst/>
                <a:ahLst/>
                <a:rect l="l" t="t" r="r" b="b"/>
                <a:pathLst>
                  <a:path w="3648" h="18">
                    <a:moveTo>
                      <a:pt x="0" y="18"/>
                    </a:moveTo>
                    <a:lnTo>
                      <a:pt x="0" y="18"/>
                    </a:lnTo>
                    <a:lnTo>
                      <a:pt x="84" y="18"/>
                    </a:lnTo>
                    <a:lnTo>
                      <a:pt x="168" y="18"/>
                    </a:lnTo>
                    <a:lnTo>
                      <a:pt x="246" y="6"/>
                    </a:lnTo>
                    <a:lnTo>
                      <a:pt x="330" y="0"/>
                    </a:lnTo>
                    <a:lnTo>
                      <a:pt x="414" y="12"/>
                    </a:lnTo>
                    <a:lnTo>
                      <a:pt x="498" y="18"/>
                    </a:lnTo>
                    <a:lnTo>
                      <a:pt x="582" y="18"/>
                    </a:lnTo>
                    <a:lnTo>
                      <a:pt x="666" y="18"/>
                    </a:lnTo>
                    <a:lnTo>
                      <a:pt x="744" y="18"/>
                    </a:lnTo>
                    <a:lnTo>
                      <a:pt x="828" y="18"/>
                    </a:lnTo>
                    <a:lnTo>
                      <a:pt x="912" y="18"/>
                    </a:lnTo>
                    <a:lnTo>
                      <a:pt x="996" y="18"/>
                    </a:lnTo>
                    <a:lnTo>
                      <a:pt x="1080" y="18"/>
                    </a:lnTo>
                    <a:lnTo>
                      <a:pt x="1158" y="6"/>
                    </a:lnTo>
                    <a:lnTo>
                      <a:pt x="1242" y="6"/>
                    </a:lnTo>
                    <a:lnTo>
                      <a:pt x="1326" y="6"/>
                    </a:lnTo>
                    <a:lnTo>
                      <a:pt x="1410" y="12"/>
                    </a:lnTo>
                    <a:lnTo>
                      <a:pt x="1494" y="12"/>
                    </a:lnTo>
                    <a:lnTo>
                      <a:pt x="1578" y="12"/>
                    </a:lnTo>
                    <a:lnTo>
                      <a:pt x="1656" y="12"/>
                    </a:lnTo>
                    <a:lnTo>
                      <a:pt x="1740" y="12"/>
                    </a:lnTo>
                    <a:lnTo>
                      <a:pt x="1824" y="12"/>
                    </a:lnTo>
                    <a:lnTo>
                      <a:pt x="1908" y="12"/>
                    </a:lnTo>
                    <a:lnTo>
                      <a:pt x="1992" y="12"/>
                    </a:lnTo>
                    <a:lnTo>
                      <a:pt x="2070" y="12"/>
                    </a:lnTo>
                    <a:lnTo>
                      <a:pt x="2154" y="12"/>
                    </a:lnTo>
                    <a:lnTo>
                      <a:pt x="2238" y="12"/>
                    </a:lnTo>
                    <a:lnTo>
                      <a:pt x="2322" y="12"/>
                    </a:lnTo>
                    <a:lnTo>
                      <a:pt x="2406" y="12"/>
                    </a:lnTo>
                    <a:lnTo>
                      <a:pt x="2490" y="18"/>
                    </a:lnTo>
                    <a:lnTo>
                      <a:pt x="2568" y="18"/>
                    </a:lnTo>
                    <a:lnTo>
                      <a:pt x="2652" y="18"/>
                    </a:lnTo>
                    <a:lnTo>
                      <a:pt x="2736" y="18"/>
                    </a:lnTo>
                    <a:lnTo>
                      <a:pt x="2820" y="18"/>
                    </a:lnTo>
                    <a:lnTo>
                      <a:pt x="2904" y="18"/>
                    </a:lnTo>
                    <a:lnTo>
                      <a:pt x="2982" y="18"/>
                    </a:lnTo>
                    <a:lnTo>
                      <a:pt x="3066" y="18"/>
                    </a:lnTo>
                    <a:lnTo>
                      <a:pt x="3150" y="18"/>
                    </a:lnTo>
                    <a:lnTo>
                      <a:pt x="3234" y="18"/>
                    </a:lnTo>
                    <a:lnTo>
                      <a:pt x="3318" y="18"/>
                    </a:lnTo>
                    <a:lnTo>
                      <a:pt x="3402" y="18"/>
                    </a:lnTo>
                    <a:lnTo>
                      <a:pt x="3480" y="18"/>
                    </a:lnTo>
                    <a:lnTo>
                      <a:pt x="3564" y="18"/>
                    </a:lnTo>
                    <a:lnTo>
                      <a:pt x="3648" y="18"/>
                    </a:lnTo>
                    <a:lnTo>
                      <a:pt x="3648" y="18"/>
                    </a:lnTo>
                    <a:lnTo>
                      <a:pt x="3564" y="18"/>
                    </a:lnTo>
                    <a:lnTo>
                      <a:pt x="3480" y="18"/>
                    </a:lnTo>
                    <a:lnTo>
                      <a:pt x="3402" y="18"/>
                    </a:lnTo>
                    <a:lnTo>
                      <a:pt x="3318" y="18"/>
                    </a:lnTo>
                    <a:lnTo>
                      <a:pt x="3234" y="18"/>
                    </a:lnTo>
                    <a:lnTo>
                      <a:pt x="3150" y="18"/>
                    </a:lnTo>
                    <a:lnTo>
                      <a:pt x="3066" y="18"/>
                    </a:lnTo>
                    <a:lnTo>
                      <a:pt x="2982" y="18"/>
                    </a:lnTo>
                    <a:lnTo>
                      <a:pt x="2904" y="18"/>
                    </a:lnTo>
                    <a:lnTo>
                      <a:pt x="2820" y="18"/>
                    </a:lnTo>
                    <a:lnTo>
                      <a:pt x="2736" y="18"/>
                    </a:lnTo>
                    <a:lnTo>
                      <a:pt x="2652" y="18"/>
                    </a:lnTo>
                    <a:lnTo>
                      <a:pt x="2568" y="18"/>
                    </a:lnTo>
                    <a:lnTo>
                      <a:pt x="2490" y="18"/>
                    </a:lnTo>
                    <a:lnTo>
                      <a:pt x="2406" y="18"/>
                    </a:lnTo>
                    <a:lnTo>
                      <a:pt x="2322" y="18"/>
                    </a:lnTo>
                    <a:lnTo>
                      <a:pt x="2238" y="18"/>
                    </a:lnTo>
                    <a:lnTo>
                      <a:pt x="2154" y="18"/>
                    </a:lnTo>
                    <a:lnTo>
                      <a:pt x="2070" y="18"/>
                    </a:lnTo>
                    <a:lnTo>
                      <a:pt x="1992" y="18"/>
                    </a:lnTo>
                    <a:lnTo>
                      <a:pt x="1908" y="18"/>
                    </a:lnTo>
                    <a:lnTo>
                      <a:pt x="1824" y="18"/>
                    </a:lnTo>
                    <a:lnTo>
                      <a:pt x="1740" y="18"/>
                    </a:lnTo>
                    <a:lnTo>
                      <a:pt x="1656" y="18"/>
                    </a:lnTo>
                    <a:lnTo>
                      <a:pt x="1578" y="18"/>
                    </a:lnTo>
                    <a:lnTo>
                      <a:pt x="1494" y="18"/>
                    </a:lnTo>
                    <a:lnTo>
                      <a:pt x="1410" y="18"/>
                    </a:lnTo>
                    <a:lnTo>
                      <a:pt x="1326" y="18"/>
                    </a:lnTo>
                    <a:lnTo>
                      <a:pt x="1242" y="18"/>
                    </a:lnTo>
                    <a:lnTo>
                      <a:pt x="1158" y="18"/>
                    </a:lnTo>
                    <a:lnTo>
                      <a:pt x="1080" y="18"/>
                    </a:lnTo>
                    <a:lnTo>
                      <a:pt x="996" y="18"/>
                    </a:lnTo>
                    <a:lnTo>
                      <a:pt x="912" y="18"/>
                    </a:lnTo>
                    <a:lnTo>
                      <a:pt x="828" y="18"/>
                    </a:lnTo>
                    <a:lnTo>
                      <a:pt x="744" y="18"/>
                    </a:lnTo>
                    <a:lnTo>
                      <a:pt x="666" y="18"/>
                    </a:lnTo>
                    <a:lnTo>
                      <a:pt x="582" y="18"/>
                    </a:lnTo>
                    <a:lnTo>
                      <a:pt x="498" y="18"/>
                    </a:lnTo>
                    <a:lnTo>
                      <a:pt x="414" y="18"/>
                    </a:lnTo>
                    <a:lnTo>
                      <a:pt x="330" y="18"/>
                    </a:lnTo>
                    <a:lnTo>
                      <a:pt x="246" y="18"/>
                    </a:lnTo>
                    <a:lnTo>
                      <a:pt x="168" y="18"/>
                    </a:lnTo>
                    <a:lnTo>
                      <a:pt x="84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800360" y="5533920"/>
                <a:ext cx="5790960" cy="28800"/>
              </a:xfrm>
              <a:custGeom>
                <a:avLst/>
                <a:gdLst/>
                <a:ahLst/>
                <a:rect l="l" t="t" r="r" b="b"/>
                <a:pathLst>
                  <a:path w="3648" h="18">
                    <a:moveTo>
                      <a:pt x="0" y="18"/>
                    </a:moveTo>
                    <a:lnTo>
                      <a:pt x="0" y="18"/>
                    </a:lnTo>
                    <a:lnTo>
                      <a:pt x="84" y="12"/>
                    </a:lnTo>
                    <a:lnTo>
                      <a:pt x="168" y="12"/>
                    </a:lnTo>
                    <a:lnTo>
                      <a:pt x="246" y="6"/>
                    </a:lnTo>
                    <a:lnTo>
                      <a:pt x="330" y="0"/>
                    </a:lnTo>
                    <a:lnTo>
                      <a:pt x="414" y="12"/>
                    </a:lnTo>
                    <a:lnTo>
                      <a:pt x="498" y="18"/>
                    </a:lnTo>
                    <a:lnTo>
                      <a:pt x="582" y="12"/>
                    </a:lnTo>
                    <a:lnTo>
                      <a:pt x="666" y="12"/>
                    </a:lnTo>
                    <a:lnTo>
                      <a:pt x="744" y="18"/>
                    </a:lnTo>
                    <a:lnTo>
                      <a:pt x="828" y="18"/>
                    </a:lnTo>
                    <a:lnTo>
                      <a:pt x="912" y="18"/>
                    </a:lnTo>
                    <a:lnTo>
                      <a:pt x="996" y="18"/>
                    </a:lnTo>
                    <a:lnTo>
                      <a:pt x="1080" y="18"/>
                    </a:lnTo>
                    <a:lnTo>
                      <a:pt x="1158" y="6"/>
                    </a:lnTo>
                    <a:lnTo>
                      <a:pt x="1242" y="6"/>
                    </a:lnTo>
                    <a:lnTo>
                      <a:pt x="1326" y="6"/>
                    </a:lnTo>
                    <a:lnTo>
                      <a:pt x="1410" y="6"/>
                    </a:lnTo>
                    <a:lnTo>
                      <a:pt x="1494" y="6"/>
                    </a:lnTo>
                    <a:lnTo>
                      <a:pt x="1578" y="12"/>
                    </a:lnTo>
                    <a:lnTo>
                      <a:pt x="1656" y="12"/>
                    </a:lnTo>
                    <a:lnTo>
                      <a:pt x="1740" y="12"/>
                    </a:lnTo>
                    <a:lnTo>
                      <a:pt x="1824" y="12"/>
                    </a:lnTo>
                    <a:lnTo>
                      <a:pt x="1908" y="12"/>
                    </a:lnTo>
                    <a:lnTo>
                      <a:pt x="1992" y="12"/>
                    </a:lnTo>
                    <a:lnTo>
                      <a:pt x="2070" y="12"/>
                    </a:lnTo>
                    <a:lnTo>
                      <a:pt x="2154" y="12"/>
                    </a:lnTo>
                    <a:lnTo>
                      <a:pt x="2238" y="12"/>
                    </a:lnTo>
                    <a:lnTo>
                      <a:pt x="2322" y="12"/>
                    </a:lnTo>
                    <a:lnTo>
                      <a:pt x="2406" y="12"/>
                    </a:lnTo>
                    <a:lnTo>
                      <a:pt x="2490" y="18"/>
                    </a:lnTo>
                    <a:lnTo>
                      <a:pt x="2568" y="18"/>
                    </a:lnTo>
                    <a:lnTo>
                      <a:pt x="2652" y="18"/>
                    </a:lnTo>
                    <a:lnTo>
                      <a:pt x="2736" y="18"/>
                    </a:lnTo>
                    <a:lnTo>
                      <a:pt x="2820" y="18"/>
                    </a:lnTo>
                    <a:lnTo>
                      <a:pt x="2904" y="18"/>
                    </a:lnTo>
                    <a:lnTo>
                      <a:pt x="2982" y="18"/>
                    </a:lnTo>
                    <a:lnTo>
                      <a:pt x="3066" y="18"/>
                    </a:lnTo>
                    <a:lnTo>
                      <a:pt x="3150" y="18"/>
                    </a:lnTo>
                    <a:lnTo>
                      <a:pt x="3234" y="18"/>
                    </a:lnTo>
                    <a:lnTo>
                      <a:pt x="3318" y="18"/>
                    </a:lnTo>
                    <a:lnTo>
                      <a:pt x="3402" y="18"/>
                    </a:lnTo>
                    <a:lnTo>
                      <a:pt x="3480" y="18"/>
                    </a:lnTo>
                    <a:lnTo>
                      <a:pt x="3564" y="18"/>
                    </a:lnTo>
                    <a:lnTo>
                      <a:pt x="3648" y="18"/>
                    </a:lnTo>
                    <a:lnTo>
                      <a:pt x="3648" y="18"/>
                    </a:lnTo>
                    <a:lnTo>
                      <a:pt x="3564" y="18"/>
                    </a:lnTo>
                    <a:lnTo>
                      <a:pt x="3480" y="18"/>
                    </a:lnTo>
                    <a:lnTo>
                      <a:pt x="3402" y="18"/>
                    </a:lnTo>
                    <a:lnTo>
                      <a:pt x="3318" y="18"/>
                    </a:lnTo>
                    <a:lnTo>
                      <a:pt x="3234" y="18"/>
                    </a:lnTo>
                    <a:lnTo>
                      <a:pt x="3150" y="18"/>
                    </a:lnTo>
                    <a:lnTo>
                      <a:pt x="3066" y="18"/>
                    </a:lnTo>
                    <a:lnTo>
                      <a:pt x="2982" y="18"/>
                    </a:lnTo>
                    <a:lnTo>
                      <a:pt x="2904" y="18"/>
                    </a:lnTo>
                    <a:lnTo>
                      <a:pt x="2820" y="18"/>
                    </a:lnTo>
                    <a:lnTo>
                      <a:pt x="2736" y="18"/>
                    </a:lnTo>
                    <a:lnTo>
                      <a:pt x="2652" y="18"/>
                    </a:lnTo>
                    <a:lnTo>
                      <a:pt x="2568" y="18"/>
                    </a:lnTo>
                    <a:lnTo>
                      <a:pt x="2490" y="18"/>
                    </a:lnTo>
                    <a:lnTo>
                      <a:pt x="2406" y="12"/>
                    </a:lnTo>
                    <a:lnTo>
                      <a:pt x="2322" y="12"/>
                    </a:lnTo>
                    <a:lnTo>
                      <a:pt x="2238" y="12"/>
                    </a:lnTo>
                    <a:lnTo>
                      <a:pt x="2154" y="12"/>
                    </a:lnTo>
                    <a:lnTo>
                      <a:pt x="2070" y="12"/>
                    </a:lnTo>
                    <a:lnTo>
                      <a:pt x="1992" y="12"/>
                    </a:lnTo>
                    <a:lnTo>
                      <a:pt x="1908" y="12"/>
                    </a:lnTo>
                    <a:lnTo>
                      <a:pt x="1824" y="12"/>
                    </a:lnTo>
                    <a:lnTo>
                      <a:pt x="1740" y="12"/>
                    </a:lnTo>
                    <a:lnTo>
                      <a:pt x="1656" y="12"/>
                    </a:lnTo>
                    <a:lnTo>
                      <a:pt x="1578" y="12"/>
                    </a:lnTo>
                    <a:lnTo>
                      <a:pt x="1494" y="12"/>
                    </a:lnTo>
                    <a:lnTo>
                      <a:pt x="1410" y="12"/>
                    </a:lnTo>
                    <a:lnTo>
                      <a:pt x="1326" y="6"/>
                    </a:lnTo>
                    <a:lnTo>
                      <a:pt x="1242" y="6"/>
                    </a:lnTo>
                    <a:lnTo>
                      <a:pt x="1158" y="6"/>
                    </a:lnTo>
                    <a:lnTo>
                      <a:pt x="1080" y="18"/>
                    </a:lnTo>
                    <a:lnTo>
                      <a:pt x="996" y="18"/>
                    </a:lnTo>
                    <a:lnTo>
                      <a:pt x="912" y="18"/>
                    </a:lnTo>
                    <a:lnTo>
                      <a:pt x="828" y="18"/>
                    </a:lnTo>
                    <a:lnTo>
                      <a:pt x="744" y="18"/>
                    </a:lnTo>
                    <a:lnTo>
                      <a:pt x="666" y="18"/>
                    </a:lnTo>
                    <a:lnTo>
                      <a:pt x="582" y="18"/>
                    </a:lnTo>
                    <a:lnTo>
                      <a:pt x="498" y="18"/>
                    </a:lnTo>
                    <a:lnTo>
                      <a:pt x="414" y="12"/>
                    </a:lnTo>
                    <a:lnTo>
                      <a:pt x="330" y="0"/>
                    </a:lnTo>
                    <a:lnTo>
                      <a:pt x="246" y="6"/>
                    </a:lnTo>
                    <a:lnTo>
                      <a:pt x="168" y="18"/>
                    </a:lnTo>
                    <a:lnTo>
                      <a:pt x="84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800360" y="3943440"/>
                <a:ext cx="5790960" cy="1619280"/>
              </a:xfrm>
              <a:custGeom>
                <a:avLst/>
                <a:gdLst/>
                <a:ahLst/>
                <a:rect l="l" t="t" r="r" b="b"/>
                <a:pathLst>
                  <a:path w="3648" h="1020">
                    <a:moveTo>
                      <a:pt x="0" y="1020"/>
                    </a:moveTo>
                    <a:lnTo>
                      <a:pt x="0" y="576"/>
                    </a:lnTo>
                    <a:lnTo>
                      <a:pt x="84" y="0"/>
                    </a:lnTo>
                    <a:lnTo>
                      <a:pt x="168" y="180"/>
                    </a:lnTo>
                    <a:lnTo>
                      <a:pt x="246" y="324"/>
                    </a:lnTo>
                    <a:lnTo>
                      <a:pt x="330" y="402"/>
                    </a:lnTo>
                    <a:lnTo>
                      <a:pt x="414" y="612"/>
                    </a:lnTo>
                    <a:lnTo>
                      <a:pt x="498" y="618"/>
                    </a:lnTo>
                    <a:lnTo>
                      <a:pt x="582" y="786"/>
                    </a:lnTo>
                    <a:lnTo>
                      <a:pt x="666" y="858"/>
                    </a:lnTo>
                    <a:lnTo>
                      <a:pt x="744" y="786"/>
                    </a:lnTo>
                    <a:lnTo>
                      <a:pt x="828" y="810"/>
                    </a:lnTo>
                    <a:lnTo>
                      <a:pt x="912" y="846"/>
                    </a:lnTo>
                    <a:lnTo>
                      <a:pt x="996" y="858"/>
                    </a:lnTo>
                    <a:lnTo>
                      <a:pt x="1080" y="858"/>
                    </a:lnTo>
                    <a:lnTo>
                      <a:pt x="1158" y="894"/>
                    </a:lnTo>
                    <a:lnTo>
                      <a:pt x="1242" y="924"/>
                    </a:lnTo>
                    <a:lnTo>
                      <a:pt x="1326" y="930"/>
                    </a:lnTo>
                    <a:lnTo>
                      <a:pt x="1410" y="936"/>
                    </a:lnTo>
                    <a:lnTo>
                      <a:pt x="1494" y="972"/>
                    </a:lnTo>
                    <a:lnTo>
                      <a:pt x="1578" y="972"/>
                    </a:lnTo>
                    <a:lnTo>
                      <a:pt x="1656" y="990"/>
                    </a:lnTo>
                    <a:lnTo>
                      <a:pt x="1740" y="1002"/>
                    </a:lnTo>
                    <a:lnTo>
                      <a:pt x="1824" y="1002"/>
                    </a:lnTo>
                    <a:lnTo>
                      <a:pt x="1908" y="1008"/>
                    </a:lnTo>
                    <a:lnTo>
                      <a:pt x="1992" y="1008"/>
                    </a:lnTo>
                    <a:lnTo>
                      <a:pt x="2070" y="1014"/>
                    </a:lnTo>
                    <a:lnTo>
                      <a:pt x="2154" y="1014"/>
                    </a:lnTo>
                    <a:lnTo>
                      <a:pt x="2238" y="1014"/>
                    </a:lnTo>
                    <a:lnTo>
                      <a:pt x="2322" y="1014"/>
                    </a:lnTo>
                    <a:lnTo>
                      <a:pt x="2406" y="1014"/>
                    </a:lnTo>
                    <a:lnTo>
                      <a:pt x="2490" y="1020"/>
                    </a:lnTo>
                    <a:lnTo>
                      <a:pt x="2568" y="1020"/>
                    </a:lnTo>
                    <a:lnTo>
                      <a:pt x="2652" y="1020"/>
                    </a:lnTo>
                    <a:lnTo>
                      <a:pt x="2736" y="1020"/>
                    </a:lnTo>
                    <a:lnTo>
                      <a:pt x="2820" y="1020"/>
                    </a:lnTo>
                    <a:lnTo>
                      <a:pt x="2904" y="1020"/>
                    </a:lnTo>
                    <a:lnTo>
                      <a:pt x="2982" y="1020"/>
                    </a:lnTo>
                    <a:lnTo>
                      <a:pt x="3066" y="1020"/>
                    </a:lnTo>
                    <a:lnTo>
                      <a:pt x="3150" y="1020"/>
                    </a:lnTo>
                    <a:lnTo>
                      <a:pt x="3234" y="1020"/>
                    </a:lnTo>
                    <a:lnTo>
                      <a:pt x="3318" y="1020"/>
                    </a:lnTo>
                    <a:lnTo>
                      <a:pt x="3402" y="1020"/>
                    </a:lnTo>
                    <a:lnTo>
                      <a:pt x="3480" y="1020"/>
                    </a:lnTo>
                    <a:lnTo>
                      <a:pt x="3564" y="1020"/>
                    </a:lnTo>
                    <a:lnTo>
                      <a:pt x="3648" y="1020"/>
                    </a:lnTo>
                    <a:lnTo>
                      <a:pt x="3648" y="1020"/>
                    </a:lnTo>
                    <a:lnTo>
                      <a:pt x="3564" y="1020"/>
                    </a:lnTo>
                    <a:lnTo>
                      <a:pt x="3480" y="1020"/>
                    </a:lnTo>
                    <a:lnTo>
                      <a:pt x="3402" y="1020"/>
                    </a:lnTo>
                    <a:lnTo>
                      <a:pt x="3318" y="1020"/>
                    </a:lnTo>
                    <a:lnTo>
                      <a:pt x="3234" y="1020"/>
                    </a:lnTo>
                    <a:lnTo>
                      <a:pt x="3150" y="1020"/>
                    </a:lnTo>
                    <a:lnTo>
                      <a:pt x="3066" y="1020"/>
                    </a:lnTo>
                    <a:lnTo>
                      <a:pt x="2982" y="1020"/>
                    </a:lnTo>
                    <a:lnTo>
                      <a:pt x="2904" y="1020"/>
                    </a:lnTo>
                    <a:lnTo>
                      <a:pt x="2820" y="1020"/>
                    </a:lnTo>
                    <a:lnTo>
                      <a:pt x="2736" y="1020"/>
                    </a:lnTo>
                    <a:lnTo>
                      <a:pt x="2652" y="1020"/>
                    </a:lnTo>
                    <a:lnTo>
                      <a:pt x="2568" y="1020"/>
                    </a:lnTo>
                    <a:lnTo>
                      <a:pt x="2490" y="1020"/>
                    </a:lnTo>
                    <a:lnTo>
                      <a:pt x="2406" y="1014"/>
                    </a:lnTo>
                    <a:lnTo>
                      <a:pt x="2322" y="1014"/>
                    </a:lnTo>
                    <a:lnTo>
                      <a:pt x="2238" y="1014"/>
                    </a:lnTo>
                    <a:lnTo>
                      <a:pt x="2154" y="1014"/>
                    </a:lnTo>
                    <a:lnTo>
                      <a:pt x="2070" y="1014"/>
                    </a:lnTo>
                    <a:lnTo>
                      <a:pt x="1992" y="1014"/>
                    </a:lnTo>
                    <a:lnTo>
                      <a:pt x="1908" y="1014"/>
                    </a:lnTo>
                    <a:lnTo>
                      <a:pt x="1824" y="1014"/>
                    </a:lnTo>
                    <a:lnTo>
                      <a:pt x="1740" y="1014"/>
                    </a:lnTo>
                    <a:lnTo>
                      <a:pt x="1656" y="1014"/>
                    </a:lnTo>
                    <a:lnTo>
                      <a:pt x="1578" y="1014"/>
                    </a:lnTo>
                    <a:lnTo>
                      <a:pt x="1494" y="1008"/>
                    </a:lnTo>
                    <a:lnTo>
                      <a:pt x="1410" y="1008"/>
                    </a:lnTo>
                    <a:lnTo>
                      <a:pt x="1326" y="1008"/>
                    </a:lnTo>
                    <a:lnTo>
                      <a:pt x="1242" y="1008"/>
                    </a:lnTo>
                    <a:lnTo>
                      <a:pt x="1158" y="1008"/>
                    </a:lnTo>
                    <a:lnTo>
                      <a:pt x="1080" y="1020"/>
                    </a:lnTo>
                    <a:lnTo>
                      <a:pt x="996" y="1020"/>
                    </a:lnTo>
                    <a:lnTo>
                      <a:pt x="912" y="1020"/>
                    </a:lnTo>
                    <a:lnTo>
                      <a:pt x="828" y="1020"/>
                    </a:lnTo>
                    <a:lnTo>
                      <a:pt x="744" y="1020"/>
                    </a:lnTo>
                    <a:lnTo>
                      <a:pt x="666" y="1014"/>
                    </a:lnTo>
                    <a:lnTo>
                      <a:pt x="582" y="1014"/>
                    </a:lnTo>
                    <a:lnTo>
                      <a:pt x="498" y="1020"/>
                    </a:lnTo>
                    <a:lnTo>
                      <a:pt x="414" y="1014"/>
                    </a:lnTo>
                    <a:lnTo>
                      <a:pt x="330" y="1002"/>
                    </a:lnTo>
                    <a:lnTo>
                      <a:pt x="246" y="1008"/>
                    </a:lnTo>
                    <a:lnTo>
                      <a:pt x="168" y="1014"/>
                    </a:lnTo>
                    <a:lnTo>
                      <a:pt x="84" y="1014"/>
                    </a:lnTo>
                    <a:lnTo>
                      <a:pt x="0" y="102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800360" y="2981160"/>
                <a:ext cx="5790960" cy="2581560"/>
              </a:xfrm>
              <a:custGeom>
                <a:avLst/>
                <a:gdLst/>
                <a:ahLst/>
                <a:rect l="l" t="t" r="r" b="b"/>
                <a:pathLst>
                  <a:path w="3648" h="1626">
                    <a:moveTo>
                      <a:pt x="0" y="1182"/>
                    </a:moveTo>
                    <a:lnTo>
                      <a:pt x="0" y="1182"/>
                    </a:lnTo>
                    <a:lnTo>
                      <a:pt x="84" y="204"/>
                    </a:lnTo>
                    <a:lnTo>
                      <a:pt x="168" y="0"/>
                    </a:lnTo>
                    <a:lnTo>
                      <a:pt x="246" y="246"/>
                    </a:lnTo>
                    <a:lnTo>
                      <a:pt x="330" y="456"/>
                    </a:lnTo>
                    <a:lnTo>
                      <a:pt x="414" y="864"/>
                    </a:lnTo>
                    <a:lnTo>
                      <a:pt x="498" y="918"/>
                    </a:lnTo>
                    <a:lnTo>
                      <a:pt x="582" y="1242"/>
                    </a:lnTo>
                    <a:lnTo>
                      <a:pt x="666" y="1350"/>
                    </a:lnTo>
                    <a:lnTo>
                      <a:pt x="744" y="1248"/>
                    </a:lnTo>
                    <a:lnTo>
                      <a:pt x="828" y="1266"/>
                    </a:lnTo>
                    <a:lnTo>
                      <a:pt x="912" y="1320"/>
                    </a:lnTo>
                    <a:lnTo>
                      <a:pt x="996" y="1380"/>
                    </a:lnTo>
                    <a:lnTo>
                      <a:pt x="1080" y="1398"/>
                    </a:lnTo>
                    <a:lnTo>
                      <a:pt x="1158" y="1434"/>
                    </a:lnTo>
                    <a:lnTo>
                      <a:pt x="1242" y="1470"/>
                    </a:lnTo>
                    <a:lnTo>
                      <a:pt x="1326" y="1488"/>
                    </a:lnTo>
                    <a:lnTo>
                      <a:pt x="1410" y="1506"/>
                    </a:lnTo>
                    <a:lnTo>
                      <a:pt x="1494" y="1536"/>
                    </a:lnTo>
                    <a:lnTo>
                      <a:pt x="1578" y="1554"/>
                    </a:lnTo>
                    <a:lnTo>
                      <a:pt x="1656" y="1572"/>
                    </a:lnTo>
                    <a:lnTo>
                      <a:pt x="1740" y="1590"/>
                    </a:lnTo>
                    <a:lnTo>
                      <a:pt x="1824" y="1596"/>
                    </a:lnTo>
                    <a:lnTo>
                      <a:pt x="1908" y="1596"/>
                    </a:lnTo>
                    <a:lnTo>
                      <a:pt x="1992" y="1608"/>
                    </a:lnTo>
                    <a:lnTo>
                      <a:pt x="2070" y="1608"/>
                    </a:lnTo>
                    <a:lnTo>
                      <a:pt x="2154" y="1614"/>
                    </a:lnTo>
                    <a:lnTo>
                      <a:pt x="2238" y="1620"/>
                    </a:lnTo>
                    <a:lnTo>
                      <a:pt x="2322" y="1620"/>
                    </a:lnTo>
                    <a:lnTo>
                      <a:pt x="2406" y="1620"/>
                    </a:lnTo>
                    <a:lnTo>
                      <a:pt x="2490" y="1626"/>
                    </a:lnTo>
                    <a:lnTo>
                      <a:pt x="2568" y="1626"/>
                    </a:lnTo>
                    <a:lnTo>
                      <a:pt x="2652" y="1626"/>
                    </a:lnTo>
                    <a:lnTo>
                      <a:pt x="2736" y="1626"/>
                    </a:lnTo>
                    <a:lnTo>
                      <a:pt x="2820" y="1626"/>
                    </a:lnTo>
                    <a:lnTo>
                      <a:pt x="2904" y="1626"/>
                    </a:lnTo>
                    <a:lnTo>
                      <a:pt x="2982" y="1626"/>
                    </a:lnTo>
                    <a:lnTo>
                      <a:pt x="3066" y="1626"/>
                    </a:lnTo>
                    <a:lnTo>
                      <a:pt x="3150" y="1626"/>
                    </a:lnTo>
                    <a:lnTo>
                      <a:pt x="3234" y="1626"/>
                    </a:lnTo>
                    <a:lnTo>
                      <a:pt x="3318" y="1626"/>
                    </a:lnTo>
                    <a:lnTo>
                      <a:pt x="3402" y="1626"/>
                    </a:lnTo>
                    <a:lnTo>
                      <a:pt x="3480" y="1626"/>
                    </a:lnTo>
                    <a:lnTo>
                      <a:pt x="3564" y="1626"/>
                    </a:lnTo>
                    <a:lnTo>
                      <a:pt x="3648" y="1626"/>
                    </a:lnTo>
                    <a:lnTo>
                      <a:pt x="3648" y="1626"/>
                    </a:lnTo>
                    <a:lnTo>
                      <a:pt x="3564" y="1626"/>
                    </a:lnTo>
                    <a:lnTo>
                      <a:pt x="3480" y="1626"/>
                    </a:lnTo>
                    <a:lnTo>
                      <a:pt x="3402" y="1626"/>
                    </a:lnTo>
                    <a:lnTo>
                      <a:pt x="3318" y="1626"/>
                    </a:lnTo>
                    <a:lnTo>
                      <a:pt x="3234" y="1626"/>
                    </a:lnTo>
                    <a:lnTo>
                      <a:pt x="3150" y="1626"/>
                    </a:lnTo>
                    <a:lnTo>
                      <a:pt x="3066" y="1626"/>
                    </a:lnTo>
                    <a:lnTo>
                      <a:pt x="2982" y="1626"/>
                    </a:lnTo>
                    <a:lnTo>
                      <a:pt x="2904" y="1626"/>
                    </a:lnTo>
                    <a:lnTo>
                      <a:pt x="2820" y="1626"/>
                    </a:lnTo>
                    <a:lnTo>
                      <a:pt x="2736" y="1626"/>
                    </a:lnTo>
                    <a:lnTo>
                      <a:pt x="2652" y="1626"/>
                    </a:lnTo>
                    <a:lnTo>
                      <a:pt x="2568" y="1626"/>
                    </a:lnTo>
                    <a:lnTo>
                      <a:pt x="2490" y="1626"/>
                    </a:lnTo>
                    <a:lnTo>
                      <a:pt x="2406" y="1620"/>
                    </a:lnTo>
                    <a:lnTo>
                      <a:pt x="2322" y="1620"/>
                    </a:lnTo>
                    <a:lnTo>
                      <a:pt x="2238" y="1620"/>
                    </a:lnTo>
                    <a:lnTo>
                      <a:pt x="2154" y="1620"/>
                    </a:lnTo>
                    <a:lnTo>
                      <a:pt x="2070" y="1620"/>
                    </a:lnTo>
                    <a:lnTo>
                      <a:pt x="1992" y="1614"/>
                    </a:lnTo>
                    <a:lnTo>
                      <a:pt x="1908" y="1614"/>
                    </a:lnTo>
                    <a:lnTo>
                      <a:pt x="1824" y="1608"/>
                    </a:lnTo>
                    <a:lnTo>
                      <a:pt x="1740" y="1608"/>
                    </a:lnTo>
                    <a:lnTo>
                      <a:pt x="1656" y="1596"/>
                    </a:lnTo>
                    <a:lnTo>
                      <a:pt x="1578" y="1578"/>
                    </a:lnTo>
                    <a:lnTo>
                      <a:pt x="1494" y="1578"/>
                    </a:lnTo>
                    <a:lnTo>
                      <a:pt x="1410" y="1542"/>
                    </a:lnTo>
                    <a:lnTo>
                      <a:pt x="1326" y="1536"/>
                    </a:lnTo>
                    <a:lnTo>
                      <a:pt x="1242" y="1530"/>
                    </a:lnTo>
                    <a:lnTo>
                      <a:pt x="1158" y="1500"/>
                    </a:lnTo>
                    <a:lnTo>
                      <a:pt x="1080" y="1464"/>
                    </a:lnTo>
                    <a:lnTo>
                      <a:pt x="996" y="1464"/>
                    </a:lnTo>
                    <a:lnTo>
                      <a:pt x="912" y="1452"/>
                    </a:lnTo>
                    <a:lnTo>
                      <a:pt x="828" y="1416"/>
                    </a:lnTo>
                    <a:lnTo>
                      <a:pt x="744" y="1392"/>
                    </a:lnTo>
                    <a:lnTo>
                      <a:pt x="666" y="1464"/>
                    </a:lnTo>
                    <a:lnTo>
                      <a:pt x="582" y="1392"/>
                    </a:lnTo>
                    <a:lnTo>
                      <a:pt x="498" y="1224"/>
                    </a:lnTo>
                    <a:lnTo>
                      <a:pt x="414" y="1218"/>
                    </a:lnTo>
                    <a:lnTo>
                      <a:pt x="330" y="1008"/>
                    </a:lnTo>
                    <a:lnTo>
                      <a:pt x="246" y="930"/>
                    </a:lnTo>
                    <a:lnTo>
                      <a:pt x="168" y="786"/>
                    </a:lnTo>
                    <a:lnTo>
                      <a:pt x="84" y="606"/>
                    </a:lnTo>
                    <a:lnTo>
                      <a:pt x="0" y="118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800360" y="2457360"/>
                <a:ext cx="5790960" cy="3105360"/>
              </a:xfrm>
              <a:custGeom>
                <a:avLst/>
                <a:gdLst/>
                <a:ahLst/>
                <a:rect l="l" t="t" r="r" b="b"/>
                <a:pathLst>
                  <a:path w="3648" h="1956">
                    <a:moveTo>
                      <a:pt x="0" y="1512"/>
                    </a:moveTo>
                    <a:lnTo>
                      <a:pt x="0" y="1512"/>
                    </a:lnTo>
                    <a:lnTo>
                      <a:pt x="84" y="534"/>
                    </a:lnTo>
                    <a:lnTo>
                      <a:pt x="168" y="12"/>
                    </a:lnTo>
                    <a:lnTo>
                      <a:pt x="246" y="0"/>
                    </a:lnTo>
                    <a:lnTo>
                      <a:pt x="330" y="306"/>
                    </a:lnTo>
                    <a:lnTo>
                      <a:pt x="414" y="852"/>
                    </a:lnTo>
                    <a:lnTo>
                      <a:pt x="498" y="996"/>
                    </a:lnTo>
                    <a:lnTo>
                      <a:pt x="582" y="1416"/>
                    </a:lnTo>
                    <a:lnTo>
                      <a:pt x="666" y="1530"/>
                    </a:lnTo>
                    <a:lnTo>
                      <a:pt x="744" y="1446"/>
                    </a:lnTo>
                    <a:lnTo>
                      <a:pt x="828" y="1506"/>
                    </a:lnTo>
                    <a:lnTo>
                      <a:pt x="912" y="1566"/>
                    </a:lnTo>
                    <a:lnTo>
                      <a:pt x="996" y="1650"/>
                    </a:lnTo>
                    <a:lnTo>
                      <a:pt x="1080" y="1680"/>
                    </a:lnTo>
                    <a:lnTo>
                      <a:pt x="1158" y="1728"/>
                    </a:lnTo>
                    <a:lnTo>
                      <a:pt x="1242" y="1764"/>
                    </a:lnTo>
                    <a:lnTo>
                      <a:pt x="1326" y="1788"/>
                    </a:lnTo>
                    <a:lnTo>
                      <a:pt x="1410" y="1818"/>
                    </a:lnTo>
                    <a:lnTo>
                      <a:pt x="1494" y="1854"/>
                    </a:lnTo>
                    <a:lnTo>
                      <a:pt x="1578" y="1872"/>
                    </a:lnTo>
                    <a:lnTo>
                      <a:pt x="1656" y="1896"/>
                    </a:lnTo>
                    <a:lnTo>
                      <a:pt x="1740" y="1908"/>
                    </a:lnTo>
                    <a:lnTo>
                      <a:pt x="1824" y="1914"/>
                    </a:lnTo>
                    <a:lnTo>
                      <a:pt x="1908" y="1920"/>
                    </a:lnTo>
                    <a:lnTo>
                      <a:pt x="1992" y="1932"/>
                    </a:lnTo>
                    <a:lnTo>
                      <a:pt x="2070" y="1938"/>
                    </a:lnTo>
                    <a:lnTo>
                      <a:pt x="2154" y="1944"/>
                    </a:lnTo>
                    <a:lnTo>
                      <a:pt x="2238" y="1944"/>
                    </a:lnTo>
                    <a:lnTo>
                      <a:pt x="2322" y="1950"/>
                    </a:lnTo>
                    <a:lnTo>
                      <a:pt x="2406" y="1950"/>
                    </a:lnTo>
                    <a:lnTo>
                      <a:pt x="2490" y="1956"/>
                    </a:lnTo>
                    <a:lnTo>
                      <a:pt x="2568" y="1956"/>
                    </a:lnTo>
                    <a:lnTo>
                      <a:pt x="2652" y="1956"/>
                    </a:lnTo>
                    <a:lnTo>
                      <a:pt x="2736" y="1956"/>
                    </a:lnTo>
                    <a:lnTo>
                      <a:pt x="2820" y="1956"/>
                    </a:lnTo>
                    <a:lnTo>
                      <a:pt x="2904" y="1956"/>
                    </a:lnTo>
                    <a:lnTo>
                      <a:pt x="2982" y="1956"/>
                    </a:lnTo>
                    <a:lnTo>
                      <a:pt x="3066" y="1956"/>
                    </a:lnTo>
                    <a:lnTo>
                      <a:pt x="3150" y="1956"/>
                    </a:lnTo>
                    <a:lnTo>
                      <a:pt x="3234" y="1956"/>
                    </a:lnTo>
                    <a:lnTo>
                      <a:pt x="3318" y="1956"/>
                    </a:lnTo>
                    <a:lnTo>
                      <a:pt x="3402" y="1956"/>
                    </a:lnTo>
                    <a:lnTo>
                      <a:pt x="3480" y="1956"/>
                    </a:lnTo>
                    <a:lnTo>
                      <a:pt x="3564" y="1956"/>
                    </a:lnTo>
                    <a:lnTo>
                      <a:pt x="3648" y="1956"/>
                    </a:lnTo>
                    <a:lnTo>
                      <a:pt x="3648" y="1956"/>
                    </a:lnTo>
                    <a:lnTo>
                      <a:pt x="3564" y="1956"/>
                    </a:lnTo>
                    <a:lnTo>
                      <a:pt x="3480" y="1956"/>
                    </a:lnTo>
                    <a:lnTo>
                      <a:pt x="3402" y="1956"/>
                    </a:lnTo>
                    <a:lnTo>
                      <a:pt x="3318" y="1956"/>
                    </a:lnTo>
                    <a:lnTo>
                      <a:pt x="3234" y="1956"/>
                    </a:lnTo>
                    <a:lnTo>
                      <a:pt x="3150" y="1956"/>
                    </a:lnTo>
                    <a:lnTo>
                      <a:pt x="3066" y="1956"/>
                    </a:lnTo>
                    <a:lnTo>
                      <a:pt x="2982" y="1956"/>
                    </a:lnTo>
                    <a:lnTo>
                      <a:pt x="2904" y="1956"/>
                    </a:lnTo>
                    <a:lnTo>
                      <a:pt x="2820" y="1956"/>
                    </a:lnTo>
                    <a:lnTo>
                      <a:pt x="2736" y="1956"/>
                    </a:lnTo>
                    <a:lnTo>
                      <a:pt x="2652" y="1956"/>
                    </a:lnTo>
                    <a:lnTo>
                      <a:pt x="2568" y="1956"/>
                    </a:lnTo>
                    <a:lnTo>
                      <a:pt x="2490" y="1956"/>
                    </a:lnTo>
                    <a:lnTo>
                      <a:pt x="2406" y="1950"/>
                    </a:lnTo>
                    <a:lnTo>
                      <a:pt x="2322" y="1950"/>
                    </a:lnTo>
                    <a:lnTo>
                      <a:pt x="2238" y="1950"/>
                    </a:lnTo>
                    <a:lnTo>
                      <a:pt x="2154" y="1944"/>
                    </a:lnTo>
                    <a:lnTo>
                      <a:pt x="2070" y="1938"/>
                    </a:lnTo>
                    <a:lnTo>
                      <a:pt x="1992" y="1938"/>
                    </a:lnTo>
                    <a:lnTo>
                      <a:pt x="1908" y="1926"/>
                    </a:lnTo>
                    <a:lnTo>
                      <a:pt x="1824" y="1926"/>
                    </a:lnTo>
                    <a:lnTo>
                      <a:pt x="1740" y="1920"/>
                    </a:lnTo>
                    <a:lnTo>
                      <a:pt x="1656" y="1902"/>
                    </a:lnTo>
                    <a:lnTo>
                      <a:pt x="1578" y="1884"/>
                    </a:lnTo>
                    <a:lnTo>
                      <a:pt x="1494" y="1866"/>
                    </a:lnTo>
                    <a:lnTo>
                      <a:pt x="1410" y="1836"/>
                    </a:lnTo>
                    <a:lnTo>
                      <a:pt x="1326" y="1818"/>
                    </a:lnTo>
                    <a:lnTo>
                      <a:pt x="1242" y="1800"/>
                    </a:lnTo>
                    <a:lnTo>
                      <a:pt x="1158" y="1764"/>
                    </a:lnTo>
                    <a:lnTo>
                      <a:pt x="1080" y="1728"/>
                    </a:lnTo>
                    <a:lnTo>
                      <a:pt x="996" y="1710"/>
                    </a:lnTo>
                    <a:lnTo>
                      <a:pt x="912" y="1650"/>
                    </a:lnTo>
                    <a:lnTo>
                      <a:pt x="828" y="1596"/>
                    </a:lnTo>
                    <a:lnTo>
                      <a:pt x="744" y="1578"/>
                    </a:lnTo>
                    <a:lnTo>
                      <a:pt x="666" y="1680"/>
                    </a:lnTo>
                    <a:lnTo>
                      <a:pt x="582" y="1572"/>
                    </a:lnTo>
                    <a:lnTo>
                      <a:pt x="498" y="1248"/>
                    </a:lnTo>
                    <a:lnTo>
                      <a:pt x="414" y="1194"/>
                    </a:lnTo>
                    <a:lnTo>
                      <a:pt x="330" y="786"/>
                    </a:lnTo>
                    <a:lnTo>
                      <a:pt x="246" y="576"/>
                    </a:lnTo>
                    <a:lnTo>
                      <a:pt x="168" y="330"/>
                    </a:lnTo>
                    <a:lnTo>
                      <a:pt x="84" y="534"/>
                    </a:lnTo>
                    <a:lnTo>
                      <a:pt x="0" y="1512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800360" y="2104920"/>
                <a:ext cx="5790960" cy="3457800"/>
              </a:xfrm>
              <a:custGeom>
                <a:avLst/>
                <a:gdLst/>
                <a:ahLst/>
                <a:rect l="l" t="t" r="r" b="b"/>
                <a:pathLst>
                  <a:path w="3648" h="2178">
                    <a:moveTo>
                      <a:pt x="0" y="1734"/>
                    </a:moveTo>
                    <a:lnTo>
                      <a:pt x="0" y="1734"/>
                    </a:lnTo>
                    <a:lnTo>
                      <a:pt x="84" y="756"/>
                    </a:lnTo>
                    <a:lnTo>
                      <a:pt x="168" y="234"/>
                    </a:lnTo>
                    <a:lnTo>
                      <a:pt x="246" y="0"/>
                    </a:lnTo>
                    <a:lnTo>
                      <a:pt x="330" y="78"/>
                    </a:lnTo>
                    <a:lnTo>
                      <a:pt x="414" y="804"/>
                    </a:lnTo>
                    <a:lnTo>
                      <a:pt x="498" y="906"/>
                    </a:lnTo>
                    <a:lnTo>
                      <a:pt x="582" y="1410"/>
                    </a:lnTo>
                    <a:lnTo>
                      <a:pt x="666" y="1560"/>
                    </a:lnTo>
                    <a:lnTo>
                      <a:pt x="744" y="1458"/>
                    </a:lnTo>
                    <a:lnTo>
                      <a:pt x="828" y="1542"/>
                    </a:lnTo>
                    <a:lnTo>
                      <a:pt x="912" y="1656"/>
                    </a:lnTo>
                    <a:lnTo>
                      <a:pt x="996" y="1782"/>
                    </a:lnTo>
                    <a:lnTo>
                      <a:pt x="1080" y="1830"/>
                    </a:lnTo>
                    <a:lnTo>
                      <a:pt x="1158" y="1866"/>
                    </a:lnTo>
                    <a:lnTo>
                      <a:pt x="1242" y="1908"/>
                    </a:lnTo>
                    <a:lnTo>
                      <a:pt x="1326" y="1956"/>
                    </a:lnTo>
                    <a:lnTo>
                      <a:pt x="1410" y="1998"/>
                    </a:lnTo>
                    <a:lnTo>
                      <a:pt x="1494" y="2040"/>
                    </a:lnTo>
                    <a:lnTo>
                      <a:pt x="1578" y="2070"/>
                    </a:lnTo>
                    <a:lnTo>
                      <a:pt x="1656" y="2100"/>
                    </a:lnTo>
                    <a:lnTo>
                      <a:pt x="1740" y="2112"/>
                    </a:lnTo>
                    <a:lnTo>
                      <a:pt x="1824" y="2118"/>
                    </a:lnTo>
                    <a:lnTo>
                      <a:pt x="1908" y="2130"/>
                    </a:lnTo>
                    <a:lnTo>
                      <a:pt x="1992" y="2142"/>
                    </a:lnTo>
                    <a:lnTo>
                      <a:pt x="2070" y="2148"/>
                    </a:lnTo>
                    <a:lnTo>
                      <a:pt x="2154" y="2154"/>
                    </a:lnTo>
                    <a:lnTo>
                      <a:pt x="2238" y="2160"/>
                    </a:lnTo>
                    <a:lnTo>
                      <a:pt x="2322" y="2166"/>
                    </a:lnTo>
                    <a:lnTo>
                      <a:pt x="2406" y="2172"/>
                    </a:lnTo>
                    <a:lnTo>
                      <a:pt x="2490" y="2172"/>
                    </a:lnTo>
                    <a:lnTo>
                      <a:pt x="2568" y="2172"/>
                    </a:lnTo>
                    <a:lnTo>
                      <a:pt x="2652" y="2172"/>
                    </a:lnTo>
                    <a:lnTo>
                      <a:pt x="2736" y="2172"/>
                    </a:lnTo>
                    <a:lnTo>
                      <a:pt x="2820" y="2178"/>
                    </a:lnTo>
                    <a:lnTo>
                      <a:pt x="2904" y="2178"/>
                    </a:lnTo>
                    <a:lnTo>
                      <a:pt x="2982" y="2178"/>
                    </a:lnTo>
                    <a:lnTo>
                      <a:pt x="3066" y="2178"/>
                    </a:lnTo>
                    <a:lnTo>
                      <a:pt x="3150" y="2178"/>
                    </a:lnTo>
                    <a:lnTo>
                      <a:pt x="3234" y="2178"/>
                    </a:lnTo>
                    <a:lnTo>
                      <a:pt x="3318" y="2178"/>
                    </a:lnTo>
                    <a:lnTo>
                      <a:pt x="3402" y="2178"/>
                    </a:lnTo>
                    <a:lnTo>
                      <a:pt x="3480" y="2178"/>
                    </a:lnTo>
                    <a:lnTo>
                      <a:pt x="3564" y="2178"/>
                    </a:lnTo>
                    <a:lnTo>
                      <a:pt x="3648" y="2178"/>
                    </a:lnTo>
                    <a:lnTo>
                      <a:pt x="3648" y="2178"/>
                    </a:lnTo>
                    <a:lnTo>
                      <a:pt x="3564" y="2178"/>
                    </a:lnTo>
                    <a:lnTo>
                      <a:pt x="3480" y="2178"/>
                    </a:lnTo>
                    <a:lnTo>
                      <a:pt x="3402" y="2178"/>
                    </a:lnTo>
                    <a:lnTo>
                      <a:pt x="3318" y="2178"/>
                    </a:lnTo>
                    <a:lnTo>
                      <a:pt x="3234" y="2178"/>
                    </a:lnTo>
                    <a:lnTo>
                      <a:pt x="3150" y="2178"/>
                    </a:lnTo>
                    <a:lnTo>
                      <a:pt x="3066" y="2178"/>
                    </a:lnTo>
                    <a:lnTo>
                      <a:pt x="2982" y="2178"/>
                    </a:lnTo>
                    <a:lnTo>
                      <a:pt x="2904" y="2178"/>
                    </a:lnTo>
                    <a:lnTo>
                      <a:pt x="2820" y="2178"/>
                    </a:lnTo>
                    <a:lnTo>
                      <a:pt x="2736" y="2178"/>
                    </a:lnTo>
                    <a:lnTo>
                      <a:pt x="2652" y="2178"/>
                    </a:lnTo>
                    <a:lnTo>
                      <a:pt x="2568" y="2178"/>
                    </a:lnTo>
                    <a:lnTo>
                      <a:pt x="2490" y="2178"/>
                    </a:lnTo>
                    <a:lnTo>
                      <a:pt x="2406" y="2172"/>
                    </a:lnTo>
                    <a:lnTo>
                      <a:pt x="2322" y="2172"/>
                    </a:lnTo>
                    <a:lnTo>
                      <a:pt x="2238" y="2166"/>
                    </a:lnTo>
                    <a:lnTo>
                      <a:pt x="2154" y="2166"/>
                    </a:lnTo>
                    <a:lnTo>
                      <a:pt x="2070" y="2160"/>
                    </a:lnTo>
                    <a:lnTo>
                      <a:pt x="1992" y="2154"/>
                    </a:lnTo>
                    <a:lnTo>
                      <a:pt x="1908" y="2142"/>
                    </a:lnTo>
                    <a:lnTo>
                      <a:pt x="1824" y="2136"/>
                    </a:lnTo>
                    <a:lnTo>
                      <a:pt x="1740" y="2130"/>
                    </a:lnTo>
                    <a:lnTo>
                      <a:pt x="1656" y="2118"/>
                    </a:lnTo>
                    <a:lnTo>
                      <a:pt x="1578" y="2094"/>
                    </a:lnTo>
                    <a:lnTo>
                      <a:pt x="1494" y="2076"/>
                    </a:lnTo>
                    <a:lnTo>
                      <a:pt x="1410" y="2040"/>
                    </a:lnTo>
                    <a:lnTo>
                      <a:pt x="1326" y="2010"/>
                    </a:lnTo>
                    <a:lnTo>
                      <a:pt x="1242" y="1986"/>
                    </a:lnTo>
                    <a:lnTo>
                      <a:pt x="1158" y="1950"/>
                    </a:lnTo>
                    <a:lnTo>
                      <a:pt x="1080" y="1902"/>
                    </a:lnTo>
                    <a:lnTo>
                      <a:pt x="996" y="1872"/>
                    </a:lnTo>
                    <a:lnTo>
                      <a:pt x="912" y="1788"/>
                    </a:lnTo>
                    <a:lnTo>
                      <a:pt x="828" y="1728"/>
                    </a:lnTo>
                    <a:lnTo>
                      <a:pt x="744" y="1668"/>
                    </a:lnTo>
                    <a:lnTo>
                      <a:pt x="666" y="1752"/>
                    </a:lnTo>
                    <a:lnTo>
                      <a:pt x="582" y="1638"/>
                    </a:lnTo>
                    <a:lnTo>
                      <a:pt x="498" y="1218"/>
                    </a:lnTo>
                    <a:lnTo>
                      <a:pt x="414" y="1074"/>
                    </a:lnTo>
                    <a:lnTo>
                      <a:pt x="330" y="528"/>
                    </a:lnTo>
                    <a:lnTo>
                      <a:pt x="246" y="222"/>
                    </a:lnTo>
                    <a:lnTo>
                      <a:pt x="168" y="234"/>
                    </a:lnTo>
                    <a:lnTo>
                      <a:pt x="84" y="756"/>
                    </a:lnTo>
                    <a:lnTo>
                      <a:pt x="0" y="1734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00360" y="1952640"/>
                <a:ext cx="5790960" cy="3610080"/>
              </a:xfrm>
              <a:custGeom>
                <a:avLst/>
                <a:gdLst/>
                <a:ahLst/>
                <a:rect l="l" t="t" r="r" b="b"/>
                <a:pathLst>
                  <a:path w="3648" h="2274">
                    <a:moveTo>
                      <a:pt x="0" y="1830"/>
                    </a:moveTo>
                    <a:lnTo>
                      <a:pt x="0" y="1830"/>
                    </a:lnTo>
                    <a:lnTo>
                      <a:pt x="84" y="852"/>
                    </a:lnTo>
                    <a:lnTo>
                      <a:pt x="168" y="330"/>
                    </a:lnTo>
                    <a:lnTo>
                      <a:pt x="246" y="96"/>
                    </a:lnTo>
                    <a:lnTo>
                      <a:pt x="330" y="0"/>
                    </a:lnTo>
                    <a:lnTo>
                      <a:pt x="414" y="450"/>
                    </a:lnTo>
                    <a:lnTo>
                      <a:pt x="498" y="480"/>
                    </a:lnTo>
                    <a:lnTo>
                      <a:pt x="582" y="1068"/>
                    </a:lnTo>
                    <a:lnTo>
                      <a:pt x="666" y="1218"/>
                    </a:lnTo>
                    <a:lnTo>
                      <a:pt x="744" y="1122"/>
                    </a:lnTo>
                    <a:lnTo>
                      <a:pt x="828" y="1170"/>
                    </a:lnTo>
                    <a:lnTo>
                      <a:pt x="912" y="1356"/>
                    </a:lnTo>
                    <a:lnTo>
                      <a:pt x="996" y="1554"/>
                    </a:lnTo>
                    <a:lnTo>
                      <a:pt x="1080" y="1656"/>
                    </a:lnTo>
                    <a:lnTo>
                      <a:pt x="1158" y="1740"/>
                    </a:lnTo>
                    <a:lnTo>
                      <a:pt x="1242" y="1830"/>
                    </a:lnTo>
                    <a:lnTo>
                      <a:pt x="1326" y="1902"/>
                    </a:lnTo>
                    <a:lnTo>
                      <a:pt x="1410" y="1974"/>
                    </a:lnTo>
                    <a:lnTo>
                      <a:pt x="1494" y="2040"/>
                    </a:lnTo>
                    <a:lnTo>
                      <a:pt x="1578" y="2088"/>
                    </a:lnTo>
                    <a:lnTo>
                      <a:pt x="1656" y="2142"/>
                    </a:lnTo>
                    <a:lnTo>
                      <a:pt x="1740" y="2172"/>
                    </a:lnTo>
                    <a:lnTo>
                      <a:pt x="1824" y="2190"/>
                    </a:lnTo>
                    <a:lnTo>
                      <a:pt x="1908" y="2202"/>
                    </a:lnTo>
                    <a:lnTo>
                      <a:pt x="1992" y="2226"/>
                    </a:lnTo>
                    <a:lnTo>
                      <a:pt x="2070" y="2238"/>
                    </a:lnTo>
                    <a:lnTo>
                      <a:pt x="2154" y="2250"/>
                    </a:lnTo>
                    <a:lnTo>
                      <a:pt x="2238" y="2256"/>
                    </a:lnTo>
                    <a:lnTo>
                      <a:pt x="2322" y="2262"/>
                    </a:lnTo>
                    <a:lnTo>
                      <a:pt x="2406" y="2268"/>
                    </a:lnTo>
                    <a:lnTo>
                      <a:pt x="2490" y="2268"/>
                    </a:lnTo>
                    <a:lnTo>
                      <a:pt x="2568" y="2268"/>
                    </a:lnTo>
                    <a:lnTo>
                      <a:pt x="2652" y="2268"/>
                    </a:lnTo>
                    <a:lnTo>
                      <a:pt x="2736" y="2268"/>
                    </a:lnTo>
                    <a:lnTo>
                      <a:pt x="2820" y="2274"/>
                    </a:lnTo>
                    <a:lnTo>
                      <a:pt x="2904" y="2274"/>
                    </a:lnTo>
                    <a:lnTo>
                      <a:pt x="2982" y="2274"/>
                    </a:lnTo>
                    <a:lnTo>
                      <a:pt x="3066" y="2274"/>
                    </a:lnTo>
                    <a:lnTo>
                      <a:pt x="3150" y="2274"/>
                    </a:lnTo>
                    <a:lnTo>
                      <a:pt x="3234" y="2274"/>
                    </a:lnTo>
                    <a:lnTo>
                      <a:pt x="3318" y="2274"/>
                    </a:lnTo>
                    <a:lnTo>
                      <a:pt x="3402" y="2274"/>
                    </a:lnTo>
                    <a:lnTo>
                      <a:pt x="3480" y="2274"/>
                    </a:lnTo>
                    <a:lnTo>
                      <a:pt x="3564" y="2274"/>
                    </a:lnTo>
                    <a:lnTo>
                      <a:pt x="3648" y="2274"/>
                    </a:lnTo>
                    <a:lnTo>
                      <a:pt x="3648" y="2274"/>
                    </a:lnTo>
                    <a:lnTo>
                      <a:pt x="3564" y="2274"/>
                    </a:lnTo>
                    <a:lnTo>
                      <a:pt x="3480" y="2274"/>
                    </a:lnTo>
                    <a:lnTo>
                      <a:pt x="3402" y="2274"/>
                    </a:lnTo>
                    <a:lnTo>
                      <a:pt x="3318" y="2274"/>
                    </a:lnTo>
                    <a:lnTo>
                      <a:pt x="3234" y="2274"/>
                    </a:lnTo>
                    <a:lnTo>
                      <a:pt x="3150" y="2274"/>
                    </a:lnTo>
                    <a:lnTo>
                      <a:pt x="3066" y="2274"/>
                    </a:lnTo>
                    <a:lnTo>
                      <a:pt x="2982" y="2274"/>
                    </a:lnTo>
                    <a:lnTo>
                      <a:pt x="2904" y="2274"/>
                    </a:lnTo>
                    <a:lnTo>
                      <a:pt x="2820" y="2274"/>
                    </a:lnTo>
                    <a:lnTo>
                      <a:pt x="2736" y="2268"/>
                    </a:lnTo>
                    <a:lnTo>
                      <a:pt x="2652" y="2268"/>
                    </a:lnTo>
                    <a:lnTo>
                      <a:pt x="2568" y="2268"/>
                    </a:lnTo>
                    <a:lnTo>
                      <a:pt x="2490" y="2268"/>
                    </a:lnTo>
                    <a:lnTo>
                      <a:pt x="2406" y="2268"/>
                    </a:lnTo>
                    <a:lnTo>
                      <a:pt x="2322" y="2262"/>
                    </a:lnTo>
                    <a:lnTo>
                      <a:pt x="2238" y="2256"/>
                    </a:lnTo>
                    <a:lnTo>
                      <a:pt x="2154" y="2250"/>
                    </a:lnTo>
                    <a:lnTo>
                      <a:pt x="2070" y="2244"/>
                    </a:lnTo>
                    <a:lnTo>
                      <a:pt x="1992" y="2238"/>
                    </a:lnTo>
                    <a:lnTo>
                      <a:pt x="1908" y="2226"/>
                    </a:lnTo>
                    <a:lnTo>
                      <a:pt x="1824" y="2214"/>
                    </a:lnTo>
                    <a:lnTo>
                      <a:pt x="1740" y="2208"/>
                    </a:lnTo>
                    <a:lnTo>
                      <a:pt x="1656" y="2196"/>
                    </a:lnTo>
                    <a:lnTo>
                      <a:pt x="1578" y="2166"/>
                    </a:lnTo>
                    <a:lnTo>
                      <a:pt x="1494" y="2136"/>
                    </a:lnTo>
                    <a:lnTo>
                      <a:pt x="1410" y="2094"/>
                    </a:lnTo>
                    <a:lnTo>
                      <a:pt x="1326" y="2052"/>
                    </a:lnTo>
                    <a:lnTo>
                      <a:pt x="1242" y="2004"/>
                    </a:lnTo>
                    <a:lnTo>
                      <a:pt x="1158" y="1962"/>
                    </a:lnTo>
                    <a:lnTo>
                      <a:pt x="1080" y="1926"/>
                    </a:lnTo>
                    <a:lnTo>
                      <a:pt x="996" y="1878"/>
                    </a:lnTo>
                    <a:lnTo>
                      <a:pt x="912" y="1752"/>
                    </a:lnTo>
                    <a:lnTo>
                      <a:pt x="828" y="1638"/>
                    </a:lnTo>
                    <a:lnTo>
                      <a:pt x="744" y="1554"/>
                    </a:lnTo>
                    <a:lnTo>
                      <a:pt x="666" y="1656"/>
                    </a:lnTo>
                    <a:lnTo>
                      <a:pt x="582" y="1506"/>
                    </a:lnTo>
                    <a:lnTo>
                      <a:pt x="498" y="1002"/>
                    </a:lnTo>
                    <a:lnTo>
                      <a:pt x="414" y="900"/>
                    </a:lnTo>
                    <a:lnTo>
                      <a:pt x="330" y="174"/>
                    </a:lnTo>
                    <a:lnTo>
                      <a:pt x="246" y="96"/>
                    </a:lnTo>
                    <a:lnTo>
                      <a:pt x="168" y="330"/>
                    </a:lnTo>
                    <a:lnTo>
                      <a:pt x="84" y="852"/>
                    </a:lnTo>
                    <a:lnTo>
                      <a:pt x="0" y="1830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00360" y="1952640"/>
                <a:ext cx="5790960" cy="3610080"/>
              </a:xfrm>
              <a:custGeom>
                <a:avLst/>
                <a:gdLst/>
                <a:ahLst/>
                <a:rect l="l" t="t" r="r" b="b"/>
                <a:pathLst>
                  <a:path w="3648" h="2274">
                    <a:moveTo>
                      <a:pt x="0" y="1830"/>
                    </a:moveTo>
                    <a:lnTo>
                      <a:pt x="0" y="1830"/>
                    </a:lnTo>
                    <a:lnTo>
                      <a:pt x="84" y="852"/>
                    </a:lnTo>
                    <a:lnTo>
                      <a:pt x="168" y="330"/>
                    </a:lnTo>
                    <a:lnTo>
                      <a:pt x="246" y="96"/>
                    </a:lnTo>
                    <a:lnTo>
                      <a:pt x="330" y="0"/>
                    </a:lnTo>
                    <a:lnTo>
                      <a:pt x="414" y="396"/>
                    </a:lnTo>
                    <a:lnTo>
                      <a:pt x="498" y="336"/>
                    </a:lnTo>
                    <a:lnTo>
                      <a:pt x="582" y="906"/>
                    </a:lnTo>
                    <a:lnTo>
                      <a:pt x="666" y="1104"/>
                    </a:lnTo>
                    <a:lnTo>
                      <a:pt x="744" y="1044"/>
                    </a:lnTo>
                    <a:lnTo>
                      <a:pt x="828" y="1098"/>
                    </a:lnTo>
                    <a:lnTo>
                      <a:pt x="912" y="1290"/>
                    </a:lnTo>
                    <a:lnTo>
                      <a:pt x="996" y="1518"/>
                    </a:lnTo>
                    <a:lnTo>
                      <a:pt x="1080" y="1632"/>
                    </a:lnTo>
                    <a:lnTo>
                      <a:pt x="1158" y="1722"/>
                    </a:lnTo>
                    <a:lnTo>
                      <a:pt x="1242" y="1818"/>
                    </a:lnTo>
                    <a:lnTo>
                      <a:pt x="1326" y="1884"/>
                    </a:lnTo>
                    <a:lnTo>
                      <a:pt x="1410" y="1968"/>
                    </a:lnTo>
                    <a:lnTo>
                      <a:pt x="1494" y="2028"/>
                    </a:lnTo>
                    <a:lnTo>
                      <a:pt x="1578" y="2082"/>
                    </a:lnTo>
                    <a:lnTo>
                      <a:pt x="1656" y="2142"/>
                    </a:lnTo>
                    <a:lnTo>
                      <a:pt x="1740" y="2172"/>
                    </a:lnTo>
                    <a:lnTo>
                      <a:pt x="1824" y="2184"/>
                    </a:lnTo>
                    <a:lnTo>
                      <a:pt x="1908" y="2202"/>
                    </a:lnTo>
                    <a:lnTo>
                      <a:pt x="1992" y="2226"/>
                    </a:lnTo>
                    <a:lnTo>
                      <a:pt x="2070" y="2238"/>
                    </a:lnTo>
                    <a:lnTo>
                      <a:pt x="2154" y="2250"/>
                    </a:lnTo>
                    <a:lnTo>
                      <a:pt x="2238" y="2256"/>
                    </a:lnTo>
                    <a:lnTo>
                      <a:pt x="2322" y="2262"/>
                    </a:lnTo>
                    <a:lnTo>
                      <a:pt x="2406" y="2268"/>
                    </a:lnTo>
                    <a:lnTo>
                      <a:pt x="2490" y="2268"/>
                    </a:lnTo>
                    <a:lnTo>
                      <a:pt x="2568" y="2268"/>
                    </a:lnTo>
                    <a:lnTo>
                      <a:pt x="2652" y="2268"/>
                    </a:lnTo>
                    <a:lnTo>
                      <a:pt x="2736" y="2268"/>
                    </a:lnTo>
                    <a:lnTo>
                      <a:pt x="2820" y="2274"/>
                    </a:lnTo>
                    <a:lnTo>
                      <a:pt x="2904" y="2274"/>
                    </a:lnTo>
                    <a:lnTo>
                      <a:pt x="2982" y="2274"/>
                    </a:lnTo>
                    <a:lnTo>
                      <a:pt x="3066" y="2274"/>
                    </a:lnTo>
                    <a:lnTo>
                      <a:pt x="3150" y="2274"/>
                    </a:lnTo>
                    <a:lnTo>
                      <a:pt x="3234" y="2274"/>
                    </a:lnTo>
                    <a:lnTo>
                      <a:pt x="3318" y="2274"/>
                    </a:lnTo>
                    <a:lnTo>
                      <a:pt x="3402" y="2274"/>
                    </a:lnTo>
                    <a:lnTo>
                      <a:pt x="3480" y="2274"/>
                    </a:lnTo>
                    <a:lnTo>
                      <a:pt x="3564" y="2274"/>
                    </a:lnTo>
                    <a:lnTo>
                      <a:pt x="3648" y="2274"/>
                    </a:lnTo>
                    <a:lnTo>
                      <a:pt x="3648" y="2274"/>
                    </a:lnTo>
                    <a:lnTo>
                      <a:pt x="3564" y="2274"/>
                    </a:lnTo>
                    <a:lnTo>
                      <a:pt x="3480" y="2274"/>
                    </a:lnTo>
                    <a:lnTo>
                      <a:pt x="3402" y="2274"/>
                    </a:lnTo>
                    <a:lnTo>
                      <a:pt x="3318" y="2274"/>
                    </a:lnTo>
                    <a:lnTo>
                      <a:pt x="3234" y="2274"/>
                    </a:lnTo>
                    <a:lnTo>
                      <a:pt x="3150" y="2274"/>
                    </a:lnTo>
                    <a:lnTo>
                      <a:pt x="3066" y="2274"/>
                    </a:lnTo>
                    <a:lnTo>
                      <a:pt x="2982" y="2274"/>
                    </a:lnTo>
                    <a:lnTo>
                      <a:pt x="2904" y="2274"/>
                    </a:lnTo>
                    <a:lnTo>
                      <a:pt x="2820" y="2274"/>
                    </a:lnTo>
                    <a:lnTo>
                      <a:pt x="2736" y="2268"/>
                    </a:lnTo>
                    <a:lnTo>
                      <a:pt x="2652" y="2268"/>
                    </a:lnTo>
                    <a:lnTo>
                      <a:pt x="2568" y="2268"/>
                    </a:lnTo>
                    <a:lnTo>
                      <a:pt x="2490" y="2268"/>
                    </a:lnTo>
                    <a:lnTo>
                      <a:pt x="2406" y="2268"/>
                    </a:lnTo>
                    <a:lnTo>
                      <a:pt x="2322" y="2262"/>
                    </a:lnTo>
                    <a:lnTo>
                      <a:pt x="2238" y="2256"/>
                    </a:lnTo>
                    <a:lnTo>
                      <a:pt x="2154" y="2250"/>
                    </a:lnTo>
                    <a:lnTo>
                      <a:pt x="2070" y="2238"/>
                    </a:lnTo>
                    <a:lnTo>
                      <a:pt x="1992" y="2226"/>
                    </a:lnTo>
                    <a:lnTo>
                      <a:pt x="1908" y="2202"/>
                    </a:lnTo>
                    <a:lnTo>
                      <a:pt x="1824" y="2190"/>
                    </a:lnTo>
                    <a:lnTo>
                      <a:pt x="1740" y="2172"/>
                    </a:lnTo>
                    <a:lnTo>
                      <a:pt x="1656" y="2142"/>
                    </a:lnTo>
                    <a:lnTo>
                      <a:pt x="1578" y="2088"/>
                    </a:lnTo>
                    <a:lnTo>
                      <a:pt x="1494" y="2040"/>
                    </a:lnTo>
                    <a:lnTo>
                      <a:pt x="1410" y="1974"/>
                    </a:lnTo>
                    <a:lnTo>
                      <a:pt x="1326" y="1902"/>
                    </a:lnTo>
                    <a:lnTo>
                      <a:pt x="1242" y="1830"/>
                    </a:lnTo>
                    <a:lnTo>
                      <a:pt x="1158" y="1740"/>
                    </a:lnTo>
                    <a:lnTo>
                      <a:pt x="1080" y="1656"/>
                    </a:lnTo>
                    <a:lnTo>
                      <a:pt x="996" y="1554"/>
                    </a:lnTo>
                    <a:lnTo>
                      <a:pt x="912" y="1356"/>
                    </a:lnTo>
                    <a:lnTo>
                      <a:pt x="828" y="1170"/>
                    </a:lnTo>
                    <a:lnTo>
                      <a:pt x="744" y="1122"/>
                    </a:lnTo>
                    <a:lnTo>
                      <a:pt x="666" y="1218"/>
                    </a:lnTo>
                    <a:lnTo>
                      <a:pt x="582" y="1068"/>
                    </a:lnTo>
                    <a:lnTo>
                      <a:pt x="498" y="480"/>
                    </a:lnTo>
                    <a:lnTo>
                      <a:pt x="414" y="450"/>
                    </a:lnTo>
                    <a:lnTo>
                      <a:pt x="330" y="0"/>
                    </a:lnTo>
                    <a:lnTo>
                      <a:pt x="246" y="96"/>
                    </a:lnTo>
                    <a:lnTo>
                      <a:pt x="168" y="330"/>
                    </a:lnTo>
                    <a:lnTo>
                      <a:pt x="84" y="852"/>
                    </a:lnTo>
                    <a:lnTo>
                      <a:pt x="0" y="183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800360" y="1952640"/>
                <a:ext cx="5790960" cy="3610080"/>
              </a:xfrm>
              <a:custGeom>
                <a:avLst/>
                <a:gdLst/>
                <a:ahLst/>
                <a:rect l="l" t="t" r="r" b="b"/>
                <a:pathLst>
                  <a:path w="3648" h="2274">
                    <a:moveTo>
                      <a:pt x="0" y="1830"/>
                    </a:moveTo>
                    <a:lnTo>
                      <a:pt x="0" y="1830"/>
                    </a:lnTo>
                    <a:lnTo>
                      <a:pt x="84" y="852"/>
                    </a:lnTo>
                    <a:lnTo>
                      <a:pt x="168" y="330"/>
                    </a:lnTo>
                    <a:lnTo>
                      <a:pt x="246" y="96"/>
                    </a:lnTo>
                    <a:lnTo>
                      <a:pt x="330" y="0"/>
                    </a:lnTo>
                    <a:lnTo>
                      <a:pt x="414" y="396"/>
                    </a:lnTo>
                    <a:lnTo>
                      <a:pt x="498" y="270"/>
                    </a:lnTo>
                    <a:lnTo>
                      <a:pt x="582" y="804"/>
                    </a:lnTo>
                    <a:lnTo>
                      <a:pt x="666" y="1038"/>
                    </a:lnTo>
                    <a:lnTo>
                      <a:pt x="744" y="960"/>
                    </a:lnTo>
                    <a:lnTo>
                      <a:pt x="828" y="1014"/>
                    </a:lnTo>
                    <a:lnTo>
                      <a:pt x="912" y="1236"/>
                    </a:lnTo>
                    <a:lnTo>
                      <a:pt x="996" y="1470"/>
                    </a:lnTo>
                    <a:lnTo>
                      <a:pt x="1080" y="1590"/>
                    </a:lnTo>
                    <a:lnTo>
                      <a:pt x="1158" y="1680"/>
                    </a:lnTo>
                    <a:lnTo>
                      <a:pt x="1242" y="1776"/>
                    </a:lnTo>
                    <a:lnTo>
                      <a:pt x="1326" y="1860"/>
                    </a:lnTo>
                    <a:lnTo>
                      <a:pt x="1410" y="1938"/>
                    </a:lnTo>
                    <a:lnTo>
                      <a:pt x="1494" y="1986"/>
                    </a:lnTo>
                    <a:lnTo>
                      <a:pt x="1578" y="2076"/>
                    </a:lnTo>
                    <a:lnTo>
                      <a:pt x="1656" y="2136"/>
                    </a:lnTo>
                    <a:lnTo>
                      <a:pt x="1740" y="2172"/>
                    </a:lnTo>
                    <a:lnTo>
                      <a:pt x="1824" y="2184"/>
                    </a:lnTo>
                    <a:lnTo>
                      <a:pt x="1908" y="2202"/>
                    </a:lnTo>
                    <a:lnTo>
                      <a:pt x="1992" y="2220"/>
                    </a:lnTo>
                    <a:lnTo>
                      <a:pt x="2070" y="2238"/>
                    </a:lnTo>
                    <a:lnTo>
                      <a:pt x="2154" y="2250"/>
                    </a:lnTo>
                    <a:lnTo>
                      <a:pt x="2238" y="2256"/>
                    </a:lnTo>
                    <a:lnTo>
                      <a:pt x="2322" y="2262"/>
                    </a:lnTo>
                    <a:lnTo>
                      <a:pt x="2406" y="2268"/>
                    </a:lnTo>
                    <a:lnTo>
                      <a:pt x="2490" y="2268"/>
                    </a:lnTo>
                    <a:lnTo>
                      <a:pt x="2568" y="2268"/>
                    </a:lnTo>
                    <a:lnTo>
                      <a:pt x="2652" y="2268"/>
                    </a:lnTo>
                    <a:lnTo>
                      <a:pt x="2736" y="2268"/>
                    </a:lnTo>
                    <a:lnTo>
                      <a:pt x="2820" y="2274"/>
                    </a:lnTo>
                    <a:lnTo>
                      <a:pt x="2904" y="2274"/>
                    </a:lnTo>
                    <a:lnTo>
                      <a:pt x="2982" y="2274"/>
                    </a:lnTo>
                    <a:lnTo>
                      <a:pt x="3066" y="2274"/>
                    </a:lnTo>
                    <a:lnTo>
                      <a:pt x="3150" y="2274"/>
                    </a:lnTo>
                    <a:lnTo>
                      <a:pt x="3234" y="2274"/>
                    </a:lnTo>
                    <a:lnTo>
                      <a:pt x="3318" y="2274"/>
                    </a:lnTo>
                    <a:lnTo>
                      <a:pt x="3402" y="2274"/>
                    </a:lnTo>
                    <a:lnTo>
                      <a:pt x="3480" y="2274"/>
                    </a:lnTo>
                    <a:lnTo>
                      <a:pt x="3564" y="2274"/>
                    </a:lnTo>
                    <a:lnTo>
                      <a:pt x="3648" y="2274"/>
                    </a:lnTo>
                    <a:lnTo>
                      <a:pt x="3648" y="2274"/>
                    </a:lnTo>
                    <a:lnTo>
                      <a:pt x="3564" y="2274"/>
                    </a:lnTo>
                    <a:lnTo>
                      <a:pt x="3480" y="2274"/>
                    </a:lnTo>
                    <a:lnTo>
                      <a:pt x="3402" y="2274"/>
                    </a:lnTo>
                    <a:lnTo>
                      <a:pt x="3318" y="2274"/>
                    </a:lnTo>
                    <a:lnTo>
                      <a:pt x="3234" y="2274"/>
                    </a:lnTo>
                    <a:lnTo>
                      <a:pt x="3150" y="2274"/>
                    </a:lnTo>
                    <a:lnTo>
                      <a:pt x="3066" y="2274"/>
                    </a:lnTo>
                    <a:lnTo>
                      <a:pt x="2982" y="2274"/>
                    </a:lnTo>
                    <a:lnTo>
                      <a:pt x="2904" y="2274"/>
                    </a:lnTo>
                    <a:lnTo>
                      <a:pt x="2820" y="2274"/>
                    </a:lnTo>
                    <a:lnTo>
                      <a:pt x="2736" y="2268"/>
                    </a:lnTo>
                    <a:lnTo>
                      <a:pt x="2652" y="2268"/>
                    </a:lnTo>
                    <a:lnTo>
                      <a:pt x="2568" y="2268"/>
                    </a:lnTo>
                    <a:lnTo>
                      <a:pt x="2490" y="2268"/>
                    </a:lnTo>
                    <a:lnTo>
                      <a:pt x="2406" y="2268"/>
                    </a:lnTo>
                    <a:lnTo>
                      <a:pt x="2322" y="2262"/>
                    </a:lnTo>
                    <a:lnTo>
                      <a:pt x="2238" y="2256"/>
                    </a:lnTo>
                    <a:lnTo>
                      <a:pt x="2154" y="2250"/>
                    </a:lnTo>
                    <a:lnTo>
                      <a:pt x="2070" y="2238"/>
                    </a:lnTo>
                    <a:lnTo>
                      <a:pt x="1992" y="2226"/>
                    </a:lnTo>
                    <a:lnTo>
                      <a:pt x="1908" y="2202"/>
                    </a:lnTo>
                    <a:lnTo>
                      <a:pt x="1824" y="2184"/>
                    </a:lnTo>
                    <a:lnTo>
                      <a:pt x="1740" y="2172"/>
                    </a:lnTo>
                    <a:lnTo>
                      <a:pt x="1656" y="2142"/>
                    </a:lnTo>
                    <a:lnTo>
                      <a:pt x="1578" y="2082"/>
                    </a:lnTo>
                    <a:lnTo>
                      <a:pt x="1494" y="2028"/>
                    </a:lnTo>
                    <a:lnTo>
                      <a:pt x="1410" y="1968"/>
                    </a:lnTo>
                    <a:lnTo>
                      <a:pt x="1326" y="1884"/>
                    </a:lnTo>
                    <a:lnTo>
                      <a:pt x="1242" y="1818"/>
                    </a:lnTo>
                    <a:lnTo>
                      <a:pt x="1158" y="1722"/>
                    </a:lnTo>
                    <a:lnTo>
                      <a:pt x="1080" y="1632"/>
                    </a:lnTo>
                    <a:lnTo>
                      <a:pt x="996" y="1518"/>
                    </a:lnTo>
                    <a:lnTo>
                      <a:pt x="912" y="1290"/>
                    </a:lnTo>
                    <a:lnTo>
                      <a:pt x="828" y="1098"/>
                    </a:lnTo>
                    <a:lnTo>
                      <a:pt x="744" y="1044"/>
                    </a:lnTo>
                    <a:lnTo>
                      <a:pt x="666" y="1104"/>
                    </a:lnTo>
                    <a:lnTo>
                      <a:pt x="582" y="906"/>
                    </a:lnTo>
                    <a:lnTo>
                      <a:pt x="498" y="336"/>
                    </a:lnTo>
                    <a:lnTo>
                      <a:pt x="414" y="396"/>
                    </a:lnTo>
                    <a:lnTo>
                      <a:pt x="330" y="0"/>
                    </a:lnTo>
                    <a:lnTo>
                      <a:pt x="246" y="96"/>
                    </a:lnTo>
                    <a:lnTo>
                      <a:pt x="168" y="330"/>
                    </a:lnTo>
                    <a:lnTo>
                      <a:pt x="84" y="852"/>
                    </a:lnTo>
                    <a:lnTo>
                      <a:pt x="0" y="183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800360" y="1952640"/>
                <a:ext cx="5790960" cy="3610080"/>
              </a:xfrm>
              <a:custGeom>
                <a:avLst/>
                <a:gdLst/>
                <a:ahLst/>
                <a:rect l="l" t="t" r="r" b="b"/>
                <a:pathLst>
                  <a:path w="3648" h="2274">
                    <a:moveTo>
                      <a:pt x="0" y="1830"/>
                    </a:moveTo>
                    <a:lnTo>
                      <a:pt x="0" y="1830"/>
                    </a:lnTo>
                    <a:lnTo>
                      <a:pt x="84" y="852"/>
                    </a:lnTo>
                    <a:lnTo>
                      <a:pt x="168" y="330"/>
                    </a:lnTo>
                    <a:lnTo>
                      <a:pt x="246" y="96"/>
                    </a:lnTo>
                    <a:lnTo>
                      <a:pt x="330" y="0"/>
                    </a:lnTo>
                    <a:lnTo>
                      <a:pt x="414" y="396"/>
                    </a:lnTo>
                    <a:lnTo>
                      <a:pt x="498" y="270"/>
                    </a:lnTo>
                    <a:lnTo>
                      <a:pt x="582" y="732"/>
                    </a:lnTo>
                    <a:lnTo>
                      <a:pt x="666" y="792"/>
                    </a:lnTo>
                    <a:lnTo>
                      <a:pt x="744" y="684"/>
                    </a:lnTo>
                    <a:lnTo>
                      <a:pt x="828" y="768"/>
                    </a:lnTo>
                    <a:lnTo>
                      <a:pt x="912" y="1044"/>
                    </a:lnTo>
                    <a:lnTo>
                      <a:pt x="996" y="1338"/>
                    </a:lnTo>
                    <a:lnTo>
                      <a:pt x="1080" y="1482"/>
                    </a:lnTo>
                    <a:lnTo>
                      <a:pt x="1158" y="1578"/>
                    </a:lnTo>
                    <a:lnTo>
                      <a:pt x="1242" y="1686"/>
                    </a:lnTo>
                    <a:lnTo>
                      <a:pt x="1326" y="1788"/>
                    </a:lnTo>
                    <a:lnTo>
                      <a:pt x="1410" y="1902"/>
                    </a:lnTo>
                    <a:lnTo>
                      <a:pt x="1494" y="1974"/>
                    </a:lnTo>
                    <a:lnTo>
                      <a:pt x="1578" y="2070"/>
                    </a:lnTo>
                    <a:lnTo>
                      <a:pt x="1656" y="2130"/>
                    </a:lnTo>
                    <a:lnTo>
                      <a:pt x="1740" y="2166"/>
                    </a:lnTo>
                    <a:lnTo>
                      <a:pt x="1824" y="2184"/>
                    </a:lnTo>
                    <a:lnTo>
                      <a:pt x="1908" y="2202"/>
                    </a:lnTo>
                    <a:lnTo>
                      <a:pt x="1992" y="2220"/>
                    </a:lnTo>
                    <a:lnTo>
                      <a:pt x="2070" y="2238"/>
                    </a:lnTo>
                    <a:lnTo>
                      <a:pt x="2154" y="2250"/>
                    </a:lnTo>
                    <a:lnTo>
                      <a:pt x="2238" y="2256"/>
                    </a:lnTo>
                    <a:lnTo>
                      <a:pt x="2322" y="2262"/>
                    </a:lnTo>
                    <a:lnTo>
                      <a:pt x="2406" y="2268"/>
                    </a:lnTo>
                    <a:lnTo>
                      <a:pt x="2490" y="2268"/>
                    </a:lnTo>
                    <a:lnTo>
                      <a:pt x="2568" y="2268"/>
                    </a:lnTo>
                    <a:lnTo>
                      <a:pt x="2652" y="2268"/>
                    </a:lnTo>
                    <a:lnTo>
                      <a:pt x="2736" y="2268"/>
                    </a:lnTo>
                    <a:lnTo>
                      <a:pt x="2820" y="2274"/>
                    </a:lnTo>
                    <a:lnTo>
                      <a:pt x="2904" y="2274"/>
                    </a:lnTo>
                    <a:lnTo>
                      <a:pt x="2982" y="2274"/>
                    </a:lnTo>
                    <a:lnTo>
                      <a:pt x="3066" y="2274"/>
                    </a:lnTo>
                    <a:lnTo>
                      <a:pt x="3150" y="2274"/>
                    </a:lnTo>
                    <a:lnTo>
                      <a:pt x="3234" y="2274"/>
                    </a:lnTo>
                    <a:lnTo>
                      <a:pt x="3318" y="2274"/>
                    </a:lnTo>
                    <a:lnTo>
                      <a:pt x="3402" y="2274"/>
                    </a:lnTo>
                    <a:lnTo>
                      <a:pt x="3480" y="2274"/>
                    </a:lnTo>
                    <a:lnTo>
                      <a:pt x="3564" y="2274"/>
                    </a:lnTo>
                    <a:lnTo>
                      <a:pt x="3648" y="2274"/>
                    </a:lnTo>
                    <a:lnTo>
                      <a:pt x="3648" y="2274"/>
                    </a:lnTo>
                    <a:lnTo>
                      <a:pt x="3564" y="2274"/>
                    </a:lnTo>
                    <a:lnTo>
                      <a:pt x="3480" y="2274"/>
                    </a:lnTo>
                    <a:lnTo>
                      <a:pt x="3402" y="2274"/>
                    </a:lnTo>
                    <a:lnTo>
                      <a:pt x="3318" y="2274"/>
                    </a:lnTo>
                    <a:lnTo>
                      <a:pt x="3234" y="2274"/>
                    </a:lnTo>
                    <a:lnTo>
                      <a:pt x="3150" y="2274"/>
                    </a:lnTo>
                    <a:lnTo>
                      <a:pt x="3066" y="2274"/>
                    </a:lnTo>
                    <a:lnTo>
                      <a:pt x="2982" y="2274"/>
                    </a:lnTo>
                    <a:lnTo>
                      <a:pt x="2904" y="2274"/>
                    </a:lnTo>
                    <a:lnTo>
                      <a:pt x="2820" y="2274"/>
                    </a:lnTo>
                    <a:lnTo>
                      <a:pt x="2736" y="2268"/>
                    </a:lnTo>
                    <a:lnTo>
                      <a:pt x="2652" y="2268"/>
                    </a:lnTo>
                    <a:lnTo>
                      <a:pt x="2568" y="2268"/>
                    </a:lnTo>
                    <a:lnTo>
                      <a:pt x="2490" y="2268"/>
                    </a:lnTo>
                    <a:lnTo>
                      <a:pt x="2406" y="2268"/>
                    </a:lnTo>
                    <a:lnTo>
                      <a:pt x="2322" y="2262"/>
                    </a:lnTo>
                    <a:lnTo>
                      <a:pt x="2238" y="2256"/>
                    </a:lnTo>
                    <a:lnTo>
                      <a:pt x="2154" y="2250"/>
                    </a:lnTo>
                    <a:lnTo>
                      <a:pt x="2070" y="2238"/>
                    </a:lnTo>
                    <a:lnTo>
                      <a:pt x="1992" y="2220"/>
                    </a:lnTo>
                    <a:lnTo>
                      <a:pt x="1908" y="2202"/>
                    </a:lnTo>
                    <a:lnTo>
                      <a:pt x="1824" y="2184"/>
                    </a:lnTo>
                    <a:lnTo>
                      <a:pt x="1740" y="2172"/>
                    </a:lnTo>
                    <a:lnTo>
                      <a:pt x="1656" y="2136"/>
                    </a:lnTo>
                    <a:lnTo>
                      <a:pt x="1578" y="2076"/>
                    </a:lnTo>
                    <a:lnTo>
                      <a:pt x="1494" y="1986"/>
                    </a:lnTo>
                    <a:lnTo>
                      <a:pt x="1410" y="1938"/>
                    </a:lnTo>
                    <a:lnTo>
                      <a:pt x="1326" y="1860"/>
                    </a:lnTo>
                    <a:lnTo>
                      <a:pt x="1242" y="1776"/>
                    </a:lnTo>
                    <a:lnTo>
                      <a:pt x="1158" y="1680"/>
                    </a:lnTo>
                    <a:lnTo>
                      <a:pt x="1080" y="1590"/>
                    </a:lnTo>
                    <a:lnTo>
                      <a:pt x="996" y="1470"/>
                    </a:lnTo>
                    <a:lnTo>
                      <a:pt x="912" y="1236"/>
                    </a:lnTo>
                    <a:lnTo>
                      <a:pt x="828" y="1014"/>
                    </a:lnTo>
                    <a:lnTo>
                      <a:pt x="744" y="960"/>
                    </a:lnTo>
                    <a:lnTo>
                      <a:pt x="666" y="1038"/>
                    </a:lnTo>
                    <a:lnTo>
                      <a:pt x="582" y="804"/>
                    </a:lnTo>
                    <a:lnTo>
                      <a:pt x="498" y="270"/>
                    </a:lnTo>
                    <a:lnTo>
                      <a:pt x="414" y="396"/>
                    </a:lnTo>
                    <a:lnTo>
                      <a:pt x="330" y="0"/>
                    </a:lnTo>
                    <a:lnTo>
                      <a:pt x="246" y="96"/>
                    </a:lnTo>
                    <a:lnTo>
                      <a:pt x="168" y="330"/>
                    </a:lnTo>
                    <a:lnTo>
                      <a:pt x="84" y="852"/>
                    </a:lnTo>
                    <a:lnTo>
                      <a:pt x="0" y="183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800360" y="1952640"/>
                <a:ext cx="5790960" cy="3610080"/>
              </a:xfrm>
              <a:custGeom>
                <a:avLst/>
                <a:gdLst/>
                <a:ahLst/>
                <a:rect l="l" t="t" r="r" b="b"/>
                <a:pathLst>
                  <a:path w="3648" h="2274">
                    <a:moveTo>
                      <a:pt x="0" y="1830"/>
                    </a:moveTo>
                    <a:lnTo>
                      <a:pt x="0" y="1830"/>
                    </a:lnTo>
                    <a:lnTo>
                      <a:pt x="84" y="852"/>
                    </a:lnTo>
                    <a:lnTo>
                      <a:pt x="168" y="330"/>
                    </a:lnTo>
                    <a:lnTo>
                      <a:pt x="246" y="96"/>
                    </a:lnTo>
                    <a:lnTo>
                      <a:pt x="330" y="0"/>
                    </a:lnTo>
                    <a:lnTo>
                      <a:pt x="414" y="396"/>
                    </a:lnTo>
                    <a:lnTo>
                      <a:pt x="498" y="270"/>
                    </a:lnTo>
                    <a:lnTo>
                      <a:pt x="582" y="732"/>
                    </a:lnTo>
                    <a:lnTo>
                      <a:pt x="666" y="732"/>
                    </a:lnTo>
                    <a:lnTo>
                      <a:pt x="744" y="564"/>
                    </a:lnTo>
                    <a:lnTo>
                      <a:pt x="828" y="636"/>
                    </a:lnTo>
                    <a:lnTo>
                      <a:pt x="912" y="918"/>
                    </a:lnTo>
                    <a:lnTo>
                      <a:pt x="996" y="1242"/>
                    </a:lnTo>
                    <a:lnTo>
                      <a:pt x="1080" y="1410"/>
                    </a:lnTo>
                    <a:lnTo>
                      <a:pt x="1158" y="1530"/>
                    </a:lnTo>
                    <a:lnTo>
                      <a:pt x="1242" y="1650"/>
                    </a:lnTo>
                    <a:lnTo>
                      <a:pt x="1326" y="1758"/>
                    </a:lnTo>
                    <a:lnTo>
                      <a:pt x="1410" y="1890"/>
                    </a:lnTo>
                    <a:lnTo>
                      <a:pt x="1494" y="1956"/>
                    </a:lnTo>
                    <a:lnTo>
                      <a:pt x="1578" y="2052"/>
                    </a:lnTo>
                    <a:lnTo>
                      <a:pt x="1656" y="2118"/>
                    </a:lnTo>
                    <a:lnTo>
                      <a:pt x="1740" y="2160"/>
                    </a:lnTo>
                    <a:lnTo>
                      <a:pt x="1824" y="2178"/>
                    </a:lnTo>
                    <a:lnTo>
                      <a:pt x="1908" y="2202"/>
                    </a:lnTo>
                    <a:lnTo>
                      <a:pt x="1992" y="2220"/>
                    </a:lnTo>
                    <a:lnTo>
                      <a:pt x="2070" y="2238"/>
                    </a:lnTo>
                    <a:lnTo>
                      <a:pt x="2154" y="2250"/>
                    </a:lnTo>
                    <a:lnTo>
                      <a:pt x="2238" y="2256"/>
                    </a:lnTo>
                    <a:lnTo>
                      <a:pt x="2322" y="2262"/>
                    </a:lnTo>
                    <a:lnTo>
                      <a:pt x="2406" y="2268"/>
                    </a:lnTo>
                    <a:lnTo>
                      <a:pt x="2490" y="2268"/>
                    </a:lnTo>
                    <a:lnTo>
                      <a:pt x="2568" y="2268"/>
                    </a:lnTo>
                    <a:lnTo>
                      <a:pt x="2652" y="2268"/>
                    </a:lnTo>
                    <a:lnTo>
                      <a:pt x="2736" y="2268"/>
                    </a:lnTo>
                    <a:lnTo>
                      <a:pt x="2820" y="2274"/>
                    </a:lnTo>
                    <a:lnTo>
                      <a:pt x="2904" y="2274"/>
                    </a:lnTo>
                    <a:lnTo>
                      <a:pt x="2982" y="2274"/>
                    </a:lnTo>
                    <a:lnTo>
                      <a:pt x="3066" y="2274"/>
                    </a:lnTo>
                    <a:lnTo>
                      <a:pt x="3150" y="2274"/>
                    </a:lnTo>
                    <a:lnTo>
                      <a:pt x="3234" y="2274"/>
                    </a:lnTo>
                    <a:lnTo>
                      <a:pt x="3318" y="2274"/>
                    </a:lnTo>
                    <a:lnTo>
                      <a:pt x="3402" y="2274"/>
                    </a:lnTo>
                    <a:lnTo>
                      <a:pt x="3480" y="2274"/>
                    </a:lnTo>
                    <a:lnTo>
                      <a:pt x="3564" y="2274"/>
                    </a:lnTo>
                    <a:lnTo>
                      <a:pt x="3648" y="2274"/>
                    </a:lnTo>
                    <a:lnTo>
                      <a:pt x="3648" y="2274"/>
                    </a:lnTo>
                    <a:lnTo>
                      <a:pt x="3564" y="2274"/>
                    </a:lnTo>
                    <a:lnTo>
                      <a:pt x="3480" y="2274"/>
                    </a:lnTo>
                    <a:lnTo>
                      <a:pt x="3402" y="2274"/>
                    </a:lnTo>
                    <a:lnTo>
                      <a:pt x="3318" y="2274"/>
                    </a:lnTo>
                    <a:lnTo>
                      <a:pt x="3234" y="2274"/>
                    </a:lnTo>
                    <a:lnTo>
                      <a:pt x="3150" y="2274"/>
                    </a:lnTo>
                    <a:lnTo>
                      <a:pt x="3066" y="2274"/>
                    </a:lnTo>
                    <a:lnTo>
                      <a:pt x="2982" y="2274"/>
                    </a:lnTo>
                    <a:lnTo>
                      <a:pt x="2904" y="2274"/>
                    </a:lnTo>
                    <a:lnTo>
                      <a:pt x="2820" y="2274"/>
                    </a:lnTo>
                    <a:lnTo>
                      <a:pt x="2736" y="2268"/>
                    </a:lnTo>
                    <a:lnTo>
                      <a:pt x="2652" y="2268"/>
                    </a:lnTo>
                    <a:lnTo>
                      <a:pt x="2568" y="2268"/>
                    </a:lnTo>
                    <a:lnTo>
                      <a:pt x="2490" y="2268"/>
                    </a:lnTo>
                    <a:lnTo>
                      <a:pt x="2406" y="2268"/>
                    </a:lnTo>
                    <a:lnTo>
                      <a:pt x="2322" y="2262"/>
                    </a:lnTo>
                    <a:lnTo>
                      <a:pt x="2238" y="2256"/>
                    </a:lnTo>
                    <a:lnTo>
                      <a:pt x="2154" y="2250"/>
                    </a:lnTo>
                    <a:lnTo>
                      <a:pt x="2070" y="2238"/>
                    </a:lnTo>
                    <a:lnTo>
                      <a:pt x="1992" y="2220"/>
                    </a:lnTo>
                    <a:lnTo>
                      <a:pt x="1908" y="2202"/>
                    </a:lnTo>
                    <a:lnTo>
                      <a:pt x="1824" y="2184"/>
                    </a:lnTo>
                    <a:lnTo>
                      <a:pt x="1740" y="2166"/>
                    </a:lnTo>
                    <a:lnTo>
                      <a:pt x="1656" y="2130"/>
                    </a:lnTo>
                    <a:lnTo>
                      <a:pt x="1578" y="2070"/>
                    </a:lnTo>
                    <a:lnTo>
                      <a:pt x="1494" y="1974"/>
                    </a:lnTo>
                    <a:lnTo>
                      <a:pt x="1410" y="1902"/>
                    </a:lnTo>
                    <a:lnTo>
                      <a:pt x="1326" y="1788"/>
                    </a:lnTo>
                    <a:lnTo>
                      <a:pt x="1242" y="1686"/>
                    </a:lnTo>
                    <a:lnTo>
                      <a:pt x="1158" y="1578"/>
                    </a:lnTo>
                    <a:lnTo>
                      <a:pt x="1080" y="1482"/>
                    </a:lnTo>
                    <a:lnTo>
                      <a:pt x="996" y="1338"/>
                    </a:lnTo>
                    <a:lnTo>
                      <a:pt x="912" y="1044"/>
                    </a:lnTo>
                    <a:lnTo>
                      <a:pt x="828" y="768"/>
                    </a:lnTo>
                    <a:lnTo>
                      <a:pt x="744" y="684"/>
                    </a:lnTo>
                    <a:lnTo>
                      <a:pt x="666" y="792"/>
                    </a:lnTo>
                    <a:lnTo>
                      <a:pt x="582" y="732"/>
                    </a:lnTo>
                    <a:lnTo>
                      <a:pt x="498" y="270"/>
                    </a:lnTo>
                    <a:lnTo>
                      <a:pt x="414" y="396"/>
                    </a:lnTo>
                    <a:lnTo>
                      <a:pt x="330" y="0"/>
                    </a:lnTo>
                    <a:lnTo>
                      <a:pt x="246" y="96"/>
                    </a:lnTo>
                    <a:lnTo>
                      <a:pt x="168" y="330"/>
                    </a:lnTo>
                    <a:lnTo>
                      <a:pt x="84" y="852"/>
                    </a:lnTo>
                    <a:lnTo>
                      <a:pt x="0" y="183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800360" y="1952640"/>
                <a:ext cx="5790960" cy="3610080"/>
              </a:xfrm>
              <a:custGeom>
                <a:avLst/>
                <a:gdLst/>
                <a:ahLst/>
                <a:rect l="l" t="t" r="r" b="b"/>
                <a:pathLst>
                  <a:path w="3648" h="2274">
                    <a:moveTo>
                      <a:pt x="0" y="1830"/>
                    </a:moveTo>
                    <a:lnTo>
                      <a:pt x="0" y="1830"/>
                    </a:lnTo>
                    <a:lnTo>
                      <a:pt x="84" y="852"/>
                    </a:lnTo>
                    <a:lnTo>
                      <a:pt x="168" y="330"/>
                    </a:lnTo>
                    <a:lnTo>
                      <a:pt x="246" y="96"/>
                    </a:lnTo>
                    <a:lnTo>
                      <a:pt x="330" y="0"/>
                    </a:lnTo>
                    <a:lnTo>
                      <a:pt x="414" y="396"/>
                    </a:lnTo>
                    <a:lnTo>
                      <a:pt x="498" y="270"/>
                    </a:lnTo>
                    <a:lnTo>
                      <a:pt x="582" y="732"/>
                    </a:lnTo>
                    <a:lnTo>
                      <a:pt x="666" y="732"/>
                    </a:lnTo>
                    <a:lnTo>
                      <a:pt x="744" y="450"/>
                    </a:lnTo>
                    <a:lnTo>
                      <a:pt x="828" y="396"/>
                    </a:lnTo>
                    <a:lnTo>
                      <a:pt x="912" y="690"/>
                    </a:lnTo>
                    <a:lnTo>
                      <a:pt x="996" y="1074"/>
                    </a:lnTo>
                    <a:lnTo>
                      <a:pt x="1080" y="1302"/>
                    </a:lnTo>
                    <a:lnTo>
                      <a:pt x="1158" y="1452"/>
                    </a:lnTo>
                    <a:lnTo>
                      <a:pt x="1242" y="1596"/>
                    </a:lnTo>
                    <a:lnTo>
                      <a:pt x="1326" y="1734"/>
                    </a:lnTo>
                    <a:lnTo>
                      <a:pt x="1410" y="1866"/>
                    </a:lnTo>
                    <a:lnTo>
                      <a:pt x="1494" y="1938"/>
                    </a:lnTo>
                    <a:lnTo>
                      <a:pt x="1578" y="2040"/>
                    </a:lnTo>
                    <a:lnTo>
                      <a:pt x="1656" y="2106"/>
                    </a:lnTo>
                    <a:lnTo>
                      <a:pt x="1740" y="2148"/>
                    </a:lnTo>
                    <a:lnTo>
                      <a:pt x="1824" y="2172"/>
                    </a:lnTo>
                    <a:lnTo>
                      <a:pt x="1908" y="2196"/>
                    </a:lnTo>
                    <a:lnTo>
                      <a:pt x="1992" y="2214"/>
                    </a:lnTo>
                    <a:lnTo>
                      <a:pt x="2070" y="2232"/>
                    </a:lnTo>
                    <a:lnTo>
                      <a:pt x="2154" y="2244"/>
                    </a:lnTo>
                    <a:lnTo>
                      <a:pt x="2238" y="2250"/>
                    </a:lnTo>
                    <a:lnTo>
                      <a:pt x="2322" y="2256"/>
                    </a:lnTo>
                    <a:lnTo>
                      <a:pt x="2406" y="2262"/>
                    </a:lnTo>
                    <a:lnTo>
                      <a:pt x="2490" y="2268"/>
                    </a:lnTo>
                    <a:lnTo>
                      <a:pt x="2568" y="2268"/>
                    </a:lnTo>
                    <a:lnTo>
                      <a:pt x="2652" y="2268"/>
                    </a:lnTo>
                    <a:lnTo>
                      <a:pt x="2736" y="2268"/>
                    </a:lnTo>
                    <a:lnTo>
                      <a:pt x="2820" y="2274"/>
                    </a:lnTo>
                    <a:lnTo>
                      <a:pt x="2904" y="2274"/>
                    </a:lnTo>
                    <a:lnTo>
                      <a:pt x="2982" y="2274"/>
                    </a:lnTo>
                    <a:lnTo>
                      <a:pt x="3066" y="2274"/>
                    </a:lnTo>
                    <a:lnTo>
                      <a:pt x="3150" y="2274"/>
                    </a:lnTo>
                    <a:lnTo>
                      <a:pt x="3234" y="2274"/>
                    </a:lnTo>
                    <a:lnTo>
                      <a:pt x="3318" y="2274"/>
                    </a:lnTo>
                    <a:lnTo>
                      <a:pt x="3402" y="2274"/>
                    </a:lnTo>
                    <a:lnTo>
                      <a:pt x="3480" y="2274"/>
                    </a:lnTo>
                    <a:lnTo>
                      <a:pt x="3564" y="2274"/>
                    </a:lnTo>
                    <a:lnTo>
                      <a:pt x="3648" y="2274"/>
                    </a:lnTo>
                    <a:lnTo>
                      <a:pt x="3648" y="2274"/>
                    </a:lnTo>
                    <a:lnTo>
                      <a:pt x="3564" y="2274"/>
                    </a:lnTo>
                    <a:lnTo>
                      <a:pt x="3480" y="2274"/>
                    </a:lnTo>
                    <a:lnTo>
                      <a:pt x="3402" y="2274"/>
                    </a:lnTo>
                    <a:lnTo>
                      <a:pt x="3318" y="2274"/>
                    </a:lnTo>
                    <a:lnTo>
                      <a:pt x="3234" y="2274"/>
                    </a:lnTo>
                    <a:lnTo>
                      <a:pt x="3150" y="2274"/>
                    </a:lnTo>
                    <a:lnTo>
                      <a:pt x="3066" y="2274"/>
                    </a:lnTo>
                    <a:lnTo>
                      <a:pt x="2982" y="2274"/>
                    </a:lnTo>
                    <a:lnTo>
                      <a:pt x="2904" y="2274"/>
                    </a:lnTo>
                    <a:lnTo>
                      <a:pt x="2820" y="2274"/>
                    </a:lnTo>
                    <a:lnTo>
                      <a:pt x="2736" y="2268"/>
                    </a:lnTo>
                    <a:lnTo>
                      <a:pt x="2652" y="2268"/>
                    </a:lnTo>
                    <a:lnTo>
                      <a:pt x="2568" y="2268"/>
                    </a:lnTo>
                    <a:lnTo>
                      <a:pt x="2490" y="2268"/>
                    </a:lnTo>
                    <a:lnTo>
                      <a:pt x="2406" y="2268"/>
                    </a:lnTo>
                    <a:lnTo>
                      <a:pt x="2322" y="2262"/>
                    </a:lnTo>
                    <a:lnTo>
                      <a:pt x="2238" y="2256"/>
                    </a:lnTo>
                    <a:lnTo>
                      <a:pt x="2154" y="2250"/>
                    </a:lnTo>
                    <a:lnTo>
                      <a:pt x="2070" y="2238"/>
                    </a:lnTo>
                    <a:lnTo>
                      <a:pt x="1992" y="2220"/>
                    </a:lnTo>
                    <a:lnTo>
                      <a:pt x="1908" y="2202"/>
                    </a:lnTo>
                    <a:lnTo>
                      <a:pt x="1824" y="2178"/>
                    </a:lnTo>
                    <a:lnTo>
                      <a:pt x="1740" y="2160"/>
                    </a:lnTo>
                    <a:lnTo>
                      <a:pt x="1656" y="2118"/>
                    </a:lnTo>
                    <a:lnTo>
                      <a:pt x="1578" y="2052"/>
                    </a:lnTo>
                    <a:lnTo>
                      <a:pt x="1494" y="1956"/>
                    </a:lnTo>
                    <a:lnTo>
                      <a:pt x="1410" y="1890"/>
                    </a:lnTo>
                    <a:lnTo>
                      <a:pt x="1326" y="1758"/>
                    </a:lnTo>
                    <a:lnTo>
                      <a:pt x="1242" y="1650"/>
                    </a:lnTo>
                    <a:lnTo>
                      <a:pt x="1158" y="1530"/>
                    </a:lnTo>
                    <a:lnTo>
                      <a:pt x="1080" y="1410"/>
                    </a:lnTo>
                    <a:lnTo>
                      <a:pt x="996" y="1242"/>
                    </a:lnTo>
                    <a:lnTo>
                      <a:pt x="912" y="918"/>
                    </a:lnTo>
                    <a:lnTo>
                      <a:pt x="828" y="636"/>
                    </a:lnTo>
                    <a:lnTo>
                      <a:pt x="744" y="564"/>
                    </a:lnTo>
                    <a:lnTo>
                      <a:pt x="666" y="732"/>
                    </a:lnTo>
                    <a:lnTo>
                      <a:pt x="582" y="732"/>
                    </a:lnTo>
                    <a:lnTo>
                      <a:pt x="498" y="270"/>
                    </a:lnTo>
                    <a:lnTo>
                      <a:pt x="414" y="396"/>
                    </a:lnTo>
                    <a:lnTo>
                      <a:pt x="330" y="0"/>
                    </a:lnTo>
                    <a:lnTo>
                      <a:pt x="246" y="96"/>
                    </a:lnTo>
                    <a:lnTo>
                      <a:pt x="168" y="330"/>
                    </a:lnTo>
                    <a:lnTo>
                      <a:pt x="84" y="852"/>
                    </a:lnTo>
                    <a:lnTo>
                      <a:pt x="0" y="183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800360" y="1952640"/>
                <a:ext cx="5790960" cy="3610080"/>
              </a:xfrm>
              <a:custGeom>
                <a:avLst/>
                <a:gdLst/>
                <a:ahLst/>
                <a:rect l="l" t="t" r="r" b="b"/>
                <a:pathLst>
                  <a:path w="3648" h="2274">
                    <a:moveTo>
                      <a:pt x="0" y="1830"/>
                    </a:moveTo>
                    <a:lnTo>
                      <a:pt x="0" y="1830"/>
                    </a:lnTo>
                    <a:lnTo>
                      <a:pt x="84" y="852"/>
                    </a:lnTo>
                    <a:lnTo>
                      <a:pt x="168" y="330"/>
                    </a:lnTo>
                    <a:lnTo>
                      <a:pt x="246" y="96"/>
                    </a:lnTo>
                    <a:lnTo>
                      <a:pt x="330" y="0"/>
                    </a:lnTo>
                    <a:lnTo>
                      <a:pt x="414" y="396"/>
                    </a:lnTo>
                    <a:lnTo>
                      <a:pt x="498" y="270"/>
                    </a:lnTo>
                    <a:lnTo>
                      <a:pt x="582" y="732"/>
                    </a:lnTo>
                    <a:lnTo>
                      <a:pt x="666" y="732"/>
                    </a:lnTo>
                    <a:lnTo>
                      <a:pt x="744" y="450"/>
                    </a:lnTo>
                    <a:lnTo>
                      <a:pt x="828" y="312"/>
                    </a:lnTo>
                    <a:lnTo>
                      <a:pt x="912" y="546"/>
                    </a:lnTo>
                    <a:lnTo>
                      <a:pt x="996" y="960"/>
                    </a:lnTo>
                    <a:lnTo>
                      <a:pt x="1080" y="1218"/>
                    </a:lnTo>
                    <a:lnTo>
                      <a:pt x="1158" y="1380"/>
                    </a:lnTo>
                    <a:lnTo>
                      <a:pt x="1242" y="1542"/>
                    </a:lnTo>
                    <a:lnTo>
                      <a:pt x="1326" y="1692"/>
                    </a:lnTo>
                    <a:lnTo>
                      <a:pt x="1410" y="1836"/>
                    </a:lnTo>
                    <a:lnTo>
                      <a:pt x="1494" y="1908"/>
                    </a:lnTo>
                    <a:lnTo>
                      <a:pt x="1578" y="2016"/>
                    </a:lnTo>
                    <a:lnTo>
                      <a:pt x="1656" y="2076"/>
                    </a:lnTo>
                    <a:lnTo>
                      <a:pt x="1740" y="2118"/>
                    </a:lnTo>
                    <a:lnTo>
                      <a:pt x="1824" y="2154"/>
                    </a:lnTo>
                    <a:lnTo>
                      <a:pt x="1908" y="2184"/>
                    </a:lnTo>
                    <a:lnTo>
                      <a:pt x="1992" y="2208"/>
                    </a:lnTo>
                    <a:lnTo>
                      <a:pt x="2070" y="2226"/>
                    </a:lnTo>
                    <a:lnTo>
                      <a:pt x="2154" y="2238"/>
                    </a:lnTo>
                    <a:lnTo>
                      <a:pt x="2238" y="2250"/>
                    </a:lnTo>
                    <a:lnTo>
                      <a:pt x="2322" y="2256"/>
                    </a:lnTo>
                    <a:lnTo>
                      <a:pt x="2406" y="2262"/>
                    </a:lnTo>
                    <a:lnTo>
                      <a:pt x="2490" y="2268"/>
                    </a:lnTo>
                    <a:lnTo>
                      <a:pt x="2568" y="2268"/>
                    </a:lnTo>
                    <a:lnTo>
                      <a:pt x="2652" y="2268"/>
                    </a:lnTo>
                    <a:lnTo>
                      <a:pt x="2736" y="2268"/>
                    </a:lnTo>
                    <a:lnTo>
                      <a:pt x="2820" y="2274"/>
                    </a:lnTo>
                    <a:lnTo>
                      <a:pt x="2904" y="2274"/>
                    </a:lnTo>
                    <a:lnTo>
                      <a:pt x="2982" y="2274"/>
                    </a:lnTo>
                    <a:lnTo>
                      <a:pt x="3066" y="2274"/>
                    </a:lnTo>
                    <a:lnTo>
                      <a:pt x="3150" y="2274"/>
                    </a:lnTo>
                    <a:lnTo>
                      <a:pt x="3234" y="2274"/>
                    </a:lnTo>
                    <a:lnTo>
                      <a:pt x="3318" y="2274"/>
                    </a:lnTo>
                    <a:lnTo>
                      <a:pt x="3402" y="2274"/>
                    </a:lnTo>
                    <a:lnTo>
                      <a:pt x="3480" y="2274"/>
                    </a:lnTo>
                    <a:lnTo>
                      <a:pt x="3564" y="2274"/>
                    </a:lnTo>
                    <a:lnTo>
                      <a:pt x="3648" y="2274"/>
                    </a:lnTo>
                    <a:lnTo>
                      <a:pt x="3648" y="2274"/>
                    </a:lnTo>
                    <a:lnTo>
                      <a:pt x="3564" y="2274"/>
                    </a:lnTo>
                    <a:lnTo>
                      <a:pt x="3480" y="2274"/>
                    </a:lnTo>
                    <a:lnTo>
                      <a:pt x="3402" y="2274"/>
                    </a:lnTo>
                    <a:lnTo>
                      <a:pt x="3318" y="2274"/>
                    </a:lnTo>
                    <a:lnTo>
                      <a:pt x="3234" y="2274"/>
                    </a:lnTo>
                    <a:lnTo>
                      <a:pt x="3150" y="2274"/>
                    </a:lnTo>
                    <a:lnTo>
                      <a:pt x="3066" y="2274"/>
                    </a:lnTo>
                    <a:lnTo>
                      <a:pt x="2982" y="2274"/>
                    </a:lnTo>
                    <a:lnTo>
                      <a:pt x="2904" y="2274"/>
                    </a:lnTo>
                    <a:lnTo>
                      <a:pt x="2820" y="2274"/>
                    </a:lnTo>
                    <a:lnTo>
                      <a:pt x="2736" y="2268"/>
                    </a:lnTo>
                    <a:lnTo>
                      <a:pt x="2652" y="2268"/>
                    </a:lnTo>
                    <a:lnTo>
                      <a:pt x="2568" y="2268"/>
                    </a:lnTo>
                    <a:lnTo>
                      <a:pt x="2490" y="2268"/>
                    </a:lnTo>
                    <a:lnTo>
                      <a:pt x="2406" y="2262"/>
                    </a:lnTo>
                    <a:lnTo>
                      <a:pt x="2322" y="2256"/>
                    </a:lnTo>
                    <a:lnTo>
                      <a:pt x="2238" y="2250"/>
                    </a:lnTo>
                    <a:lnTo>
                      <a:pt x="2154" y="2244"/>
                    </a:lnTo>
                    <a:lnTo>
                      <a:pt x="2070" y="2232"/>
                    </a:lnTo>
                    <a:lnTo>
                      <a:pt x="1992" y="2214"/>
                    </a:lnTo>
                    <a:lnTo>
                      <a:pt x="1908" y="2196"/>
                    </a:lnTo>
                    <a:lnTo>
                      <a:pt x="1824" y="2172"/>
                    </a:lnTo>
                    <a:lnTo>
                      <a:pt x="1740" y="2148"/>
                    </a:lnTo>
                    <a:lnTo>
                      <a:pt x="1656" y="2106"/>
                    </a:lnTo>
                    <a:lnTo>
                      <a:pt x="1578" y="2040"/>
                    </a:lnTo>
                    <a:lnTo>
                      <a:pt x="1494" y="1938"/>
                    </a:lnTo>
                    <a:lnTo>
                      <a:pt x="1410" y="1866"/>
                    </a:lnTo>
                    <a:lnTo>
                      <a:pt x="1326" y="1734"/>
                    </a:lnTo>
                    <a:lnTo>
                      <a:pt x="1242" y="1596"/>
                    </a:lnTo>
                    <a:lnTo>
                      <a:pt x="1158" y="1452"/>
                    </a:lnTo>
                    <a:lnTo>
                      <a:pt x="1080" y="1302"/>
                    </a:lnTo>
                    <a:lnTo>
                      <a:pt x="996" y="1074"/>
                    </a:lnTo>
                    <a:lnTo>
                      <a:pt x="912" y="690"/>
                    </a:lnTo>
                    <a:lnTo>
                      <a:pt x="828" y="396"/>
                    </a:lnTo>
                    <a:lnTo>
                      <a:pt x="744" y="450"/>
                    </a:lnTo>
                    <a:lnTo>
                      <a:pt x="666" y="732"/>
                    </a:lnTo>
                    <a:lnTo>
                      <a:pt x="582" y="732"/>
                    </a:lnTo>
                    <a:lnTo>
                      <a:pt x="498" y="270"/>
                    </a:lnTo>
                    <a:lnTo>
                      <a:pt x="414" y="396"/>
                    </a:lnTo>
                    <a:lnTo>
                      <a:pt x="330" y="0"/>
                    </a:lnTo>
                    <a:lnTo>
                      <a:pt x="246" y="96"/>
                    </a:lnTo>
                    <a:lnTo>
                      <a:pt x="168" y="330"/>
                    </a:lnTo>
                    <a:lnTo>
                      <a:pt x="84" y="852"/>
                    </a:lnTo>
                    <a:lnTo>
                      <a:pt x="0" y="1830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800360" y="1952640"/>
                <a:ext cx="5790960" cy="3610080"/>
              </a:xfrm>
              <a:custGeom>
                <a:avLst/>
                <a:gdLst/>
                <a:ahLst/>
                <a:rect l="l" t="t" r="r" b="b"/>
                <a:pathLst>
                  <a:path w="3648" h="2274">
                    <a:moveTo>
                      <a:pt x="0" y="1830"/>
                    </a:moveTo>
                    <a:lnTo>
                      <a:pt x="0" y="1830"/>
                    </a:lnTo>
                    <a:lnTo>
                      <a:pt x="84" y="852"/>
                    </a:lnTo>
                    <a:lnTo>
                      <a:pt x="168" y="330"/>
                    </a:lnTo>
                    <a:lnTo>
                      <a:pt x="246" y="96"/>
                    </a:lnTo>
                    <a:lnTo>
                      <a:pt x="330" y="0"/>
                    </a:lnTo>
                    <a:lnTo>
                      <a:pt x="414" y="396"/>
                    </a:lnTo>
                    <a:lnTo>
                      <a:pt x="498" y="270"/>
                    </a:lnTo>
                    <a:lnTo>
                      <a:pt x="582" y="732"/>
                    </a:lnTo>
                    <a:lnTo>
                      <a:pt x="666" y="732"/>
                    </a:lnTo>
                    <a:lnTo>
                      <a:pt x="744" y="450"/>
                    </a:lnTo>
                    <a:lnTo>
                      <a:pt x="828" y="312"/>
                    </a:lnTo>
                    <a:lnTo>
                      <a:pt x="912" y="414"/>
                    </a:lnTo>
                    <a:lnTo>
                      <a:pt x="996" y="690"/>
                    </a:lnTo>
                    <a:lnTo>
                      <a:pt x="1080" y="1014"/>
                    </a:lnTo>
                    <a:lnTo>
                      <a:pt x="1158" y="1248"/>
                    </a:lnTo>
                    <a:lnTo>
                      <a:pt x="1242" y="1476"/>
                    </a:lnTo>
                    <a:lnTo>
                      <a:pt x="1326" y="1644"/>
                    </a:lnTo>
                    <a:lnTo>
                      <a:pt x="1410" y="1806"/>
                    </a:lnTo>
                    <a:lnTo>
                      <a:pt x="1494" y="1878"/>
                    </a:lnTo>
                    <a:lnTo>
                      <a:pt x="1578" y="1998"/>
                    </a:lnTo>
                    <a:lnTo>
                      <a:pt x="1656" y="2070"/>
                    </a:lnTo>
                    <a:lnTo>
                      <a:pt x="1740" y="2112"/>
                    </a:lnTo>
                    <a:lnTo>
                      <a:pt x="1824" y="2148"/>
                    </a:lnTo>
                    <a:lnTo>
                      <a:pt x="1908" y="2184"/>
                    </a:lnTo>
                    <a:lnTo>
                      <a:pt x="1992" y="2208"/>
                    </a:lnTo>
                    <a:lnTo>
                      <a:pt x="2070" y="2226"/>
                    </a:lnTo>
                    <a:lnTo>
                      <a:pt x="2154" y="2238"/>
                    </a:lnTo>
                    <a:lnTo>
                      <a:pt x="2238" y="2250"/>
                    </a:lnTo>
                    <a:lnTo>
                      <a:pt x="2322" y="2256"/>
                    </a:lnTo>
                    <a:lnTo>
                      <a:pt x="2406" y="2262"/>
                    </a:lnTo>
                    <a:lnTo>
                      <a:pt x="2490" y="2268"/>
                    </a:lnTo>
                    <a:lnTo>
                      <a:pt x="2568" y="2268"/>
                    </a:lnTo>
                    <a:lnTo>
                      <a:pt x="2652" y="2268"/>
                    </a:lnTo>
                    <a:lnTo>
                      <a:pt x="2736" y="2268"/>
                    </a:lnTo>
                    <a:lnTo>
                      <a:pt x="2820" y="2274"/>
                    </a:lnTo>
                    <a:lnTo>
                      <a:pt x="2904" y="2274"/>
                    </a:lnTo>
                    <a:lnTo>
                      <a:pt x="2982" y="2274"/>
                    </a:lnTo>
                    <a:lnTo>
                      <a:pt x="3066" y="2274"/>
                    </a:lnTo>
                    <a:lnTo>
                      <a:pt x="3150" y="2274"/>
                    </a:lnTo>
                    <a:lnTo>
                      <a:pt x="3234" y="2274"/>
                    </a:lnTo>
                    <a:lnTo>
                      <a:pt x="3318" y="2274"/>
                    </a:lnTo>
                    <a:lnTo>
                      <a:pt x="3402" y="2274"/>
                    </a:lnTo>
                    <a:lnTo>
                      <a:pt x="3480" y="2274"/>
                    </a:lnTo>
                    <a:lnTo>
                      <a:pt x="3564" y="2274"/>
                    </a:lnTo>
                    <a:lnTo>
                      <a:pt x="3648" y="2274"/>
                    </a:lnTo>
                    <a:lnTo>
                      <a:pt x="3648" y="2274"/>
                    </a:lnTo>
                    <a:lnTo>
                      <a:pt x="3564" y="2274"/>
                    </a:lnTo>
                    <a:lnTo>
                      <a:pt x="3480" y="2274"/>
                    </a:lnTo>
                    <a:lnTo>
                      <a:pt x="3402" y="2274"/>
                    </a:lnTo>
                    <a:lnTo>
                      <a:pt x="3318" y="2274"/>
                    </a:lnTo>
                    <a:lnTo>
                      <a:pt x="3234" y="2274"/>
                    </a:lnTo>
                    <a:lnTo>
                      <a:pt x="3150" y="2274"/>
                    </a:lnTo>
                    <a:lnTo>
                      <a:pt x="3066" y="2274"/>
                    </a:lnTo>
                    <a:lnTo>
                      <a:pt x="2982" y="2274"/>
                    </a:lnTo>
                    <a:lnTo>
                      <a:pt x="2904" y="2274"/>
                    </a:lnTo>
                    <a:lnTo>
                      <a:pt x="2820" y="2274"/>
                    </a:lnTo>
                    <a:lnTo>
                      <a:pt x="2736" y="2268"/>
                    </a:lnTo>
                    <a:lnTo>
                      <a:pt x="2652" y="2268"/>
                    </a:lnTo>
                    <a:lnTo>
                      <a:pt x="2568" y="2268"/>
                    </a:lnTo>
                    <a:lnTo>
                      <a:pt x="2490" y="2268"/>
                    </a:lnTo>
                    <a:lnTo>
                      <a:pt x="2406" y="2262"/>
                    </a:lnTo>
                    <a:lnTo>
                      <a:pt x="2322" y="2256"/>
                    </a:lnTo>
                    <a:lnTo>
                      <a:pt x="2238" y="2250"/>
                    </a:lnTo>
                    <a:lnTo>
                      <a:pt x="2154" y="2238"/>
                    </a:lnTo>
                    <a:lnTo>
                      <a:pt x="2070" y="2226"/>
                    </a:lnTo>
                    <a:lnTo>
                      <a:pt x="1992" y="2208"/>
                    </a:lnTo>
                    <a:lnTo>
                      <a:pt x="1908" y="2184"/>
                    </a:lnTo>
                    <a:lnTo>
                      <a:pt x="1824" y="2154"/>
                    </a:lnTo>
                    <a:lnTo>
                      <a:pt x="1740" y="2118"/>
                    </a:lnTo>
                    <a:lnTo>
                      <a:pt x="1656" y="2076"/>
                    </a:lnTo>
                    <a:lnTo>
                      <a:pt x="1578" y="2016"/>
                    </a:lnTo>
                    <a:lnTo>
                      <a:pt x="1494" y="1908"/>
                    </a:lnTo>
                    <a:lnTo>
                      <a:pt x="1410" y="1836"/>
                    </a:lnTo>
                    <a:lnTo>
                      <a:pt x="1326" y="1692"/>
                    </a:lnTo>
                    <a:lnTo>
                      <a:pt x="1242" y="1542"/>
                    </a:lnTo>
                    <a:lnTo>
                      <a:pt x="1158" y="1380"/>
                    </a:lnTo>
                    <a:lnTo>
                      <a:pt x="1080" y="1218"/>
                    </a:lnTo>
                    <a:lnTo>
                      <a:pt x="996" y="960"/>
                    </a:lnTo>
                    <a:lnTo>
                      <a:pt x="912" y="546"/>
                    </a:lnTo>
                    <a:lnTo>
                      <a:pt x="828" y="312"/>
                    </a:lnTo>
                    <a:lnTo>
                      <a:pt x="744" y="450"/>
                    </a:lnTo>
                    <a:lnTo>
                      <a:pt x="666" y="732"/>
                    </a:lnTo>
                    <a:lnTo>
                      <a:pt x="582" y="732"/>
                    </a:lnTo>
                    <a:lnTo>
                      <a:pt x="498" y="270"/>
                    </a:lnTo>
                    <a:lnTo>
                      <a:pt x="414" y="396"/>
                    </a:lnTo>
                    <a:lnTo>
                      <a:pt x="330" y="0"/>
                    </a:lnTo>
                    <a:lnTo>
                      <a:pt x="246" y="96"/>
                    </a:lnTo>
                    <a:lnTo>
                      <a:pt x="168" y="330"/>
                    </a:lnTo>
                    <a:lnTo>
                      <a:pt x="84" y="852"/>
                    </a:lnTo>
                    <a:lnTo>
                      <a:pt x="0" y="183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800360" y="1952640"/>
                <a:ext cx="5790960" cy="3610080"/>
              </a:xfrm>
              <a:custGeom>
                <a:avLst/>
                <a:gdLst/>
                <a:ahLst/>
                <a:rect l="l" t="t" r="r" b="b"/>
                <a:pathLst>
                  <a:path w="3648" h="2274">
                    <a:moveTo>
                      <a:pt x="0" y="1830"/>
                    </a:moveTo>
                    <a:lnTo>
                      <a:pt x="0" y="1830"/>
                    </a:lnTo>
                    <a:lnTo>
                      <a:pt x="84" y="852"/>
                    </a:lnTo>
                    <a:lnTo>
                      <a:pt x="168" y="330"/>
                    </a:lnTo>
                    <a:lnTo>
                      <a:pt x="246" y="96"/>
                    </a:lnTo>
                    <a:lnTo>
                      <a:pt x="330" y="0"/>
                    </a:lnTo>
                    <a:lnTo>
                      <a:pt x="414" y="396"/>
                    </a:lnTo>
                    <a:lnTo>
                      <a:pt x="498" y="270"/>
                    </a:lnTo>
                    <a:lnTo>
                      <a:pt x="582" y="732"/>
                    </a:lnTo>
                    <a:lnTo>
                      <a:pt x="666" y="732"/>
                    </a:lnTo>
                    <a:lnTo>
                      <a:pt x="744" y="450"/>
                    </a:lnTo>
                    <a:lnTo>
                      <a:pt x="828" y="312"/>
                    </a:lnTo>
                    <a:lnTo>
                      <a:pt x="912" y="414"/>
                    </a:lnTo>
                    <a:lnTo>
                      <a:pt x="996" y="570"/>
                    </a:lnTo>
                    <a:lnTo>
                      <a:pt x="1080" y="666"/>
                    </a:lnTo>
                    <a:lnTo>
                      <a:pt x="1158" y="1032"/>
                    </a:lnTo>
                    <a:lnTo>
                      <a:pt x="1242" y="1380"/>
                    </a:lnTo>
                    <a:lnTo>
                      <a:pt x="1326" y="1590"/>
                    </a:lnTo>
                    <a:lnTo>
                      <a:pt x="1410" y="1770"/>
                    </a:lnTo>
                    <a:lnTo>
                      <a:pt x="1494" y="1848"/>
                    </a:lnTo>
                    <a:lnTo>
                      <a:pt x="1578" y="1968"/>
                    </a:lnTo>
                    <a:lnTo>
                      <a:pt x="1656" y="2046"/>
                    </a:lnTo>
                    <a:lnTo>
                      <a:pt x="1740" y="2094"/>
                    </a:lnTo>
                    <a:lnTo>
                      <a:pt x="1824" y="2136"/>
                    </a:lnTo>
                    <a:lnTo>
                      <a:pt x="1908" y="2172"/>
                    </a:lnTo>
                    <a:lnTo>
                      <a:pt x="1992" y="2202"/>
                    </a:lnTo>
                    <a:lnTo>
                      <a:pt x="2070" y="2226"/>
                    </a:lnTo>
                    <a:lnTo>
                      <a:pt x="2154" y="2238"/>
                    </a:lnTo>
                    <a:lnTo>
                      <a:pt x="2238" y="2250"/>
                    </a:lnTo>
                    <a:lnTo>
                      <a:pt x="2322" y="2256"/>
                    </a:lnTo>
                    <a:lnTo>
                      <a:pt x="2406" y="2262"/>
                    </a:lnTo>
                    <a:lnTo>
                      <a:pt x="2490" y="2268"/>
                    </a:lnTo>
                    <a:lnTo>
                      <a:pt x="2568" y="2268"/>
                    </a:lnTo>
                    <a:lnTo>
                      <a:pt x="2652" y="2268"/>
                    </a:lnTo>
                    <a:lnTo>
                      <a:pt x="2736" y="2268"/>
                    </a:lnTo>
                    <a:lnTo>
                      <a:pt x="2820" y="2274"/>
                    </a:lnTo>
                    <a:lnTo>
                      <a:pt x="2904" y="2274"/>
                    </a:lnTo>
                    <a:lnTo>
                      <a:pt x="2982" y="2274"/>
                    </a:lnTo>
                    <a:lnTo>
                      <a:pt x="3066" y="2274"/>
                    </a:lnTo>
                    <a:lnTo>
                      <a:pt x="3150" y="2274"/>
                    </a:lnTo>
                    <a:lnTo>
                      <a:pt x="3234" y="2274"/>
                    </a:lnTo>
                    <a:lnTo>
                      <a:pt x="3318" y="2274"/>
                    </a:lnTo>
                    <a:lnTo>
                      <a:pt x="3402" y="2274"/>
                    </a:lnTo>
                    <a:lnTo>
                      <a:pt x="3480" y="2274"/>
                    </a:lnTo>
                    <a:lnTo>
                      <a:pt x="3564" y="2274"/>
                    </a:lnTo>
                    <a:lnTo>
                      <a:pt x="3648" y="2274"/>
                    </a:lnTo>
                    <a:lnTo>
                      <a:pt x="3648" y="2274"/>
                    </a:lnTo>
                    <a:lnTo>
                      <a:pt x="3564" y="2274"/>
                    </a:lnTo>
                    <a:lnTo>
                      <a:pt x="3480" y="2274"/>
                    </a:lnTo>
                    <a:lnTo>
                      <a:pt x="3402" y="2274"/>
                    </a:lnTo>
                    <a:lnTo>
                      <a:pt x="3318" y="2274"/>
                    </a:lnTo>
                    <a:lnTo>
                      <a:pt x="3234" y="2274"/>
                    </a:lnTo>
                    <a:lnTo>
                      <a:pt x="3150" y="2274"/>
                    </a:lnTo>
                    <a:lnTo>
                      <a:pt x="3066" y="2274"/>
                    </a:lnTo>
                    <a:lnTo>
                      <a:pt x="2982" y="2274"/>
                    </a:lnTo>
                    <a:lnTo>
                      <a:pt x="2904" y="2274"/>
                    </a:lnTo>
                    <a:lnTo>
                      <a:pt x="2820" y="2274"/>
                    </a:lnTo>
                    <a:lnTo>
                      <a:pt x="2736" y="2268"/>
                    </a:lnTo>
                    <a:lnTo>
                      <a:pt x="2652" y="2268"/>
                    </a:lnTo>
                    <a:lnTo>
                      <a:pt x="2568" y="2268"/>
                    </a:lnTo>
                    <a:lnTo>
                      <a:pt x="2490" y="2268"/>
                    </a:lnTo>
                    <a:lnTo>
                      <a:pt x="2406" y="2262"/>
                    </a:lnTo>
                    <a:lnTo>
                      <a:pt x="2322" y="2256"/>
                    </a:lnTo>
                    <a:lnTo>
                      <a:pt x="2238" y="2250"/>
                    </a:lnTo>
                    <a:lnTo>
                      <a:pt x="2154" y="2238"/>
                    </a:lnTo>
                    <a:lnTo>
                      <a:pt x="2070" y="2226"/>
                    </a:lnTo>
                    <a:lnTo>
                      <a:pt x="1992" y="2208"/>
                    </a:lnTo>
                    <a:lnTo>
                      <a:pt x="1908" y="2184"/>
                    </a:lnTo>
                    <a:lnTo>
                      <a:pt x="1824" y="2148"/>
                    </a:lnTo>
                    <a:lnTo>
                      <a:pt x="1740" y="2112"/>
                    </a:lnTo>
                    <a:lnTo>
                      <a:pt x="1656" y="2070"/>
                    </a:lnTo>
                    <a:lnTo>
                      <a:pt x="1578" y="1998"/>
                    </a:lnTo>
                    <a:lnTo>
                      <a:pt x="1494" y="1878"/>
                    </a:lnTo>
                    <a:lnTo>
                      <a:pt x="1410" y="1806"/>
                    </a:lnTo>
                    <a:lnTo>
                      <a:pt x="1326" y="1644"/>
                    </a:lnTo>
                    <a:lnTo>
                      <a:pt x="1242" y="1476"/>
                    </a:lnTo>
                    <a:lnTo>
                      <a:pt x="1158" y="1248"/>
                    </a:lnTo>
                    <a:lnTo>
                      <a:pt x="1080" y="1014"/>
                    </a:lnTo>
                    <a:lnTo>
                      <a:pt x="996" y="690"/>
                    </a:lnTo>
                    <a:lnTo>
                      <a:pt x="912" y="414"/>
                    </a:lnTo>
                    <a:lnTo>
                      <a:pt x="828" y="312"/>
                    </a:lnTo>
                    <a:lnTo>
                      <a:pt x="744" y="450"/>
                    </a:lnTo>
                    <a:lnTo>
                      <a:pt x="666" y="732"/>
                    </a:lnTo>
                    <a:lnTo>
                      <a:pt x="582" y="732"/>
                    </a:lnTo>
                    <a:lnTo>
                      <a:pt x="498" y="270"/>
                    </a:lnTo>
                    <a:lnTo>
                      <a:pt x="414" y="396"/>
                    </a:lnTo>
                    <a:lnTo>
                      <a:pt x="330" y="0"/>
                    </a:lnTo>
                    <a:lnTo>
                      <a:pt x="246" y="96"/>
                    </a:lnTo>
                    <a:lnTo>
                      <a:pt x="168" y="330"/>
                    </a:lnTo>
                    <a:lnTo>
                      <a:pt x="84" y="852"/>
                    </a:lnTo>
                    <a:lnTo>
                      <a:pt x="0" y="183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800360" y="1952640"/>
                <a:ext cx="5790960" cy="3610080"/>
              </a:xfrm>
              <a:custGeom>
                <a:avLst/>
                <a:gdLst/>
                <a:ahLst/>
                <a:rect l="l" t="t" r="r" b="b"/>
                <a:pathLst>
                  <a:path w="3648" h="2274">
                    <a:moveTo>
                      <a:pt x="0" y="1830"/>
                    </a:moveTo>
                    <a:lnTo>
                      <a:pt x="0" y="1830"/>
                    </a:lnTo>
                    <a:lnTo>
                      <a:pt x="84" y="852"/>
                    </a:lnTo>
                    <a:lnTo>
                      <a:pt x="168" y="330"/>
                    </a:lnTo>
                    <a:lnTo>
                      <a:pt x="246" y="96"/>
                    </a:lnTo>
                    <a:lnTo>
                      <a:pt x="330" y="0"/>
                    </a:lnTo>
                    <a:lnTo>
                      <a:pt x="414" y="396"/>
                    </a:lnTo>
                    <a:lnTo>
                      <a:pt x="498" y="270"/>
                    </a:lnTo>
                    <a:lnTo>
                      <a:pt x="582" y="732"/>
                    </a:lnTo>
                    <a:lnTo>
                      <a:pt x="666" y="732"/>
                    </a:lnTo>
                    <a:lnTo>
                      <a:pt x="744" y="450"/>
                    </a:lnTo>
                    <a:lnTo>
                      <a:pt x="828" y="312"/>
                    </a:lnTo>
                    <a:lnTo>
                      <a:pt x="912" y="414"/>
                    </a:lnTo>
                    <a:lnTo>
                      <a:pt x="996" y="570"/>
                    </a:lnTo>
                    <a:lnTo>
                      <a:pt x="1080" y="498"/>
                    </a:lnTo>
                    <a:lnTo>
                      <a:pt x="1158" y="762"/>
                    </a:lnTo>
                    <a:lnTo>
                      <a:pt x="1242" y="1152"/>
                    </a:lnTo>
                    <a:lnTo>
                      <a:pt x="1326" y="1380"/>
                    </a:lnTo>
                    <a:lnTo>
                      <a:pt x="1410" y="1578"/>
                    </a:lnTo>
                    <a:lnTo>
                      <a:pt x="1494" y="1668"/>
                    </a:lnTo>
                    <a:lnTo>
                      <a:pt x="1578" y="1824"/>
                    </a:lnTo>
                    <a:lnTo>
                      <a:pt x="1656" y="1944"/>
                    </a:lnTo>
                    <a:lnTo>
                      <a:pt x="1740" y="2016"/>
                    </a:lnTo>
                    <a:lnTo>
                      <a:pt x="1824" y="2100"/>
                    </a:lnTo>
                    <a:lnTo>
                      <a:pt x="1908" y="2148"/>
                    </a:lnTo>
                    <a:lnTo>
                      <a:pt x="1992" y="2184"/>
                    </a:lnTo>
                    <a:lnTo>
                      <a:pt x="2070" y="2208"/>
                    </a:lnTo>
                    <a:lnTo>
                      <a:pt x="2154" y="2226"/>
                    </a:lnTo>
                    <a:lnTo>
                      <a:pt x="2238" y="2238"/>
                    </a:lnTo>
                    <a:lnTo>
                      <a:pt x="2322" y="2250"/>
                    </a:lnTo>
                    <a:lnTo>
                      <a:pt x="2406" y="2262"/>
                    </a:lnTo>
                    <a:lnTo>
                      <a:pt x="2490" y="2262"/>
                    </a:lnTo>
                    <a:lnTo>
                      <a:pt x="2568" y="2268"/>
                    </a:lnTo>
                    <a:lnTo>
                      <a:pt x="2652" y="2268"/>
                    </a:lnTo>
                    <a:lnTo>
                      <a:pt x="2736" y="2268"/>
                    </a:lnTo>
                    <a:lnTo>
                      <a:pt x="2820" y="2268"/>
                    </a:lnTo>
                    <a:lnTo>
                      <a:pt x="2904" y="2274"/>
                    </a:lnTo>
                    <a:lnTo>
                      <a:pt x="2982" y="2274"/>
                    </a:lnTo>
                    <a:lnTo>
                      <a:pt x="3066" y="2274"/>
                    </a:lnTo>
                    <a:lnTo>
                      <a:pt x="3150" y="2274"/>
                    </a:lnTo>
                    <a:lnTo>
                      <a:pt x="3234" y="2274"/>
                    </a:lnTo>
                    <a:lnTo>
                      <a:pt x="3318" y="2274"/>
                    </a:lnTo>
                    <a:lnTo>
                      <a:pt x="3402" y="2274"/>
                    </a:lnTo>
                    <a:lnTo>
                      <a:pt x="3480" y="2274"/>
                    </a:lnTo>
                    <a:lnTo>
                      <a:pt x="3564" y="2274"/>
                    </a:lnTo>
                    <a:lnTo>
                      <a:pt x="3648" y="2274"/>
                    </a:lnTo>
                    <a:lnTo>
                      <a:pt x="3648" y="2274"/>
                    </a:lnTo>
                    <a:lnTo>
                      <a:pt x="3564" y="2274"/>
                    </a:lnTo>
                    <a:lnTo>
                      <a:pt x="3480" y="2274"/>
                    </a:lnTo>
                    <a:lnTo>
                      <a:pt x="3402" y="2274"/>
                    </a:lnTo>
                    <a:lnTo>
                      <a:pt x="3318" y="2274"/>
                    </a:lnTo>
                    <a:lnTo>
                      <a:pt x="3234" y="2274"/>
                    </a:lnTo>
                    <a:lnTo>
                      <a:pt x="3150" y="2274"/>
                    </a:lnTo>
                    <a:lnTo>
                      <a:pt x="3066" y="2274"/>
                    </a:lnTo>
                    <a:lnTo>
                      <a:pt x="2982" y="2274"/>
                    </a:lnTo>
                    <a:lnTo>
                      <a:pt x="2904" y="2274"/>
                    </a:lnTo>
                    <a:lnTo>
                      <a:pt x="2820" y="2274"/>
                    </a:lnTo>
                    <a:lnTo>
                      <a:pt x="2736" y="2268"/>
                    </a:lnTo>
                    <a:lnTo>
                      <a:pt x="2652" y="2268"/>
                    </a:lnTo>
                    <a:lnTo>
                      <a:pt x="2568" y="2268"/>
                    </a:lnTo>
                    <a:lnTo>
                      <a:pt x="2490" y="2268"/>
                    </a:lnTo>
                    <a:lnTo>
                      <a:pt x="2406" y="2262"/>
                    </a:lnTo>
                    <a:lnTo>
                      <a:pt x="2322" y="2256"/>
                    </a:lnTo>
                    <a:lnTo>
                      <a:pt x="2238" y="2250"/>
                    </a:lnTo>
                    <a:lnTo>
                      <a:pt x="2154" y="2238"/>
                    </a:lnTo>
                    <a:lnTo>
                      <a:pt x="2070" y="2226"/>
                    </a:lnTo>
                    <a:lnTo>
                      <a:pt x="1992" y="2202"/>
                    </a:lnTo>
                    <a:lnTo>
                      <a:pt x="1908" y="2172"/>
                    </a:lnTo>
                    <a:lnTo>
                      <a:pt x="1824" y="2136"/>
                    </a:lnTo>
                    <a:lnTo>
                      <a:pt x="1740" y="2094"/>
                    </a:lnTo>
                    <a:lnTo>
                      <a:pt x="1656" y="2046"/>
                    </a:lnTo>
                    <a:lnTo>
                      <a:pt x="1578" y="1968"/>
                    </a:lnTo>
                    <a:lnTo>
                      <a:pt x="1494" y="1848"/>
                    </a:lnTo>
                    <a:lnTo>
                      <a:pt x="1410" y="1770"/>
                    </a:lnTo>
                    <a:lnTo>
                      <a:pt x="1326" y="1590"/>
                    </a:lnTo>
                    <a:lnTo>
                      <a:pt x="1242" y="1380"/>
                    </a:lnTo>
                    <a:lnTo>
                      <a:pt x="1158" y="1032"/>
                    </a:lnTo>
                    <a:lnTo>
                      <a:pt x="1080" y="666"/>
                    </a:lnTo>
                    <a:lnTo>
                      <a:pt x="996" y="570"/>
                    </a:lnTo>
                    <a:lnTo>
                      <a:pt x="912" y="414"/>
                    </a:lnTo>
                    <a:lnTo>
                      <a:pt x="828" y="312"/>
                    </a:lnTo>
                    <a:lnTo>
                      <a:pt x="744" y="450"/>
                    </a:lnTo>
                    <a:lnTo>
                      <a:pt x="666" y="732"/>
                    </a:lnTo>
                    <a:lnTo>
                      <a:pt x="582" y="732"/>
                    </a:lnTo>
                    <a:lnTo>
                      <a:pt x="498" y="270"/>
                    </a:lnTo>
                    <a:lnTo>
                      <a:pt x="414" y="396"/>
                    </a:lnTo>
                    <a:lnTo>
                      <a:pt x="330" y="0"/>
                    </a:lnTo>
                    <a:lnTo>
                      <a:pt x="246" y="96"/>
                    </a:lnTo>
                    <a:lnTo>
                      <a:pt x="168" y="330"/>
                    </a:lnTo>
                    <a:lnTo>
                      <a:pt x="84" y="852"/>
                    </a:lnTo>
                    <a:lnTo>
                      <a:pt x="0" y="183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800360" y="1952640"/>
                <a:ext cx="5790960" cy="3610080"/>
              </a:xfrm>
              <a:custGeom>
                <a:avLst/>
                <a:gdLst/>
                <a:ahLst/>
                <a:rect l="l" t="t" r="r" b="b"/>
                <a:pathLst>
                  <a:path w="3648" h="2274">
                    <a:moveTo>
                      <a:pt x="0" y="1830"/>
                    </a:moveTo>
                    <a:lnTo>
                      <a:pt x="0" y="1830"/>
                    </a:lnTo>
                    <a:lnTo>
                      <a:pt x="84" y="852"/>
                    </a:lnTo>
                    <a:lnTo>
                      <a:pt x="168" y="330"/>
                    </a:lnTo>
                    <a:lnTo>
                      <a:pt x="246" y="96"/>
                    </a:lnTo>
                    <a:lnTo>
                      <a:pt x="330" y="0"/>
                    </a:lnTo>
                    <a:lnTo>
                      <a:pt x="414" y="396"/>
                    </a:lnTo>
                    <a:lnTo>
                      <a:pt x="498" y="270"/>
                    </a:lnTo>
                    <a:lnTo>
                      <a:pt x="582" y="732"/>
                    </a:lnTo>
                    <a:lnTo>
                      <a:pt x="666" y="732"/>
                    </a:lnTo>
                    <a:lnTo>
                      <a:pt x="744" y="450"/>
                    </a:lnTo>
                    <a:lnTo>
                      <a:pt x="828" y="312"/>
                    </a:lnTo>
                    <a:lnTo>
                      <a:pt x="912" y="414"/>
                    </a:lnTo>
                    <a:lnTo>
                      <a:pt x="996" y="570"/>
                    </a:lnTo>
                    <a:lnTo>
                      <a:pt x="1080" y="498"/>
                    </a:lnTo>
                    <a:lnTo>
                      <a:pt x="1158" y="696"/>
                    </a:lnTo>
                    <a:lnTo>
                      <a:pt x="1242" y="1098"/>
                    </a:lnTo>
                    <a:lnTo>
                      <a:pt x="1326" y="1344"/>
                    </a:lnTo>
                    <a:lnTo>
                      <a:pt x="1410" y="1560"/>
                    </a:lnTo>
                    <a:lnTo>
                      <a:pt x="1494" y="1656"/>
                    </a:lnTo>
                    <a:lnTo>
                      <a:pt x="1578" y="1818"/>
                    </a:lnTo>
                    <a:lnTo>
                      <a:pt x="1656" y="1938"/>
                    </a:lnTo>
                    <a:lnTo>
                      <a:pt x="1740" y="2010"/>
                    </a:lnTo>
                    <a:lnTo>
                      <a:pt x="1824" y="2100"/>
                    </a:lnTo>
                    <a:lnTo>
                      <a:pt x="1908" y="2148"/>
                    </a:lnTo>
                    <a:lnTo>
                      <a:pt x="1992" y="2184"/>
                    </a:lnTo>
                    <a:lnTo>
                      <a:pt x="2070" y="2208"/>
                    </a:lnTo>
                    <a:lnTo>
                      <a:pt x="2154" y="2226"/>
                    </a:lnTo>
                    <a:lnTo>
                      <a:pt x="2238" y="2238"/>
                    </a:lnTo>
                    <a:lnTo>
                      <a:pt x="2322" y="2250"/>
                    </a:lnTo>
                    <a:lnTo>
                      <a:pt x="2406" y="2262"/>
                    </a:lnTo>
                    <a:lnTo>
                      <a:pt x="2490" y="2262"/>
                    </a:lnTo>
                    <a:lnTo>
                      <a:pt x="2568" y="2268"/>
                    </a:lnTo>
                    <a:lnTo>
                      <a:pt x="2652" y="2268"/>
                    </a:lnTo>
                    <a:lnTo>
                      <a:pt x="2736" y="2268"/>
                    </a:lnTo>
                    <a:lnTo>
                      <a:pt x="2820" y="2268"/>
                    </a:lnTo>
                    <a:lnTo>
                      <a:pt x="2904" y="2274"/>
                    </a:lnTo>
                    <a:lnTo>
                      <a:pt x="2982" y="2274"/>
                    </a:lnTo>
                    <a:lnTo>
                      <a:pt x="3066" y="2274"/>
                    </a:lnTo>
                    <a:lnTo>
                      <a:pt x="3150" y="2274"/>
                    </a:lnTo>
                    <a:lnTo>
                      <a:pt x="3234" y="2274"/>
                    </a:lnTo>
                    <a:lnTo>
                      <a:pt x="3318" y="2274"/>
                    </a:lnTo>
                    <a:lnTo>
                      <a:pt x="3402" y="2274"/>
                    </a:lnTo>
                    <a:lnTo>
                      <a:pt x="3480" y="2274"/>
                    </a:lnTo>
                    <a:lnTo>
                      <a:pt x="3564" y="2274"/>
                    </a:lnTo>
                    <a:lnTo>
                      <a:pt x="3648" y="2274"/>
                    </a:lnTo>
                    <a:lnTo>
                      <a:pt x="3648" y="2274"/>
                    </a:lnTo>
                    <a:lnTo>
                      <a:pt x="3564" y="2274"/>
                    </a:lnTo>
                    <a:lnTo>
                      <a:pt x="3480" y="2274"/>
                    </a:lnTo>
                    <a:lnTo>
                      <a:pt x="3402" y="2274"/>
                    </a:lnTo>
                    <a:lnTo>
                      <a:pt x="3318" y="2274"/>
                    </a:lnTo>
                    <a:lnTo>
                      <a:pt x="3234" y="2274"/>
                    </a:lnTo>
                    <a:lnTo>
                      <a:pt x="3150" y="2274"/>
                    </a:lnTo>
                    <a:lnTo>
                      <a:pt x="3066" y="2274"/>
                    </a:lnTo>
                    <a:lnTo>
                      <a:pt x="2982" y="2274"/>
                    </a:lnTo>
                    <a:lnTo>
                      <a:pt x="2904" y="2274"/>
                    </a:lnTo>
                    <a:lnTo>
                      <a:pt x="2820" y="2268"/>
                    </a:lnTo>
                    <a:lnTo>
                      <a:pt x="2736" y="2268"/>
                    </a:lnTo>
                    <a:lnTo>
                      <a:pt x="2652" y="2268"/>
                    </a:lnTo>
                    <a:lnTo>
                      <a:pt x="2568" y="2268"/>
                    </a:lnTo>
                    <a:lnTo>
                      <a:pt x="2490" y="2262"/>
                    </a:lnTo>
                    <a:lnTo>
                      <a:pt x="2406" y="2262"/>
                    </a:lnTo>
                    <a:lnTo>
                      <a:pt x="2322" y="2250"/>
                    </a:lnTo>
                    <a:lnTo>
                      <a:pt x="2238" y="2238"/>
                    </a:lnTo>
                    <a:lnTo>
                      <a:pt x="2154" y="2226"/>
                    </a:lnTo>
                    <a:lnTo>
                      <a:pt x="2070" y="2208"/>
                    </a:lnTo>
                    <a:lnTo>
                      <a:pt x="1992" y="2184"/>
                    </a:lnTo>
                    <a:lnTo>
                      <a:pt x="1908" y="2148"/>
                    </a:lnTo>
                    <a:lnTo>
                      <a:pt x="1824" y="2100"/>
                    </a:lnTo>
                    <a:lnTo>
                      <a:pt x="1740" y="2016"/>
                    </a:lnTo>
                    <a:lnTo>
                      <a:pt x="1656" y="1944"/>
                    </a:lnTo>
                    <a:lnTo>
                      <a:pt x="1578" y="1824"/>
                    </a:lnTo>
                    <a:lnTo>
                      <a:pt x="1494" y="1668"/>
                    </a:lnTo>
                    <a:lnTo>
                      <a:pt x="1410" y="1578"/>
                    </a:lnTo>
                    <a:lnTo>
                      <a:pt x="1326" y="1380"/>
                    </a:lnTo>
                    <a:lnTo>
                      <a:pt x="1242" y="1152"/>
                    </a:lnTo>
                    <a:lnTo>
                      <a:pt x="1158" y="762"/>
                    </a:lnTo>
                    <a:lnTo>
                      <a:pt x="1080" y="498"/>
                    </a:lnTo>
                    <a:lnTo>
                      <a:pt x="996" y="570"/>
                    </a:lnTo>
                    <a:lnTo>
                      <a:pt x="912" y="414"/>
                    </a:lnTo>
                    <a:lnTo>
                      <a:pt x="828" y="312"/>
                    </a:lnTo>
                    <a:lnTo>
                      <a:pt x="744" y="450"/>
                    </a:lnTo>
                    <a:lnTo>
                      <a:pt x="666" y="732"/>
                    </a:lnTo>
                    <a:lnTo>
                      <a:pt x="582" y="732"/>
                    </a:lnTo>
                    <a:lnTo>
                      <a:pt x="498" y="270"/>
                    </a:lnTo>
                    <a:lnTo>
                      <a:pt x="414" y="396"/>
                    </a:lnTo>
                    <a:lnTo>
                      <a:pt x="330" y="0"/>
                    </a:lnTo>
                    <a:lnTo>
                      <a:pt x="246" y="96"/>
                    </a:lnTo>
                    <a:lnTo>
                      <a:pt x="168" y="330"/>
                    </a:lnTo>
                    <a:lnTo>
                      <a:pt x="84" y="852"/>
                    </a:lnTo>
                    <a:lnTo>
                      <a:pt x="0" y="183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800360" y="1952640"/>
                <a:ext cx="5790960" cy="3610080"/>
              </a:xfrm>
              <a:custGeom>
                <a:avLst/>
                <a:gdLst/>
                <a:ahLst/>
                <a:rect l="l" t="t" r="r" b="b"/>
                <a:pathLst>
                  <a:path w="3648" h="2274">
                    <a:moveTo>
                      <a:pt x="0" y="1830"/>
                    </a:moveTo>
                    <a:lnTo>
                      <a:pt x="0" y="1830"/>
                    </a:lnTo>
                    <a:lnTo>
                      <a:pt x="84" y="852"/>
                    </a:lnTo>
                    <a:lnTo>
                      <a:pt x="168" y="330"/>
                    </a:lnTo>
                    <a:lnTo>
                      <a:pt x="246" y="96"/>
                    </a:lnTo>
                    <a:lnTo>
                      <a:pt x="330" y="0"/>
                    </a:lnTo>
                    <a:lnTo>
                      <a:pt x="414" y="396"/>
                    </a:lnTo>
                    <a:lnTo>
                      <a:pt x="498" y="270"/>
                    </a:lnTo>
                    <a:lnTo>
                      <a:pt x="582" y="732"/>
                    </a:lnTo>
                    <a:lnTo>
                      <a:pt x="666" y="732"/>
                    </a:lnTo>
                    <a:lnTo>
                      <a:pt x="744" y="450"/>
                    </a:lnTo>
                    <a:lnTo>
                      <a:pt x="828" y="312"/>
                    </a:lnTo>
                    <a:lnTo>
                      <a:pt x="912" y="414"/>
                    </a:lnTo>
                    <a:lnTo>
                      <a:pt x="996" y="570"/>
                    </a:lnTo>
                    <a:lnTo>
                      <a:pt x="1080" y="498"/>
                    </a:lnTo>
                    <a:lnTo>
                      <a:pt x="1158" y="696"/>
                    </a:lnTo>
                    <a:lnTo>
                      <a:pt x="1242" y="1002"/>
                    </a:lnTo>
                    <a:lnTo>
                      <a:pt x="1326" y="1188"/>
                    </a:lnTo>
                    <a:lnTo>
                      <a:pt x="1410" y="1464"/>
                    </a:lnTo>
                    <a:lnTo>
                      <a:pt x="1494" y="1584"/>
                    </a:lnTo>
                    <a:lnTo>
                      <a:pt x="1578" y="1770"/>
                    </a:lnTo>
                    <a:lnTo>
                      <a:pt x="1656" y="1908"/>
                    </a:lnTo>
                    <a:lnTo>
                      <a:pt x="1740" y="1992"/>
                    </a:lnTo>
                    <a:lnTo>
                      <a:pt x="1824" y="2088"/>
                    </a:lnTo>
                    <a:lnTo>
                      <a:pt x="1908" y="2136"/>
                    </a:lnTo>
                    <a:lnTo>
                      <a:pt x="1992" y="2172"/>
                    </a:lnTo>
                    <a:lnTo>
                      <a:pt x="2070" y="2202"/>
                    </a:lnTo>
                    <a:lnTo>
                      <a:pt x="2154" y="2220"/>
                    </a:lnTo>
                    <a:lnTo>
                      <a:pt x="2238" y="2238"/>
                    </a:lnTo>
                    <a:lnTo>
                      <a:pt x="2322" y="2244"/>
                    </a:lnTo>
                    <a:lnTo>
                      <a:pt x="2406" y="2256"/>
                    </a:lnTo>
                    <a:lnTo>
                      <a:pt x="2490" y="2262"/>
                    </a:lnTo>
                    <a:lnTo>
                      <a:pt x="2568" y="2268"/>
                    </a:lnTo>
                    <a:lnTo>
                      <a:pt x="2652" y="2268"/>
                    </a:lnTo>
                    <a:lnTo>
                      <a:pt x="2736" y="2268"/>
                    </a:lnTo>
                    <a:lnTo>
                      <a:pt x="2820" y="2268"/>
                    </a:lnTo>
                    <a:lnTo>
                      <a:pt x="2904" y="2274"/>
                    </a:lnTo>
                    <a:lnTo>
                      <a:pt x="2982" y="2274"/>
                    </a:lnTo>
                    <a:lnTo>
                      <a:pt x="3066" y="2274"/>
                    </a:lnTo>
                    <a:lnTo>
                      <a:pt x="3150" y="2274"/>
                    </a:lnTo>
                    <a:lnTo>
                      <a:pt x="3234" y="2274"/>
                    </a:lnTo>
                    <a:lnTo>
                      <a:pt x="3318" y="2274"/>
                    </a:lnTo>
                    <a:lnTo>
                      <a:pt x="3402" y="2274"/>
                    </a:lnTo>
                    <a:lnTo>
                      <a:pt x="3480" y="2274"/>
                    </a:lnTo>
                    <a:lnTo>
                      <a:pt x="3564" y="2274"/>
                    </a:lnTo>
                    <a:lnTo>
                      <a:pt x="3648" y="2274"/>
                    </a:lnTo>
                    <a:lnTo>
                      <a:pt x="3648" y="2274"/>
                    </a:lnTo>
                    <a:lnTo>
                      <a:pt x="3564" y="2274"/>
                    </a:lnTo>
                    <a:lnTo>
                      <a:pt x="3480" y="2274"/>
                    </a:lnTo>
                    <a:lnTo>
                      <a:pt x="3402" y="2274"/>
                    </a:lnTo>
                    <a:lnTo>
                      <a:pt x="3318" y="2274"/>
                    </a:lnTo>
                    <a:lnTo>
                      <a:pt x="3234" y="2274"/>
                    </a:lnTo>
                    <a:lnTo>
                      <a:pt x="3150" y="2274"/>
                    </a:lnTo>
                    <a:lnTo>
                      <a:pt x="3066" y="2274"/>
                    </a:lnTo>
                    <a:lnTo>
                      <a:pt x="2982" y="2274"/>
                    </a:lnTo>
                    <a:lnTo>
                      <a:pt x="2904" y="2274"/>
                    </a:lnTo>
                    <a:lnTo>
                      <a:pt x="2820" y="2268"/>
                    </a:lnTo>
                    <a:lnTo>
                      <a:pt x="2736" y="2268"/>
                    </a:lnTo>
                    <a:lnTo>
                      <a:pt x="2652" y="2268"/>
                    </a:lnTo>
                    <a:lnTo>
                      <a:pt x="2568" y="2268"/>
                    </a:lnTo>
                    <a:lnTo>
                      <a:pt x="2490" y="2262"/>
                    </a:lnTo>
                    <a:lnTo>
                      <a:pt x="2406" y="2262"/>
                    </a:lnTo>
                    <a:lnTo>
                      <a:pt x="2322" y="2250"/>
                    </a:lnTo>
                    <a:lnTo>
                      <a:pt x="2238" y="2238"/>
                    </a:lnTo>
                    <a:lnTo>
                      <a:pt x="2154" y="2226"/>
                    </a:lnTo>
                    <a:lnTo>
                      <a:pt x="2070" y="2208"/>
                    </a:lnTo>
                    <a:lnTo>
                      <a:pt x="1992" y="2184"/>
                    </a:lnTo>
                    <a:lnTo>
                      <a:pt x="1908" y="2148"/>
                    </a:lnTo>
                    <a:lnTo>
                      <a:pt x="1824" y="2100"/>
                    </a:lnTo>
                    <a:lnTo>
                      <a:pt x="1740" y="2010"/>
                    </a:lnTo>
                    <a:lnTo>
                      <a:pt x="1656" y="1938"/>
                    </a:lnTo>
                    <a:lnTo>
                      <a:pt x="1578" y="1818"/>
                    </a:lnTo>
                    <a:lnTo>
                      <a:pt x="1494" y="1656"/>
                    </a:lnTo>
                    <a:lnTo>
                      <a:pt x="1410" y="1560"/>
                    </a:lnTo>
                    <a:lnTo>
                      <a:pt x="1326" y="1344"/>
                    </a:lnTo>
                    <a:lnTo>
                      <a:pt x="1242" y="1098"/>
                    </a:lnTo>
                    <a:lnTo>
                      <a:pt x="1158" y="696"/>
                    </a:lnTo>
                    <a:lnTo>
                      <a:pt x="1080" y="498"/>
                    </a:lnTo>
                    <a:lnTo>
                      <a:pt x="996" y="570"/>
                    </a:lnTo>
                    <a:lnTo>
                      <a:pt x="912" y="414"/>
                    </a:lnTo>
                    <a:lnTo>
                      <a:pt x="828" y="312"/>
                    </a:lnTo>
                    <a:lnTo>
                      <a:pt x="744" y="450"/>
                    </a:lnTo>
                    <a:lnTo>
                      <a:pt x="666" y="732"/>
                    </a:lnTo>
                    <a:lnTo>
                      <a:pt x="582" y="732"/>
                    </a:lnTo>
                    <a:lnTo>
                      <a:pt x="498" y="270"/>
                    </a:lnTo>
                    <a:lnTo>
                      <a:pt x="414" y="396"/>
                    </a:lnTo>
                    <a:lnTo>
                      <a:pt x="330" y="0"/>
                    </a:lnTo>
                    <a:lnTo>
                      <a:pt x="246" y="96"/>
                    </a:lnTo>
                    <a:lnTo>
                      <a:pt x="168" y="330"/>
                    </a:lnTo>
                    <a:lnTo>
                      <a:pt x="84" y="852"/>
                    </a:lnTo>
                    <a:lnTo>
                      <a:pt x="0" y="183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800360" y="1952640"/>
                <a:ext cx="5790960" cy="3610080"/>
              </a:xfrm>
              <a:custGeom>
                <a:avLst/>
                <a:gdLst/>
                <a:ahLst/>
                <a:rect l="l" t="t" r="r" b="b"/>
                <a:pathLst>
                  <a:path w="3648" h="2274">
                    <a:moveTo>
                      <a:pt x="0" y="1830"/>
                    </a:moveTo>
                    <a:lnTo>
                      <a:pt x="0" y="1830"/>
                    </a:lnTo>
                    <a:lnTo>
                      <a:pt x="84" y="852"/>
                    </a:lnTo>
                    <a:lnTo>
                      <a:pt x="168" y="330"/>
                    </a:lnTo>
                    <a:lnTo>
                      <a:pt x="246" y="96"/>
                    </a:lnTo>
                    <a:lnTo>
                      <a:pt x="330" y="0"/>
                    </a:lnTo>
                    <a:lnTo>
                      <a:pt x="414" y="396"/>
                    </a:lnTo>
                    <a:lnTo>
                      <a:pt x="498" y="270"/>
                    </a:lnTo>
                    <a:lnTo>
                      <a:pt x="582" y="732"/>
                    </a:lnTo>
                    <a:lnTo>
                      <a:pt x="666" y="732"/>
                    </a:lnTo>
                    <a:lnTo>
                      <a:pt x="744" y="450"/>
                    </a:lnTo>
                    <a:lnTo>
                      <a:pt x="828" y="312"/>
                    </a:lnTo>
                    <a:lnTo>
                      <a:pt x="912" y="414"/>
                    </a:lnTo>
                    <a:lnTo>
                      <a:pt x="996" y="570"/>
                    </a:lnTo>
                    <a:lnTo>
                      <a:pt x="1080" y="498"/>
                    </a:lnTo>
                    <a:lnTo>
                      <a:pt x="1158" y="696"/>
                    </a:lnTo>
                    <a:lnTo>
                      <a:pt x="1242" y="1002"/>
                    </a:lnTo>
                    <a:lnTo>
                      <a:pt x="1326" y="1014"/>
                    </a:lnTo>
                    <a:lnTo>
                      <a:pt x="1410" y="1230"/>
                    </a:lnTo>
                    <a:lnTo>
                      <a:pt x="1494" y="1470"/>
                    </a:lnTo>
                    <a:lnTo>
                      <a:pt x="1578" y="1728"/>
                    </a:lnTo>
                    <a:lnTo>
                      <a:pt x="1656" y="1884"/>
                    </a:lnTo>
                    <a:lnTo>
                      <a:pt x="1740" y="1980"/>
                    </a:lnTo>
                    <a:lnTo>
                      <a:pt x="1824" y="2076"/>
                    </a:lnTo>
                    <a:lnTo>
                      <a:pt x="1908" y="2130"/>
                    </a:lnTo>
                    <a:lnTo>
                      <a:pt x="1992" y="2172"/>
                    </a:lnTo>
                    <a:lnTo>
                      <a:pt x="2070" y="2196"/>
                    </a:lnTo>
                    <a:lnTo>
                      <a:pt x="2154" y="2220"/>
                    </a:lnTo>
                    <a:lnTo>
                      <a:pt x="2238" y="2232"/>
                    </a:lnTo>
                    <a:lnTo>
                      <a:pt x="2322" y="2244"/>
                    </a:lnTo>
                    <a:lnTo>
                      <a:pt x="2406" y="2256"/>
                    </a:lnTo>
                    <a:lnTo>
                      <a:pt x="2490" y="2262"/>
                    </a:lnTo>
                    <a:lnTo>
                      <a:pt x="2568" y="2268"/>
                    </a:lnTo>
                    <a:lnTo>
                      <a:pt x="2652" y="2268"/>
                    </a:lnTo>
                    <a:lnTo>
                      <a:pt x="2736" y="2268"/>
                    </a:lnTo>
                    <a:lnTo>
                      <a:pt x="2820" y="2268"/>
                    </a:lnTo>
                    <a:lnTo>
                      <a:pt x="2904" y="2274"/>
                    </a:lnTo>
                    <a:lnTo>
                      <a:pt x="2982" y="2274"/>
                    </a:lnTo>
                    <a:lnTo>
                      <a:pt x="3066" y="2274"/>
                    </a:lnTo>
                    <a:lnTo>
                      <a:pt x="3150" y="2274"/>
                    </a:lnTo>
                    <a:lnTo>
                      <a:pt x="3234" y="2274"/>
                    </a:lnTo>
                    <a:lnTo>
                      <a:pt x="3318" y="2274"/>
                    </a:lnTo>
                    <a:lnTo>
                      <a:pt x="3402" y="2274"/>
                    </a:lnTo>
                    <a:lnTo>
                      <a:pt x="3480" y="2274"/>
                    </a:lnTo>
                    <a:lnTo>
                      <a:pt x="3564" y="2274"/>
                    </a:lnTo>
                    <a:lnTo>
                      <a:pt x="3648" y="2274"/>
                    </a:lnTo>
                    <a:lnTo>
                      <a:pt x="3648" y="2274"/>
                    </a:lnTo>
                    <a:lnTo>
                      <a:pt x="3564" y="2274"/>
                    </a:lnTo>
                    <a:lnTo>
                      <a:pt x="3480" y="2274"/>
                    </a:lnTo>
                    <a:lnTo>
                      <a:pt x="3402" y="2274"/>
                    </a:lnTo>
                    <a:lnTo>
                      <a:pt x="3318" y="2274"/>
                    </a:lnTo>
                    <a:lnTo>
                      <a:pt x="3234" y="2274"/>
                    </a:lnTo>
                    <a:lnTo>
                      <a:pt x="3150" y="2274"/>
                    </a:lnTo>
                    <a:lnTo>
                      <a:pt x="3066" y="2274"/>
                    </a:lnTo>
                    <a:lnTo>
                      <a:pt x="2982" y="2274"/>
                    </a:lnTo>
                    <a:lnTo>
                      <a:pt x="2904" y="2274"/>
                    </a:lnTo>
                    <a:lnTo>
                      <a:pt x="2820" y="2268"/>
                    </a:lnTo>
                    <a:lnTo>
                      <a:pt x="2736" y="2268"/>
                    </a:lnTo>
                    <a:lnTo>
                      <a:pt x="2652" y="2268"/>
                    </a:lnTo>
                    <a:lnTo>
                      <a:pt x="2568" y="2268"/>
                    </a:lnTo>
                    <a:lnTo>
                      <a:pt x="2490" y="2262"/>
                    </a:lnTo>
                    <a:lnTo>
                      <a:pt x="2406" y="2256"/>
                    </a:lnTo>
                    <a:lnTo>
                      <a:pt x="2322" y="2244"/>
                    </a:lnTo>
                    <a:lnTo>
                      <a:pt x="2238" y="2238"/>
                    </a:lnTo>
                    <a:lnTo>
                      <a:pt x="2154" y="2220"/>
                    </a:lnTo>
                    <a:lnTo>
                      <a:pt x="2070" y="2202"/>
                    </a:lnTo>
                    <a:lnTo>
                      <a:pt x="1992" y="2172"/>
                    </a:lnTo>
                    <a:lnTo>
                      <a:pt x="1908" y="2136"/>
                    </a:lnTo>
                    <a:lnTo>
                      <a:pt x="1824" y="2088"/>
                    </a:lnTo>
                    <a:lnTo>
                      <a:pt x="1740" y="1992"/>
                    </a:lnTo>
                    <a:lnTo>
                      <a:pt x="1656" y="1908"/>
                    </a:lnTo>
                    <a:lnTo>
                      <a:pt x="1578" y="1770"/>
                    </a:lnTo>
                    <a:lnTo>
                      <a:pt x="1494" y="1584"/>
                    </a:lnTo>
                    <a:lnTo>
                      <a:pt x="1410" y="1464"/>
                    </a:lnTo>
                    <a:lnTo>
                      <a:pt x="1326" y="1188"/>
                    </a:lnTo>
                    <a:lnTo>
                      <a:pt x="1242" y="1002"/>
                    </a:lnTo>
                    <a:lnTo>
                      <a:pt x="1158" y="696"/>
                    </a:lnTo>
                    <a:lnTo>
                      <a:pt x="1080" y="498"/>
                    </a:lnTo>
                    <a:lnTo>
                      <a:pt x="996" y="570"/>
                    </a:lnTo>
                    <a:lnTo>
                      <a:pt x="912" y="414"/>
                    </a:lnTo>
                    <a:lnTo>
                      <a:pt x="828" y="312"/>
                    </a:lnTo>
                    <a:lnTo>
                      <a:pt x="744" y="450"/>
                    </a:lnTo>
                    <a:lnTo>
                      <a:pt x="666" y="732"/>
                    </a:lnTo>
                    <a:lnTo>
                      <a:pt x="582" y="732"/>
                    </a:lnTo>
                    <a:lnTo>
                      <a:pt x="498" y="270"/>
                    </a:lnTo>
                    <a:lnTo>
                      <a:pt x="414" y="396"/>
                    </a:lnTo>
                    <a:lnTo>
                      <a:pt x="330" y="0"/>
                    </a:lnTo>
                    <a:lnTo>
                      <a:pt x="246" y="96"/>
                    </a:lnTo>
                    <a:lnTo>
                      <a:pt x="168" y="330"/>
                    </a:lnTo>
                    <a:lnTo>
                      <a:pt x="84" y="852"/>
                    </a:lnTo>
                    <a:lnTo>
                      <a:pt x="0" y="183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800360" y="1952640"/>
                <a:ext cx="5790960" cy="3610080"/>
              </a:xfrm>
              <a:custGeom>
                <a:avLst/>
                <a:gdLst/>
                <a:ahLst/>
                <a:rect l="l" t="t" r="r" b="b"/>
                <a:pathLst>
                  <a:path w="3648" h="2274">
                    <a:moveTo>
                      <a:pt x="0" y="1830"/>
                    </a:moveTo>
                    <a:lnTo>
                      <a:pt x="0" y="1830"/>
                    </a:lnTo>
                    <a:lnTo>
                      <a:pt x="84" y="852"/>
                    </a:lnTo>
                    <a:lnTo>
                      <a:pt x="168" y="330"/>
                    </a:lnTo>
                    <a:lnTo>
                      <a:pt x="246" y="96"/>
                    </a:lnTo>
                    <a:lnTo>
                      <a:pt x="330" y="0"/>
                    </a:lnTo>
                    <a:lnTo>
                      <a:pt x="414" y="396"/>
                    </a:lnTo>
                    <a:lnTo>
                      <a:pt x="498" y="270"/>
                    </a:lnTo>
                    <a:lnTo>
                      <a:pt x="582" y="732"/>
                    </a:lnTo>
                    <a:lnTo>
                      <a:pt x="666" y="732"/>
                    </a:lnTo>
                    <a:lnTo>
                      <a:pt x="744" y="450"/>
                    </a:lnTo>
                    <a:lnTo>
                      <a:pt x="828" y="312"/>
                    </a:lnTo>
                    <a:lnTo>
                      <a:pt x="912" y="414"/>
                    </a:lnTo>
                    <a:lnTo>
                      <a:pt x="996" y="570"/>
                    </a:lnTo>
                    <a:lnTo>
                      <a:pt x="1080" y="498"/>
                    </a:lnTo>
                    <a:lnTo>
                      <a:pt x="1158" y="696"/>
                    </a:lnTo>
                    <a:lnTo>
                      <a:pt x="1242" y="1002"/>
                    </a:lnTo>
                    <a:lnTo>
                      <a:pt x="1326" y="1014"/>
                    </a:lnTo>
                    <a:lnTo>
                      <a:pt x="1410" y="1002"/>
                    </a:lnTo>
                    <a:lnTo>
                      <a:pt x="1494" y="1146"/>
                    </a:lnTo>
                    <a:lnTo>
                      <a:pt x="1578" y="1548"/>
                    </a:lnTo>
                    <a:lnTo>
                      <a:pt x="1656" y="1800"/>
                    </a:lnTo>
                    <a:lnTo>
                      <a:pt x="1740" y="1920"/>
                    </a:lnTo>
                    <a:lnTo>
                      <a:pt x="1824" y="2040"/>
                    </a:lnTo>
                    <a:lnTo>
                      <a:pt x="1908" y="2112"/>
                    </a:lnTo>
                    <a:lnTo>
                      <a:pt x="1992" y="2160"/>
                    </a:lnTo>
                    <a:lnTo>
                      <a:pt x="2070" y="2190"/>
                    </a:lnTo>
                    <a:lnTo>
                      <a:pt x="2154" y="2214"/>
                    </a:lnTo>
                    <a:lnTo>
                      <a:pt x="2238" y="2232"/>
                    </a:lnTo>
                    <a:lnTo>
                      <a:pt x="2322" y="2244"/>
                    </a:lnTo>
                    <a:lnTo>
                      <a:pt x="2406" y="2256"/>
                    </a:lnTo>
                    <a:lnTo>
                      <a:pt x="2490" y="2262"/>
                    </a:lnTo>
                    <a:lnTo>
                      <a:pt x="2568" y="2268"/>
                    </a:lnTo>
                    <a:lnTo>
                      <a:pt x="2652" y="2268"/>
                    </a:lnTo>
                    <a:lnTo>
                      <a:pt x="2736" y="2268"/>
                    </a:lnTo>
                    <a:lnTo>
                      <a:pt x="2820" y="2268"/>
                    </a:lnTo>
                    <a:lnTo>
                      <a:pt x="2904" y="2274"/>
                    </a:lnTo>
                    <a:lnTo>
                      <a:pt x="2982" y="2274"/>
                    </a:lnTo>
                    <a:lnTo>
                      <a:pt x="3066" y="2274"/>
                    </a:lnTo>
                    <a:lnTo>
                      <a:pt x="3150" y="2274"/>
                    </a:lnTo>
                    <a:lnTo>
                      <a:pt x="3234" y="2274"/>
                    </a:lnTo>
                    <a:lnTo>
                      <a:pt x="3318" y="2274"/>
                    </a:lnTo>
                    <a:lnTo>
                      <a:pt x="3402" y="2274"/>
                    </a:lnTo>
                    <a:lnTo>
                      <a:pt x="3480" y="2274"/>
                    </a:lnTo>
                    <a:lnTo>
                      <a:pt x="3564" y="2274"/>
                    </a:lnTo>
                    <a:lnTo>
                      <a:pt x="3648" y="2274"/>
                    </a:lnTo>
                    <a:lnTo>
                      <a:pt x="3648" y="2274"/>
                    </a:lnTo>
                    <a:lnTo>
                      <a:pt x="3564" y="2274"/>
                    </a:lnTo>
                    <a:lnTo>
                      <a:pt x="3480" y="2274"/>
                    </a:lnTo>
                    <a:lnTo>
                      <a:pt x="3402" y="2274"/>
                    </a:lnTo>
                    <a:lnTo>
                      <a:pt x="3318" y="2274"/>
                    </a:lnTo>
                    <a:lnTo>
                      <a:pt x="3234" y="2274"/>
                    </a:lnTo>
                    <a:lnTo>
                      <a:pt x="3150" y="2274"/>
                    </a:lnTo>
                    <a:lnTo>
                      <a:pt x="3066" y="2274"/>
                    </a:lnTo>
                    <a:lnTo>
                      <a:pt x="2982" y="2274"/>
                    </a:lnTo>
                    <a:lnTo>
                      <a:pt x="2904" y="2274"/>
                    </a:lnTo>
                    <a:lnTo>
                      <a:pt x="2820" y="2268"/>
                    </a:lnTo>
                    <a:lnTo>
                      <a:pt x="2736" y="2268"/>
                    </a:lnTo>
                    <a:lnTo>
                      <a:pt x="2652" y="2268"/>
                    </a:lnTo>
                    <a:lnTo>
                      <a:pt x="2568" y="2268"/>
                    </a:lnTo>
                    <a:lnTo>
                      <a:pt x="2490" y="2262"/>
                    </a:lnTo>
                    <a:lnTo>
                      <a:pt x="2406" y="2256"/>
                    </a:lnTo>
                    <a:lnTo>
                      <a:pt x="2322" y="2244"/>
                    </a:lnTo>
                    <a:lnTo>
                      <a:pt x="2238" y="2232"/>
                    </a:lnTo>
                    <a:lnTo>
                      <a:pt x="2154" y="2220"/>
                    </a:lnTo>
                    <a:lnTo>
                      <a:pt x="2070" y="2196"/>
                    </a:lnTo>
                    <a:lnTo>
                      <a:pt x="1992" y="2172"/>
                    </a:lnTo>
                    <a:lnTo>
                      <a:pt x="1908" y="2130"/>
                    </a:lnTo>
                    <a:lnTo>
                      <a:pt x="1824" y="2076"/>
                    </a:lnTo>
                    <a:lnTo>
                      <a:pt x="1740" y="1980"/>
                    </a:lnTo>
                    <a:lnTo>
                      <a:pt x="1656" y="1884"/>
                    </a:lnTo>
                    <a:lnTo>
                      <a:pt x="1578" y="1728"/>
                    </a:lnTo>
                    <a:lnTo>
                      <a:pt x="1494" y="1470"/>
                    </a:lnTo>
                    <a:lnTo>
                      <a:pt x="1410" y="1230"/>
                    </a:lnTo>
                    <a:lnTo>
                      <a:pt x="1326" y="1014"/>
                    </a:lnTo>
                    <a:lnTo>
                      <a:pt x="1242" y="1002"/>
                    </a:lnTo>
                    <a:lnTo>
                      <a:pt x="1158" y="696"/>
                    </a:lnTo>
                    <a:lnTo>
                      <a:pt x="1080" y="498"/>
                    </a:lnTo>
                    <a:lnTo>
                      <a:pt x="996" y="570"/>
                    </a:lnTo>
                    <a:lnTo>
                      <a:pt x="912" y="414"/>
                    </a:lnTo>
                    <a:lnTo>
                      <a:pt x="828" y="312"/>
                    </a:lnTo>
                    <a:lnTo>
                      <a:pt x="744" y="450"/>
                    </a:lnTo>
                    <a:lnTo>
                      <a:pt x="666" y="732"/>
                    </a:lnTo>
                    <a:lnTo>
                      <a:pt x="582" y="732"/>
                    </a:lnTo>
                    <a:lnTo>
                      <a:pt x="498" y="270"/>
                    </a:lnTo>
                    <a:lnTo>
                      <a:pt x="414" y="396"/>
                    </a:lnTo>
                    <a:lnTo>
                      <a:pt x="330" y="0"/>
                    </a:lnTo>
                    <a:lnTo>
                      <a:pt x="246" y="96"/>
                    </a:lnTo>
                    <a:lnTo>
                      <a:pt x="168" y="330"/>
                    </a:lnTo>
                    <a:lnTo>
                      <a:pt x="84" y="852"/>
                    </a:lnTo>
                    <a:lnTo>
                      <a:pt x="0" y="183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800360" y="1952640"/>
                <a:ext cx="5790960" cy="3610080"/>
              </a:xfrm>
              <a:custGeom>
                <a:avLst/>
                <a:gdLst/>
                <a:ahLst/>
                <a:rect l="l" t="t" r="r" b="b"/>
                <a:pathLst>
                  <a:path w="3648" h="2274">
                    <a:moveTo>
                      <a:pt x="0" y="1830"/>
                    </a:moveTo>
                    <a:lnTo>
                      <a:pt x="0" y="1830"/>
                    </a:lnTo>
                    <a:lnTo>
                      <a:pt x="84" y="852"/>
                    </a:lnTo>
                    <a:lnTo>
                      <a:pt x="168" y="330"/>
                    </a:lnTo>
                    <a:lnTo>
                      <a:pt x="246" y="96"/>
                    </a:lnTo>
                    <a:lnTo>
                      <a:pt x="330" y="0"/>
                    </a:lnTo>
                    <a:lnTo>
                      <a:pt x="414" y="396"/>
                    </a:lnTo>
                    <a:lnTo>
                      <a:pt x="498" y="270"/>
                    </a:lnTo>
                    <a:lnTo>
                      <a:pt x="582" y="732"/>
                    </a:lnTo>
                    <a:lnTo>
                      <a:pt x="666" y="732"/>
                    </a:lnTo>
                    <a:lnTo>
                      <a:pt x="744" y="450"/>
                    </a:lnTo>
                    <a:lnTo>
                      <a:pt x="828" y="312"/>
                    </a:lnTo>
                    <a:lnTo>
                      <a:pt x="912" y="414"/>
                    </a:lnTo>
                    <a:lnTo>
                      <a:pt x="996" y="570"/>
                    </a:lnTo>
                    <a:lnTo>
                      <a:pt x="1080" y="498"/>
                    </a:lnTo>
                    <a:lnTo>
                      <a:pt x="1158" y="696"/>
                    </a:lnTo>
                    <a:lnTo>
                      <a:pt x="1242" y="1002"/>
                    </a:lnTo>
                    <a:lnTo>
                      <a:pt x="1326" y="1014"/>
                    </a:lnTo>
                    <a:lnTo>
                      <a:pt x="1410" y="1002"/>
                    </a:lnTo>
                    <a:lnTo>
                      <a:pt x="1494" y="792"/>
                    </a:lnTo>
                    <a:lnTo>
                      <a:pt x="1578" y="1068"/>
                    </a:lnTo>
                    <a:lnTo>
                      <a:pt x="1656" y="1602"/>
                    </a:lnTo>
                    <a:lnTo>
                      <a:pt x="1740" y="1812"/>
                    </a:lnTo>
                    <a:lnTo>
                      <a:pt x="1824" y="1980"/>
                    </a:lnTo>
                    <a:lnTo>
                      <a:pt x="1908" y="2076"/>
                    </a:lnTo>
                    <a:lnTo>
                      <a:pt x="1992" y="2136"/>
                    </a:lnTo>
                    <a:lnTo>
                      <a:pt x="2070" y="2178"/>
                    </a:lnTo>
                    <a:lnTo>
                      <a:pt x="2154" y="2208"/>
                    </a:lnTo>
                    <a:lnTo>
                      <a:pt x="2238" y="2226"/>
                    </a:lnTo>
                    <a:lnTo>
                      <a:pt x="2322" y="2244"/>
                    </a:lnTo>
                    <a:lnTo>
                      <a:pt x="2406" y="2256"/>
                    </a:lnTo>
                    <a:lnTo>
                      <a:pt x="2490" y="2262"/>
                    </a:lnTo>
                    <a:lnTo>
                      <a:pt x="2568" y="2268"/>
                    </a:lnTo>
                    <a:lnTo>
                      <a:pt x="2652" y="2268"/>
                    </a:lnTo>
                    <a:lnTo>
                      <a:pt x="2736" y="2268"/>
                    </a:lnTo>
                    <a:lnTo>
                      <a:pt x="2820" y="2268"/>
                    </a:lnTo>
                    <a:lnTo>
                      <a:pt x="2904" y="2274"/>
                    </a:lnTo>
                    <a:lnTo>
                      <a:pt x="2982" y="2274"/>
                    </a:lnTo>
                    <a:lnTo>
                      <a:pt x="3066" y="2274"/>
                    </a:lnTo>
                    <a:lnTo>
                      <a:pt x="3150" y="2274"/>
                    </a:lnTo>
                    <a:lnTo>
                      <a:pt x="3234" y="2274"/>
                    </a:lnTo>
                    <a:lnTo>
                      <a:pt x="3318" y="2274"/>
                    </a:lnTo>
                    <a:lnTo>
                      <a:pt x="3402" y="2274"/>
                    </a:lnTo>
                    <a:lnTo>
                      <a:pt x="3480" y="2274"/>
                    </a:lnTo>
                    <a:lnTo>
                      <a:pt x="3564" y="2274"/>
                    </a:lnTo>
                    <a:lnTo>
                      <a:pt x="3648" y="2274"/>
                    </a:lnTo>
                    <a:lnTo>
                      <a:pt x="3648" y="2274"/>
                    </a:lnTo>
                    <a:lnTo>
                      <a:pt x="3564" y="2274"/>
                    </a:lnTo>
                    <a:lnTo>
                      <a:pt x="3480" y="2274"/>
                    </a:lnTo>
                    <a:lnTo>
                      <a:pt x="3402" y="2274"/>
                    </a:lnTo>
                    <a:lnTo>
                      <a:pt x="3318" y="2274"/>
                    </a:lnTo>
                    <a:lnTo>
                      <a:pt x="3234" y="2274"/>
                    </a:lnTo>
                    <a:lnTo>
                      <a:pt x="3150" y="2274"/>
                    </a:lnTo>
                    <a:lnTo>
                      <a:pt x="3066" y="2274"/>
                    </a:lnTo>
                    <a:lnTo>
                      <a:pt x="2982" y="2274"/>
                    </a:lnTo>
                    <a:lnTo>
                      <a:pt x="2904" y="2274"/>
                    </a:lnTo>
                    <a:lnTo>
                      <a:pt x="2820" y="2268"/>
                    </a:lnTo>
                    <a:lnTo>
                      <a:pt x="2736" y="2268"/>
                    </a:lnTo>
                    <a:lnTo>
                      <a:pt x="2652" y="2268"/>
                    </a:lnTo>
                    <a:lnTo>
                      <a:pt x="2568" y="2268"/>
                    </a:lnTo>
                    <a:lnTo>
                      <a:pt x="2490" y="2262"/>
                    </a:lnTo>
                    <a:lnTo>
                      <a:pt x="2406" y="2256"/>
                    </a:lnTo>
                    <a:lnTo>
                      <a:pt x="2322" y="2244"/>
                    </a:lnTo>
                    <a:lnTo>
                      <a:pt x="2238" y="2232"/>
                    </a:lnTo>
                    <a:lnTo>
                      <a:pt x="2154" y="2214"/>
                    </a:lnTo>
                    <a:lnTo>
                      <a:pt x="2070" y="2190"/>
                    </a:lnTo>
                    <a:lnTo>
                      <a:pt x="1992" y="2160"/>
                    </a:lnTo>
                    <a:lnTo>
                      <a:pt x="1908" y="2112"/>
                    </a:lnTo>
                    <a:lnTo>
                      <a:pt x="1824" y="2040"/>
                    </a:lnTo>
                    <a:lnTo>
                      <a:pt x="1740" y="1920"/>
                    </a:lnTo>
                    <a:lnTo>
                      <a:pt x="1656" y="1800"/>
                    </a:lnTo>
                    <a:lnTo>
                      <a:pt x="1578" y="1548"/>
                    </a:lnTo>
                    <a:lnTo>
                      <a:pt x="1494" y="1146"/>
                    </a:lnTo>
                    <a:lnTo>
                      <a:pt x="1410" y="1002"/>
                    </a:lnTo>
                    <a:lnTo>
                      <a:pt x="1326" y="1014"/>
                    </a:lnTo>
                    <a:lnTo>
                      <a:pt x="1242" y="1002"/>
                    </a:lnTo>
                    <a:lnTo>
                      <a:pt x="1158" y="696"/>
                    </a:lnTo>
                    <a:lnTo>
                      <a:pt x="1080" y="498"/>
                    </a:lnTo>
                    <a:lnTo>
                      <a:pt x="996" y="570"/>
                    </a:lnTo>
                    <a:lnTo>
                      <a:pt x="912" y="414"/>
                    </a:lnTo>
                    <a:lnTo>
                      <a:pt x="828" y="312"/>
                    </a:lnTo>
                    <a:lnTo>
                      <a:pt x="744" y="450"/>
                    </a:lnTo>
                    <a:lnTo>
                      <a:pt x="666" y="732"/>
                    </a:lnTo>
                    <a:lnTo>
                      <a:pt x="582" y="732"/>
                    </a:lnTo>
                    <a:lnTo>
                      <a:pt x="498" y="270"/>
                    </a:lnTo>
                    <a:lnTo>
                      <a:pt x="414" y="396"/>
                    </a:lnTo>
                    <a:lnTo>
                      <a:pt x="330" y="0"/>
                    </a:lnTo>
                    <a:lnTo>
                      <a:pt x="246" y="96"/>
                    </a:lnTo>
                    <a:lnTo>
                      <a:pt x="168" y="330"/>
                    </a:lnTo>
                    <a:lnTo>
                      <a:pt x="84" y="852"/>
                    </a:lnTo>
                    <a:lnTo>
                      <a:pt x="0" y="183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800360" y="1952640"/>
                <a:ext cx="5790960" cy="3610080"/>
              </a:xfrm>
              <a:custGeom>
                <a:avLst/>
                <a:gdLst/>
                <a:ahLst/>
                <a:rect l="l" t="t" r="r" b="b"/>
                <a:pathLst>
                  <a:path w="3648" h="2274">
                    <a:moveTo>
                      <a:pt x="0" y="1830"/>
                    </a:moveTo>
                    <a:lnTo>
                      <a:pt x="0" y="1830"/>
                    </a:lnTo>
                    <a:lnTo>
                      <a:pt x="84" y="852"/>
                    </a:lnTo>
                    <a:lnTo>
                      <a:pt x="168" y="330"/>
                    </a:lnTo>
                    <a:lnTo>
                      <a:pt x="246" y="96"/>
                    </a:lnTo>
                    <a:lnTo>
                      <a:pt x="330" y="0"/>
                    </a:lnTo>
                    <a:lnTo>
                      <a:pt x="414" y="396"/>
                    </a:lnTo>
                    <a:lnTo>
                      <a:pt x="498" y="270"/>
                    </a:lnTo>
                    <a:lnTo>
                      <a:pt x="582" y="732"/>
                    </a:lnTo>
                    <a:lnTo>
                      <a:pt x="666" y="732"/>
                    </a:lnTo>
                    <a:lnTo>
                      <a:pt x="744" y="450"/>
                    </a:lnTo>
                    <a:lnTo>
                      <a:pt x="828" y="312"/>
                    </a:lnTo>
                    <a:lnTo>
                      <a:pt x="912" y="414"/>
                    </a:lnTo>
                    <a:lnTo>
                      <a:pt x="996" y="570"/>
                    </a:lnTo>
                    <a:lnTo>
                      <a:pt x="1080" y="498"/>
                    </a:lnTo>
                    <a:lnTo>
                      <a:pt x="1158" y="696"/>
                    </a:lnTo>
                    <a:lnTo>
                      <a:pt x="1242" y="1002"/>
                    </a:lnTo>
                    <a:lnTo>
                      <a:pt x="1326" y="1014"/>
                    </a:lnTo>
                    <a:lnTo>
                      <a:pt x="1410" y="1002"/>
                    </a:lnTo>
                    <a:lnTo>
                      <a:pt x="1494" y="792"/>
                    </a:lnTo>
                    <a:lnTo>
                      <a:pt x="1578" y="768"/>
                    </a:lnTo>
                    <a:lnTo>
                      <a:pt x="1656" y="1164"/>
                    </a:lnTo>
                    <a:lnTo>
                      <a:pt x="1740" y="1590"/>
                    </a:lnTo>
                    <a:lnTo>
                      <a:pt x="1824" y="1866"/>
                    </a:lnTo>
                    <a:lnTo>
                      <a:pt x="1908" y="2010"/>
                    </a:lnTo>
                    <a:lnTo>
                      <a:pt x="1992" y="2100"/>
                    </a:lnTo>
                    <a:lnTo>
                      <a:pt x="2070" y="2154"/>
                    </a:lnTo>
                    <a:lnTo>
                      <a:pt x="2154" y="2196"/>
                    </a:lnTo>
                    <a:lnTo>
                      <a:pt x="2238" y="2220"/>
                    </a:lnTo>
                    <a:lnTo>
                      <a:pt x="2322" y="2238"/>
                    </a:lnTo>
                    <a:lnTo>
                      <a:pt x="2406" y="2256"/>
                    </a:lnTo>
                    <a:lnTo>
                      <a:pt x="2490" y="2262"/>
                    </a:lnTo>
                    <a:lnTo>
                      <a:pt x="2568" y="2268"/>
                    </a:lnTo>
                    <a:lnTo>
                      <a:pt x="2652" y="2268"/>
                    </a:lnTo>
                    <a:lnTo>
                      <a:pt x="2736" y="2268"/>
                    </a:lnTo>
                    <a:lnTo>
                      <a:pt x="2820" y="2268"/>
                    </a:lnTo>
                    <a:lnTo>
                      <a:pt x="2904" y="2274"/>
                    </a:lnTo>
                    <a:lnTo>
                      <a:pt x="2982" y="2274"/>
                    </a:lnTo>
                    <a:lnTo>
                      <a:pt x="3066" y="2274"/>
                    </a:lnTo>
                    <a:lnTo>
                      <a:pt x="3150" y="2274"/>
                    </a:lnTo>
                    <a:lnTo>
                      <a:pt x="3234" y="2274"/>
                    </a:lnTo>
                    <a:lnTo>
                      <a:pt x="3318" y="2274"/>
                    </a:lnTo>
                    <a:lnTo>
                      <a:pt x="3402" y="2274"/>
                    </a:lnTo>
                    <a:lnTo>
                      <a:pt x="3480" y="2274"/>
                    </a:lnTo>
                    <a:lnTo>
                      <a:pt x="3564" y="2274"/>
                    </a:lnTo>
                    <a:lnTo>
                      <a:pt x="3648" y="2274"/>
                    </a:lnTo>
                    <a:lnTo>
                      <a:pt x="3648" y="2274"/>
                    </a:lnTo>
                    <a:lnTo>
                      <a:pt x="3564" y="2274"/>
                    </a:lnTo>
                    <a:lnTo>
                      <a:pt x="3480" y="2274"/>
                    </a:lnTo>
                    <a:lnTo>
                      <a:pt x="3402" y="2274"/>
                    </a:lnTo>
                    <a:lnTo>
                      <a:pt x="3318" y="2274"/>
                    </a:lnTo>
                    <a:lnTo>
                      <a:pt x="3234" y="2274"/>
                    </a:lnTo>
                    <a:lnTo>
                      <a:pt x="3150" y="2274"/>
                    </a:lnTo>
                    <a:lnTo>
                      <a:pt x="3066" y="2274"/>
                    </a:lnTo>
                    <a:lnTo>
                      <a:pt x="2982" y="2274"/>
                    </a:lnTo>
                    <a:lnTo>
                      <a:pt x="2904" y="2274"/>
                    </a:lnTo>
                    <a:lnTo>
                      <a:pt x="2820" y="2268"/>
                    </a:lnTo>
                    <a:lnTo>
                      <a:pt x="2736" y="2268"/>
                    </a:lnTo>
                    <a:lnTo>
                      <a:pt x="2652" y="2268"/>
                    </a:lnTo>
                    <a:lnTo>
                      <a:pt x="2568" y="2268"/>
                    </a:lnTo>
                    <a:lnTo>
                      <a:pt x="2490" y="2262"/>
                    </a:lnTo>
                    <a:lnTo>
                      <a:pt x="2406" y="2256"/>
                    </a:lnTo>
                    <a:lnTo>
                      <a:pt x="2322" y="2244"/>
                    </a:lnTo>
                    <a:lnTo>
                      <a:pt x="2238" y="2226"/>
                    </a:lnTo>
                    <a:lnTo>
                      <a:pt x="2154" y="2208"/>
                    </a:lnTo>
                    <a:lnTo>
                      <a:pt x="2070" y="2178"/>
                    </a:lnTo>
                    <a:lnTo>
                      <a:pt x="1992" y="2136"/>
                    </a:lnTo>
                    <a:lnTo>
                      <a:pt x="1908" y="2076"/>
                    </a:lnTo>
                    <a:lnTo>
                      <a:pt x="1824" y="1980"/>
                    </a:lnTo>
                    <a:lnTo>
                      <a:pt x="1740" y="1812"/>
                    </a:lnTo>
                    <a:lnTo>
                      <a:pt x="1656" y="1602"/>
                    </a:lnTo>
                    <a:lnTo>
                      <a:pt x="1578" y="1068"/>
                    </a:lnTo>
                    <a:lnTo>
                      <a:pt x="1494" y="792"/>
                    </a:lnTo>
                    <a:lnTo>
                      <a:pt x="1410" y="1002"/>
                    </a:lnTo>
                    <a:lnTo>
                      <a:pt x="1326" y="1014"/>
                    </a:lnTo>
                    <a:lnTo>
                      <a:pt x="1242" y="1002"/>
                    </a:lnTo>
                    <a:lnTo>
                      <a:pt x="1158" y="696"/>
                    </a:lnTo>
                    <a:lnTo>
                      <a:pt x="1080" y="498"/>
                    </a:lnTo>
                    <a:lnTo>
                      <a:pt x="996" y="570"/>
                    </a:lnTo>
                    <a:lnTo>
                      <a:pt x="912" y="414"/>
                    </a:lnTo>
                    <a:lnTo>
                      <a:pt x="828" y="312"/>
                    </a:lnTo>
                    <a:lnTo>
                      <a:pt x="744" y="450"/>
                    </a:lnTo>
                    <a:lnTo>
                      <a:pt x="666" y="732"/>
                    </a:lnTo>
                    <a:lnTo>
                      <a:pt x="582" y="732"/>
                    </a:lnTo>
                    <a:lnTo>
                      <a:pt x="498" y="270"/>
                    </a:lnTo>
                    <a:lnTo>
                      <a:pt x="414" y="396"/>
                    </a:lnTo>
                    <a:lnTo>
                      <a:pt x="330" y="0"/>
                    </a:lnTo>
                    <a:lnTo>
                      <a:pt x="246" y="96"/>
                    </a:lnTo>
                    <a:lnTo>
                      <a:pt x="168" y="330"/>
                    </a:lnTo>
                    <a:lnTo>
                      <a:pt x="84" y="852"/>
                    </a:lnTo>
                    <a:lnTo>
                      <a:pt x="0" y="183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800360" y="1952640"/>
                <a:ext cx="5790960" cy="3610080"/>
              </a:xfrm>
              <a:custGeom>
                <a:avLst/>
                <a:gdLst/>
                <a:ahLst/>
                <a:rect l="l" t="t" r="r" b="b"/>
                <a:pathLst>
                  <a:path w="3648" h="2274">
                    <a:moveTo>
                      <a:pt x="0" y="1830"/>
                    </a:moveTo>
                    <a:lnTo>
                      <a:pt x="0" y="1830"/>
                    </a:lnTo>
                    <a:lnTo>
                      <a:pt x="84" y="852"/>
                    </a:lnTo>
                    <a:lnTo>
                      <a:pt x="168" y="330"/>
                    </a:lnTo>
                    <a:lnTo>
                      <a:pt x="246" y="96"/>
                    </a:lnTo>
                    <a:lnTo>
                      <a:pt x="330" y="0"/>
                    </a:lnTo>
                    <a:lnTo>
                      <a:pt x="414" y="396"/>
                    </a:lnTo>
                    <a:lnTo>
                      <a:pt x="498" y="270"/>
                    </a:lnTo>
                    <a:lnTo>
                      <a:pt x="582" y="732"/>
                    </a:lnTo>
                    <a:lnTo>
                      <a:pt x="666" y="732"/>
                    </a:lnTo>
                    <a:lnTo>
                      <a:pt x="744" y="450"/>
                    </a:lnTo>
                    <a:lnTo>
                      <a:pt x="828" y="312"/>
                    </a:lnTo>
                    <a:lnTo>
                      <a:pt x="912" y="414"/>
                    </a:lnTo>
                    <a:lnTo>
                      <a:pt x="996" y="570"/>
                    </a:lnTo>
                    <a:lnTo>
                      <a:pt x="1080" y="498"/>
                    </a:lnTo>
                    <a:lnTo>
                      <a:pt x="1158" y="696"/>
                    </a:lnTo>
                    <a:lnTo>
                      <a:pt x="1242" y="1002"/>
                    </a:lnTo>
                    <a:lnTo>
                      <a:pt x="1326" y="1014"/>
                    </a:lnTo>
                    <a:lnTo>
                      <a:pt x="1410" y="1002"/>
                    </a:lnTo>
                    <a:lnTo>
                      <a:pt x="1494" y="792"/>
                    </a:lnTo>
                    <a:lnTo>
                      <a:pt x="1578" y="768"/>
                    </a:lnTo>
                    <a:lnTo>
                      <a:pt x="1656" y="864"/>
                    </a:lnTo>
                    <a:lnTo>
                      <a:pt x="1740" y="1212"/>
                    </a:lnTo>
                    <a:lnTo>
                      <a:pt x="1824" y="1668"/>
                    </a:lnTo>
                    <a:lnTo>
                      <a:pt x="1908" y="1914"/>
                    </a:lnTo>
                    <a:lnTo>
                      <a:pt x="1992" y="2052"/>
                    </a:lnTo>
                    <a:lnTo>
                      <a:pt x="2070" y="2130"/>
                    </a:lnTo>
                    <a:lnTo>
                      <a:pt x="2154" y="2184"/>
                    </a:lnTo>
                    <a:lnTo>
                      <a:pt x="2238" y="2214"/>
                    </a:lnTo>
                    <a:lnTo>
                      <a:pt x="2322" y="2238"/>
                    </a:lnTo>
                    <a:lnTo>
                      <a:pt x="2406" y="2250"/>
                    </a:lnTo>
                    <a:lnTo>
                      <a:pt x="2490" y="2262"/>
                    </a:lnTo>
                    <a:lnTo>
                      <a:pt x="2568" y="2268"/>
                    </a:lnTo>
                    <a:lnTo>
                      <a:pt x="2652" y="2268"/>
                    </a:lnTo>
                    <a:lnTo>
                      <a:pt x="2736" y="2268"/>
                    </a:lnTo>
                    <a:lnTo>
                      <a:pt x="2820" y="2268"/>
                    </a:lnTo>
                    <a:lnTo>
                      <a:pt x="2904" y="2274"/>
                    </a:lnTo>
                    <a:lnTo>
                      <a:pt x="2982" y="2274"/>
                    </a:lnTo>
                    <a:lnTo>
                      <a:pt x="3066" y="2274"/>
                    </a:lnTo>
                    <a:lnTo>
                      <a:pt x="3150" y="2274"/>
                    </a:lnTo>
                    <a:lnTo>
                      <a:pt x="3234" y="2274"/>
                    </a:lnTo>
                    <a:lnTo>
                      <a:pt x="3318" y="2274"/>
                    </a:lnTo>
                    <a:lnTo>
                      <a:pt x="3402" y="2274"/>
                    </a:lnTo>
                    <a:lnTo>
                      <a:pt x="3480" y="2274"/>
                    </a:lnTo>
                    <a:lnTo>
                      <a:pt x="3564" y="2274"/>
                    </a:lnTo>
                    <a:lnTo>
                      <a:pt x="3648" y="2274"/>
                    </a:lnTo>
                    <a:lnTo>
                      <a:pt x="3648" y="2274"/>
                    </a:lnTo>
                    <a:lnTo>
                      <a:pt x="3564" y="2274"/>
                    </a:lnTo>
                    <a:lnTo>
                      <a:pt x="3480" y="2274"/>
                    </a:lnTo>
                    <a:lnTo>
                      <a:pt x="3402" y="2274"/>
                    </a:lnTo>
                    <a:lnTo>
                      <a:pt x="3318" y="2274"/>
                    </a:lnTo>
                    <a:lnTo>
                      <a:pt x="3234" y="2274"/>
                    </a:lnTo>
                    <a:lnTo>
                      <a:pt x="3150" y="2274"/>
                    </a:lnTo>
                    <a:lnTo>
                      <a:pt x="3066" y="2274"/>
                    </a:lnTo>
                    <a:lnTo>
                      <a:pt x="2982" y="2274"/>
                    </a:lnTo>
                    <a:lnTo>
                      <a:pt x="2904" y="2274"/>
                    </a:lnTo>
                    <a:lnTo>
                      <a:pt x="2820" y="2268"/>
                    </a:lnTo>
                    <a:lnTo>
                      <a:pt x="2736" y="2268"/>
                    </a:lnTo>
                    <a:lnTo>
                      <a:pt x="2652" y="2268"/>
                    </a:lnTo>
                    <a:lnTo>
                      <a:pt x="2568" y="2268"/>
                    </a:lnTo>
                    <a:lnTo>
                      <a:pt x="2490" y="2262"/>
                    </a:lnTo>
                    <a:lnTo>
                      <a:pt x="2406" y="2256"/>
                    </a:lnTo>
                    <a:lnTo>
                      <a:pt x="2322" y="2238"/>
                    </a:lnTo>
                    <a:lnTo>
                      <a:pt x="2238" y="2220"/>
                    </a:lnTo>
                    <a:lnTo>
                      <a:pt x="2154" y="2196"/>
                    </a:lnTo>
                    <a:lnTo>
                      <a:pt x="2070" y="2154"/>
                    </a:lnTo>
                    <a:lnTo>
                      <a:pt x="1992" y="2100"/>
                    </a:lnTo>
                    <a:lnTo>
                      <a:pt x="1908" y="2010"/>
                    </a:lnTo>
                    <a:lnTo>
                      <a:pt x="1824" y="1866"/>
                    </a:lnTo>
                    <a:lnTo>
                      <a:pt x="1740" y="1590"/>
                    </a:lnTo>
                    <a:lnTo>
                      <a:pt x="1656" y="1164"/>
                    </a:lnTo>
                    <a:lnTo>
                      <a:pt x="1578" y="768"/>
                    </a:lnTo>
                    <a:lnTo>
                      <a:pt x="1494" y="792"/>
                    </a:lnTo>
                    <a:lnTo>
                      <a:pt x="1410" y="1002"/>
                    </a:lnTo>
                    <a:lnTo>
                      <a:pt x="1326" y="1014"/>
                    </a:lnTo>
                    <a:lnTo>
                      <a:pt x="1242" y="1002"/>
                    </a:lnTo>
                    <a:lnTo>
                      <a:pt x="1158" y="696"/>
                    </a:lnTo>
                    <a:lnTo>
                      <a:pt x="1080" y="498"/>
                    </a:lnTo>
                    <a:lnTo>
                      <a:pt x="996" y="570"/>
                    </a:lnTo>
                    <a:lnTo>
                      <a:pt x="912" y="414"/>
                    </a:lnTo>
                    <a:lnTo>
                      <a:pt x="828" y="312"/>
                    </a:lnTo>
                    <a:lnTo>
                      <a:pt x="744" y="450"/>
                    </a:lnTo>
                    <a:lnTo>
                      <a:pt x="666" y="732"/>
                    </a:lnTo>
                    <a:lnTo>
                      <a:pt x="582" y="732"/>
                    </a:lnTo>
                    <a:lnTo>
                      <a:pt x="498" y="270"/>
                    </a:lnTo>
                    <a:lnTo>
                      <a:pt x="414" y="396"/>
                    </a:lnTo>
                    <a:lnTo>
                      <a:pt x="330" y="0"/>
                    </a:lnTo>
                    <a:lnTo>
                      <a:pt x="246" y="96"/>
                    </a:lnTo>
                    <a:lnTo>
                      <a:pt x="168" y="330"/>
                    </a:lnTo>
                    <a:lnTo>
                      <a:pt x="84" y="852"/>
                    </a:lnTo>
                    <a:lnTo>
                      <a:pt x="0" y="1830"/>
                    </a:lnTo>
                    <a:close/>
                  </a:path>
                </a:pathLst>
              </a:cu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800360" y="1952640"/>
                <a:ext cx="5790960" cy="3610080"/>
              </a:xfrm>
              <a:custGeom>
                <a:avLst/>
                <a:gdLst/>
                <a:ahLst/>
                <a:rect l="l" t="t" r="r" b="b"/>
                <a:pathLst>
                  <a:path w="3648" h="2274">
                    <a:moveTo>
                      <a:pt x="0" y="1830"/>
                    </a:moveTo>
                    <a:lnTo>
                      <a:pt x="0" y="1830"/>
                    </a:lnTo>
                    <a:lnTo>
                      <a:pt x="84" y="852"/>
                    </a:lnTo>
                    <a:lnTo>
                      <a:pt x="168" y="330"/>
                    </a:lnTo>
                    <a:lnTo>
                      <a:pt x="246" y="96"/>
                    </a:lnTo>
                    <a:lnTo>
                      <a:pt x="330" y="0"/>
                    </a:lnTo>
                    <a:lnTo>
                      <a:pt x="414" y="396"/>
                    </a:lnTo>
                    <a:lnTo>
                      <a:pt x="498" y="270"/>
                    </a:lnTo>
                    <a:lnTo>
                      <a:pt x="582" y="732"/>
                    </a:lnTo>
                    <a:lnTo>
                      <a:pt x="666" y="732"/>
                    </a:lnTo>
                    <a:lnTo>
                      <a:pt x="744" y="450"/>
                    </a:lnTo>
                    <a:lnTo>
                      <a:pt x="828" y="312"/>
                    </a:lnTo>
                    <a:lnTo>
                      <a:pt x="912" y="414"/>
                    </a:lnTo>
                    <a:lnTo>
                      <a:pt x="996" y="570"/>
                    </a:lnTo>
                    <a:lnTo>
                      <a:pt x="1080" y="498"/>
                    </a:lnTo>
                    <a:lnTo>
                      <a:pt x="1158" y="696"/>
                    </a:lnTo>
                    <a:lnTo>
                      <a:pt x="1242" y="1002"/>
                    </a:lnTo>
                    <a:lnTo>
                      <a:pt x="1326" y="1014"/>
                    </a:lnTo>
                    <a:lnTo>
                      <a:pt x="1410" y="1002"/>
                    </a:lnTo>
                    <a:lnTo>
                      <a:pt x="1494" y="792"/>
                    </a:lnTo>
                    <a:lnTo>
                      <a:pt x="1578" y="768"/>
                    </a:lnTo>
                    <a:lnTo>
                      <a:pt x="1656" y="864"/>
                    </a:lnTo>
                    <a:lnTo>
                      <a:pt x="1740" y="1038"/>
                    </a:lnTo>
                    <a:lnTo>
                      <a:pt x="1824" y="1422"/>
                    </a:lnTo>
                    <a:lnTo>
                      <a:pt x="1908" y="1866"/>
                    </a:lnTo>
                    <a:lnTo>
                      <a:pt x="1992" y="2040"/>
                    </a:lnTo>
                    <a:lnTo>
                      <a:pt x="2070" y="2130"/>
                    </a:lnTo>
                    <a:lnTo>
                      <a:pt x="2154" y="2184"/>
                    </a:lnTo>
                    <a:lnTo>
                      <a:pt x="2238" y="2214"/>
                    </a:lnTo>
                    <a:lnTo>
                      <a:pt x="2322" y="2238"/>
                    </a:lnTo>
                    <a:lnTo>
                      <a:pt x="2406" y="2250"/>
                    </a:lnTo>
                    <a:lnTo>
                      <a:pt x="2490" y="2262"/>
                    </a:lnTo>
                    <a:lnTo>
                      <a:pt x="2568" y="2268"/>
                    </a:lnTo>
                    <a:lnTo>
                      <a:pt x="2652" y="2268"/>
                    </a:lnTo>
                    <a:lnTo>
                      <a:pt x="2736" y="2268"/>
                    </a:lnTo>
                    <a:lnTo>
                      <a:pt x="2820" y="2268"/>
                    </a:lnTo>
                    <a:lnTo>
                      <a:pt x="2904" y="2274"/>
                    </a:lnTo>
                    <a:lnTo>
                      <a:pt x="2982" y="2274"/>
                    </a:lnTo>
                    <a:lnTo>
                      <a:pt x="3066" y="2274"/>
                    </a:lnTo>
                    <a:lnTo>
                      <a:pt x="3150" y="2274"/>
                    </a:lnTo>
                    <a:lnTo>
                      <a:pt x="3234" y="2274"/>
                    </a:lnTo>
                    <a:lnTo>
                      <a:pt x="3318" y="2274"/>
                    </a:lnTo>
                    <a:lnTo>
                      <a:pt x="3402" y="2274"/>
                    </a:lnTo>
                    <a:lnTo>
                      <a:pt x="3480" y="2274"/>
                    </a:lnTo>
                    <a:lnTo>
                      <a:pt x="3564" y="2274"/>
                    </a:lnTo>
                    <a:lnTo>
                      <a:pt x="3648" y="2274"/>
                    </a:lnTo>
                    <a:lnTo>
                      <a:pt x="3648" y="2274"/>
                    </a:lnTo>
                    <a:lnTo>
                      <a:pt x="3564" y="2274"/>
                    </a:lnTo>
                    <a:lnTo>
                      <a:pt x="3480" y="2274"/>
                    </a:lnTo>
                    <a:lnTo>
                      <a:pt x="3402" y="2274"/>
                    </a:lnTo>
                    <a:lnTo>
                      <a:pt x="3318" y="2274"/>
                    </a:lnTo>
                    <a:lnTo>
                      <a:pt x="3234" y="2274"/>
                    </a:lnTo>
                    <a:lnTo>
                      <a:pt x="3150" y="2274"/>
                    </a:lnTo>
                    <a:lnTo>
                      <a:pt x="3066" y="2274"/>
                    </a:lnTo>
                    <a:lnTo>
                      <a:pt x="2982" y="2274"/>
                    </a:lnTo>
                    <a:lnTo>
                      <a:pt x="2904" y="2274"/>
                    </a:lnTo>
                    <a:lnTo>
                      <a:pt x="2820" y="2268"/>
                    </a:lnTo>
                    <a:lnTo>
                      <a:pt x="2736" y="2268"/>
                    </a:lnTo>
                    <a:lnTo>
                      <a:pt x="2652" y="2268"/>
                    </a:lnTo>
                    <a:lnTo>
                      <a:pt x="2568" y="2268"/>
                    </a:lnTo>
                    <a:lnTo>
                      <a:pt x="2490" y="2262"/>
                    </a:lnTo>
                    <a:lnTo>
                      <a:pt x="2406" y="2250"/>
                    </a:lnTo>
                    <a:lnTo>
                      <a:pt x="2322" y="2238"/>
                    </a:lnTo>
                    <a:lnTo>
                      <a:pt x="2238" y="2214"/>
                    </a:lnTo>
                    <a:lnTo>
                      <a:pt x="2154" y="2184"/>
                    </a:lnTo>
                    <a:lnTo>
                      <a:pt x="2070" y="2130"/>
                    </a:lnTo>
                    <a:lnTo>
                      <a:pt x="1992" y="2052"/>
                    </a:lnTo>
                    <a:lnTo>
                      <a:pt x="1908" y="1914"/>
                    </a:lnTo>
                    <a:lnTo>
                      <a:pt x="1824" y="1668"/>
                    </a:lnTo>
                    <a:lnTo>
                      <a:pt x="1740" y="1212"/>
                    </a:lnTo>
                    <a:lnTo>
                      <a:pt x="1656" y="864"/>
                    </a:lnTo>
                    <a:lnTo>
                      <a:pt x="1578" y="768"/>
                    </a:lnTo>
                    <a:lnTo>
                      <a:pt x="1494" y="792"/>
                    </a:lnTo>
                    <a:lnTo>
                      <a:pt x="1410" y="1002"/>
                    </a:lnTo>
                    <a:lnTo>
                      <a:pt x="1326" y="1014"/>
                    </a:lnTo>
                    <a:lnTo>
                      <a:pt x="1242" y="1002"/>
                    </a:lnTo>
                    <a:lnTo>
                      <a:pt x="1158" y="696"/>
                    </a:lnTo>
                    <a:lnTo>
                      <a:pt x="1080" y="498"/>
                    </a:lnTo>
                    <a:lnTo>
                      <a:pt x="996" y="570"/>
                    </a:lnTo>
                    <a:lnTo>
                      <a:pt x="912" y="414"/>
                    </a:lnTo>
                    <a:lnTo>
                      <a:pt x="828" y="312"/>
                    </a:lnTo>
                    <a:lnTo>
                      <a:pt x="744" y="450"/>
                    </a:lnTo>
                    <a:lnTo>
                      <a:pt x="666" y="732"/>
                    </a:lnTo>
                    <a:lnTo>
                      <a:pt x="582" y="732"/>
                    </a:lnTo>
                    <a:lnTo>
                      <a:pt x="498" y="270"/>
                    </a:lnTo>
                    <a:lnTo>
                      <a:pt x="414" y="396"/>
                    </a:lnTo>
                    <a:lnTo>
                      <a:pt x="330" y="0"/>
                    </a:lnTo>
                    <a:lnTo>
                      <a:pt x="246" y="96"/>
                    </a:lnTo>
                    <a:lnTo>
                      <a:pt x="168" y="330"/>
                    </a:lnTo>
                    <a:lnTo>
                      <a:pt x="84" y="852"/>
                    </a:lnTo>
                    <a:lnTo>
                      <a:pt x="0" y="183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800360" y="1952640"/>
                <a:ext cx="5790960" cy="3610080"/>
              </a:xfrm>
              <a:custGeom>
                <a:avLst/>
                <a:gdLst/>
                <a:ahLst/>
                <a:rect l="l" t="t" r="r" b="b"/>
                <a:pathLst>
                  <a:path w="3648" h="2274">
                    <a:moveTo>
                      <a:pt x="0" y="1830"/>
                    </a:moveTo>
                    <a:lnTo>
                      <a:pt x="0" y="1830"/>
                    </a:lnTo>
                    <a:lnTo>
                      <a:pt x="84" y="852"/>
                    </a:lnTo>
                    <a:lnTo>
                      <a:pt x="168" y="330"/>
                    </a:lnTo>
                    <a:lnTo>
                      <a:pt x="246" y="96"/>
                    </a:lnTo>
                    <a:lnTo>
                      <a:pt x="330" y="0"/>
                    </a:lnTo>
                    <a:lnTo>
                      <a:pt x="414" y="396"/>
                    </a:lnTo>
                    <a:lnTo>
                      <a:pt x="498" y="270"/>
                    </a:lnTo>
                    <a:lnTo>
                      <a:pt x="582" y="732"/>
                    </a:lnTo>
                    <a:lnTo>
                      <a:pt x="666" y="732"/>
                    </a:lnTo>
                    <a:lnTo>
                      <a:pt x="744" y="450"/>
                    </a:lnTo>
                    <a:lnTo>
                      <a:pt x="828" y="312"/>
                    </a:lnTo>
                    <a:lnTo>
                      <a:pt x="912" y="414"/>
                    </a:lnTo>
                    <a:lnTo>
                      <a:pt x="996" y="570"/>
                    </a:lnTo>
                    <a:lnTo>
                      <a:pt x="1080" y="498"/>
                    </a:lnTo>
                    <a:lnTo>
                      <a:pt x="1158" y="696"/>
                    </a:lnTo>
                    <a:lnTo>
                      <a:pt x="1242" y="1002"/>
                    </a:lnTo>
                    <a:lnTo>
                      <a:pt x="1326" y="1014"/>
                    </a:lnTo>
                    <a:lnTo>
                      <a:pt x="1410" y="1002"/>
                    </a:lnTo>
                    <a:lnTo>
                      <a:pt x="1494" y="792"/>
                    </a:lnTo>
                    <a:lnTo>
                      <a:pt x="1578" y="768"/>
                    </a:lnTo>
                    <a:lnTo>
                      <a:pt x="1656" y="864"/>
                    </a:lnTo>
                    <a:lnTo>
                      <a:pt x="1740" y="1038"/>
                    </a:lnTo>
                    <a:lnTo>
                      <a:pt x="1824" y="1146"/>
                    </a:lnTo>
                    <a:lnTo>
                      <a:pt x="1908" y="1608"/>
                    </a:lnTo>
                    <a:lnTo>
                      <a:pt x="1992" y="1974"/>
                    </a:lnTo>
                    <a:lnTo>
                      <a:pt x="2070" y="2112"/>
                    </a:lnTo>
                    <a:lnTo>
                      <a:pt x="2154" y="2178"/>
                    </a:lnTo>
                    <a:lnTo>
                      <a:pt x="2238" y="2214"/>
                    </a:lnTo>
                    <a:lnTo>
                      <a:pt x="2322" y="2238"/>
                    </a:lnTo>
                    <a:lnTo>
                      <a:pt x="2406" y="2250"/>
                    </a:lnTo>
                    <a:lnTo>
                      <a:pt x="2490" y="2262"/>
                    </a:lnTo>
                    <a:lnTo>
                      <a:pt x="2568" y="2268"/>
                    </a:lnTo>
                    <a:lnTo>
                      <a:pt x="2652" y="2268"/>
                    </a:lnTo>
                    <a:lnTo>
                      <a:pt x="2736" y="2268"/>
                    </a:lnTo>
                    <a:lnTo>
                      <a:pt x="2820" y="2268"/>
                    </a:lnTo>
                    <a:lnTo>
                      <a:pt x="2904" y="2274"/>
                    </a:lnTo>
                    <a:lnTo>
                      <a:pt x="2982" y="2274"/>
                    </a:lnTo>
                    <a:lnTo>
                      <a:pt x="3066" y="2274"/>
                    </a:lnTo>
                    <a:lnTo>
                      <a:pt x="3150" y="2274"/>
                    </a:lnTo>
                    <a:lnTo>
                      <a:pt x="3234" y="2274"/>
                    </a:lnTo>
                    <a:lnTo>
                      <a:pt x="3318" y="2274"/>
                    </a:lnTo>
                    <a:lnTo>
                      <a:pt x="3402" y="2274"/>
                    </a:lnTo>
                    <a:lnTo>
                      <a:pt x="3480" y="2274"/>
                    </a:lnTo>
                    <a:lnTo>
                      <a:pt x="3564" y="2274"/>
                    </a:lnTo>
                    <a:lnTo>
                      <a:pt x="3648" y="2274"/>
                    </a:lnTo>
                    <a:lnTo>
                      <a:pt x="3648" y="2274"/>
                    </a:lnTo>
                    <a:lnTo>
                      <a:pt x="3564" y="2274"/>
                    </a:lnTo>
                    <a:lnTo>
                      <a:pt x="3480" y="2274"/>
                    </a:lnTo>
                    <a:lnTo>
                      <a:pt x="3402" y="2274"/>
                    </a:lnTo>
                    <a:lnTo>
                      <a:pt x="3318" y="2274"/>
                    </a:lnTo>
                    <a:lnTo>
                      <a:pt x="3234" y="2274"/>
                    </a:lnTo>
                    <a:lnTo>
                      <a:pt x="3150" y="2274"/>
                    </a:lnTo>
                    <a:lnTo>
                      <a:pt x="3066" y="2274"/>
                    </a:lnTo>
                    <a:lnTo>
                      <a:pt x="2982" y="2274"/>
                    </a:lnTo>
                    <a:lnTo>
                      <a:pt x="2904" y="2274"/>
                    </a:lnTo>
                    <a:lnTo>
                      <a:pt x="2820" y="2268"/>
                    </a:lnTo>
                    <a:lnTo>
                      <a:pt x="2736" y="2268"/>
                    </a:lnTo>
                    <a:lnTo>
                      <a:pt x="2652" y="2268"/>
                    </a:lnTo>
                    <a:lnTo>
                      <a:pt x="2568" y="2268"/>
                    </a:lnTo>
                    <a:lnTo>
                      <a:pt x="2490" y="2262"/>
                    </a:lnTo>
                    <a:lnTo>
                      <a:pt x="2406" y="2250"/>
                    </a:lnTo>
                    <a:lnTo>
                      <a:pt x="2322" y="2238"/>
                    </a:lnTo>
                    <a:lnTo>
                      <a:pt x="2238" y="2214"/>
                    </a:lnTo>
                    <a:lnTo>
                      <a:pt x="2154" y="2184"/>
                    </a:lnTo>
                    <a:lnTo>
                      <a:pt x="2070" y="2130"/>
                    </a:lnTo>
                    <a:lnTo>
                      <a:pt x="1992" y="2040"/>
                    </a:lnTo>
                    <a:lnTo>
                      <a:pt x="1908" y="1866"/>
                    </a:lnTo>
                    <a:lnTo>
                      <a:pt x="1824" y="1422"/>
                    </a:lnTo>
                    <a:lnTo>
                      <a:pt x="1740" y="1038"/>
                    </a:lnTo>
                    <a:lnTo>
                      <a:pt x="1656" y="864"/>
                    </a:lnTo>
                    <a:lnTo>
                      <a:pt x="1578" y="768"/>
                    </a:lnTo>
                    <a:lnTo>
                      <a:pt x="1494" y="792"/>
                    </a:lnTo>
                    <a:lnTo>
                      <a:pt x="1410" y="1002"/>
                    </a:lnTo>
                    <a:lnTo>
                      <a:pt x="1326" y="1014"/>
                    </a:lnTo>
                    <a:lnTo>
                      <a:pt x="1242" y="1002"/>
                    </a:lnTo>
                    <a:lnTo>
                      <a:pt x="1158" y="696"/>
                    </a:lnTo>
                    <a:lnTo>
                      <a:pt x="1080" y="498"/>
                    </a:lnTo>
                    <a:lnTo>
                      <a:pt x="996" y="570"/>
                    </a:lnTo>
                    <a:lnTo>
                      <a:pt x="912" y="414"/>
                    </a:lnTo>
                    <a:lnTo>
                      <a:pt x="828" y="312"/>
                    </a:lnTo>
                    <a:lnTo>
                      <a:pt x="744" y="450"/>
                    </a:lnTo>
                    <a:lnTo>
                      <a:pt x="666" y="732"/>
                    </a:lnTo>
                    <a:lnTo>
                      <a:pt x="582" y="732"/>
                    </a:lnTo>
                    <a:lnTo>
                      <a:pt x="498" y="270"/>
                    </a:lnTo>
                    <a:lnTo>
                      <a:pt x="414" y="396"/>
                    </a:lnTo>
                    <a:lnTo>
                      <a:pt x="330" y="0"/>
                    </a:lnTo>
                    <a:lnTo>
                      <a:pt x="246" y="96"/>
                    </a:lnTo>
                    <a:lnTo>
                      <a:pt x="168" y="330"/>
                    </a:lnTo>
                    <a:lnTo>
                      <a:pt x="84" y="852"/>
                    </a:lnTo>
                    <a:lnTo>
                      <a:pt x="0" y="1830"/>
                    </a:lnTo>
                    <a:close/>
                  </a:path>
                </a:pathLst>
              </a:cu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800360" y="1952640"/>
                <a:ext cx="5790960" cy="3610080"/>
              </a:xfrm>
              <a:custGeom>
                <a:avLst/>
                <a:gdLst/>
                <a:ahLst/>
                <a:rect l="l" t="t" r="r" b="b"/>
                <a:pathLst>
                  <a:path w="3648" h="2274">
                    <a:moveTo>
                      <a:pt x="0" y="1830"/>
                    </a:moveTo>
                    <a:lnTo>
                      <a:pt x="0" y="1830"/>
                    </a:lnTo>
                    <a:lnTo>
                      <a:pt x="84" y="852"/>
                    </a:lnTo>
                    <a:lnTo>
                      <a:pt x="168" y="330"/>
                    </a:lnTo>
                    <a:lnTo>
                      <a:pt x="246" y="96"/>
                    </a:lnTo>
                    <a:lnTo>
                      <a:pt x="330" y="0"/>
                    </a:lnTo>
                    <a:lnTo>
                      <a:pt x="414" y="396"/>
                    </a:lnTo>
                    <a:lnTo>
                      <a:pt x="498" y="270"/>
                    </a:lnTo>
                    <a:lnTo>
                      <a:pt x="582" y="732"/>
                    </a:lnTo>
                    <a:lnTo>
                      <a:pt x="666" y="732"/>
                    </a:lnTo>
                    <a:lnTo>
                      <a:pt x="744" y="450"/>
                    </a:lnTo>
                    <a:lnTo>
                      <a:pt x="828" y="312"/>
                    </a:lnTo>
                    <a:lnTo>
                      <a:pt x="912" y="414"/>
                    </a:lnTo>
                    <a:lnTo>
                      <a:pt x="996" y="570"/>
                    </a:lnTo>
                    <a:lnTo>
                      <a:pt x="1080" y="498"/>
                    </a:lnTo>
                    <a:lnTo>
                      <a:pt x="1158" y="696"/>
                    </a:lnTo>
                    <a:lnTo>
                      <a:pt x="1242" y="1002"/>
                    </a:lnTo>
                    <a:lnTo>
                      <a:pt x="1326" y="1014"/>
                    </a:lnTo>
                    <a:lnTo>
                      <a:pt x="1410" y="1002"/>
                    </a:lnTo>
                    <a:lnTo>
                      <a:pt x="1494" y="792"/>
                    </a:lnTo>
                    <a:lnTo>
                      <a:pt x="1578" y="768"/>
                    </a:lnTo>
                    <a:lnTo>
                      <a:pt x="1656" y="864"/>
                    </a:lnTo>
                    <a:lnTo>
                      <a:pt x="1740" y="1038"/>
                    </a:lnTo>
                    <a:lnTo>
                      <a:pt x="1824" y="1146"/>
                    </a:lnTo>
                    <a:lnTo>
                      <a:pt x="1908" y="1320"/>
                    </a:lnTo>
                    <a:lnTo>
                      <a:pt x="1992" y="1710"/>
                    </a:lnTo>
                    <a:lnTo>
                      <a:pt x="2070" y="2028"/>
                    </a:lnTo>
                    <a:lnTo>
                      <a:pt x="2154" y="2148"/>
                    </a:lnTo>
                    <a:lnTo>
                      <a:pt x="2238" y="2202"/>
                    </a:lnTo>
                    <a:lnTo>
                      <a:pt x="2322" y="2232"/>
                    </a:lnTo>
                    <a:lnTo>
                      <a:pt x="2406" y="2250"/>
                    </a:lnTo>
                    <a:lnTo>
                      <a:pt x="2490" y="2262"/>
                    </a:lnTo>
                    <a:lnTo>
                      <a:pt x="2568" y="2268"/>
                    </a:lnTo>
                    <a:lnTo>
                      <a:pt x="2652" y="2268"/>
                    </a:lnTo>
                    <a:lnTo>
                      <a:pt x="2736" y="2268"/>
                    </a:lnTo>
                    <a:lnTo>
                      <a:pt x="2820" y="2268"/>
                    </a:lnTo>
                    <a:lnTo>
                      <a:pt x="2904" y="2274"/>
                    </a:lnTo>
                    <a:lnTo>
                      <a:pt x="2982" y="2274"/>
                    </a:lnTo>
                    <a:lnTo>
                      <a:pt x="3066" y="2274"/>
                    </a:lnTo>
                    <a:lnTo>
                      <a:pt x="3150" y="2274"/>
                    </a:lnTo>
                    <a:lnTo>
                      <a:pt x="3234" y="2274"/>
                    </a:lnTo>
                    <a:lnTo>
                      <a:pt x="3318" y="2274"/>
                    </a:lnTo>
                    <a:lnTo>
                      <a:pt x="3402" y="2274"/>
                    </a:lnTo>
                    <a:lnTo>
                      <a:pt x="3480" y="2274"/>
                    </a:lnTo>
                    <a:lnTo>
                      <a:pt x="3564" y="2274"/>
                    </a:lnTo>
                    <a:lnTo>
                      <a:pt x="3648" y="2274"/>
                    </a:lnTo>
                    <a:lnTo>
                      <a:pt x="3648" y="2274"/>
                    </a:lnTo>
                    <a:lnTo>
                      <a:pt x="3564" y="2274"/>
                    </a:lnTo>
                    <a:lnTo>
                      <a:pt x="3480" y="2274"/>
                    </a:lnTo>
                    <a:lnTo>
                      <a:pt x="3402" y="2274"/>
                    </a:lnTo>
                    <a:lnTo>
                      <a:pt x="3318" y="2274"/>
                    </a:lnTo>
                    <a:lnTo>
                      <a:pt x="3234" y="2274"/>
                    </a:lnTo>
                    <a:lnTo>
                      <a:pt x="3150" y="2274"/>
                    </a:lnTo>
                    <a:lnTo>
                      <a:pt x="3066" y="2274"/>
                    </a:lnTo>
                    <a:lnTo>
                      <a:pt x="2982" y="2274"/>
                    </a:lnTo>
                    <a:lnTo>
                      <a:pt x="2904" y="2274"/>
                    </a:lnTo>
                    <a:lnTo>
                      <a:pt x="2820" y="2268"/>
                    </a:lnTo>
                    <a:lnTo>
                      <a:pt x="2736" y="2268"/>
                    </a:lnTo>
                    <a:lnTo>
                      <a:pt x="2652" y="2268"/>
                    </a:lnTo>
                    <a:lnTo>
                      <a:pt x="2568" y="2268"/>
                    </a:lnTo>
                    <a:lnTo>
                      <a:pt x="2490" y="2262"/>
                    </a:lnTo>
                    <a:lnTo>
                      <a:pt x="2406" y="2250"/>
                    </a:lnTo>
                    <a:lnTo>
                      <a:pt x="2322" y="2238"/>
                    </a:lnTo>
                    <a:lnTo>
                      <a:pt x="2238" y="2214"/>
                    </a:lnTo>
                    <a:lnTo>
                      <a:pt x="2154" y="2178"/>
                    </a:lnTo>
                    <a:lnTo>
                      <a:pt x="2070" y="2112"/>
                    </a:lnTo>
                    <a:lnTo>
                      <a:pt x="1992" y="1974"/>
                    </a:lnTo>
                    <a:lnTo>
                      <a:pt x="1908" y="1608"/>
                    </a:lnTo>
                    <a:lnTo>
                      <a:pt x="1824" y="1146"/>
                    </a:lnTo>
                    <a:lnTo>
                      <a:pt x="1740" y="1038"/>
                    </a:lnTo>
                    <a:lnTo>
                      <a:pt x="1656" y="864"/>
                    </a:lnTo>
                    <a:lnTo>
                      <a:pt x="1578" y="768"/>
                    </a:lnTo>
                    <a:lnTo>
                      <a:pt x="1494" y="792"/>
                    </a:lnTo>
                    <a:lnTo>
                      <a:pt x="1410" y="1002"/>
                    </a:lnTo>
                    <a:lnTo>
                      <a:pt x="1326" y="1014"/>
                    </a:lnTo>
                    <a:lnTo>
                      <a:pt x="1242" y="1002"/>
                    </a:lnTo>
                    <a:lnTo>
                      <a:pt x="1158" y="696"/>
                    </a:lnTo>
                    <a:lnTo>
                      <a:pt x="1080" y="498"/>
                    </a:lnTo>
                    <a:lnTo>
                      <a:pt x="996" y="570"/>
                    </a:lnTo>
                    <a:lnTo>
                      <a:pt x="912" y="414"/>
                    </a:lnTo>
                    <a:lnTo>
                      <a:pt x="828" y="312"/>
                    </a:lnTo>
                    <a:lnTo>
                      <a:pt x="744" y="450"/>
                    </a:lnTo>
                    <a:lnTo>
                      <a:pt x="666" y="732"/>
                    </a:lnTo>
                    <a:lnTo>
                      <a:pt x="582" y="732"/>
                    </a:lnTo>
                    <a:lnTo>
                      <a:pt x="498" y="270"/>
                    </a:lnTo>
                    <a:lnTo>
                      <a:pt x="414" y="396"/>
                    </a:lnTo>
                    <a:lnTo>
                      <a:pt x="330" y="0"/>
                    </a:lnTo>
                    <a:lnTo>
                      <a:pt x="246" y="96"/>
                    </a:lnTo>
                    <a:lnTo>
                      <a:pt x="168" y="330"/>
                    </a:lnTo>
                    <a:lnTo>
                      <a:pt x="84" y="852"/>
                    </a:lnTo>
                    <a:lnTo>
                      <a:pt x="0" y="183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800360" y="1952640"/>
                <a:ext cx="5790960" cy="3610080"/>
              </a:xfrm>
              <a:custGeom>
                <a:avLst/>
                <a:gdLst/>
                <a:ahLst/>
                <a:rect l="l" t="t" r="r" b="b"/>
                <a:pathLst>
                  <a:path w="3648" h="2274">
                    <a:moveTo>
                      <a:pt x="0" y="1830"/>
                    </a:moveTo>
                    <a:lnTo>
                      <a:pt x="0" y="1830"/>
                    </a:lnTo>
                    <a:lnTo>
                      <a:pt x="84" y="852"/>
                    </a:lnTo>
                    <a:lnTo>
                      <a:pt x="168" y="330"/>
                    </a:lnTo>
                    <a:lnTo>
                      <a:pt x="246" y="96"/>
                    </a:lnTo>
                    <a:lnTo>
                      <a:pt x="330" y="0"/>
                    </a:lnTo>
                    <a:lnTo>
                      <a:pt x="414" y="396"/>
                    </a:lnTo>
                    <a:lnTo>
                      <a:pt x="498" y="270"/>
                    </a:lnTo>
                    <a:lnTo>
                      <a:pt x="582" y="732"/>
                    </a:lnTo>
                    <a:lnTo>
                      <a:pt x="666" y="732"/>
                    </a:lnTo>
                    <a:lnTo>
                      <a:pt x="744" y="450"/>
                    </a:lnTo>
                    <a:lnTo>
                      <a:pt x="828" y="312"/>
                    </a:lnTo>
                    <a:lnTo>
                      <a:pt x="912" y="414"/>
                    </a:lnTo>
                    <a:lnTo>
                      <a:pt x="996" y="570"/>
                    </a:lnTo>
                    <a:lnTo>
                      <a:pt x="1080" y="498"/>
                    </a:lnTo>
                    <a:lnTo>
                      <a:pt x="1158" y="696"/>
                    </a:lnTo>
                    <a:lnTo>
                      <a:pt x="1242" y="1002"/>
                    </a:lnTo>
                    <a:lnTo>
                      <a:pt x="1326" y="1014"/>
                    </a:lnTo>
                    <a:lnTo>
                      <a:pt x="1410" y="1002"/>
                    </a:lnTo>
                    <a:lnTo>
                      <a:pt x="1494" y="792"/>
                    </a:lnTo>
                    <a:lnTo>
                      <a:pt x="1578" y="768"/>
                    </a:lnTo>
                    <a:lnTo>
                      <a:pt x="1656" y="864"/>
                    </a:lnTo>
                    <a:lnTo>
                      <a:pt x="1740" y="1038"/>
                    </a:lnTo>
                    <a:lnTo>
                      <a:pt x="1824" y="1146"/>
                    </a:lnTo>
                    <a:lnTo>
                      <a:pt x="1908" y="1320"/>
                    </a:lnTo>
                    <a:lnTo>
                      <a:pt x="1992" y="1446"/>
                    </a:lnTo>
                    <a:lnTo>
                      <a:pt x="2070" y="1800"/>
                    </a:lnTo>
                    <a:lnTo>
                      <a:pt x="2154" y="2082"/>
                    </a:lnTo>
                    <a:lnTo>
                      <a:pt x="2238" y="2184"/>
                    </a:lnTo>
                    <a:lnTo>
                      <a:pt x="2322" y="2226"/>
                    </a:lnTo>
                    <a:lnTo>
                      <a:pt x="2406" y="2250"/>
                    </a:lnTo>
                    <a:lnTo>
                      <a:pt x="2490" y="2262"/>
                    </a:lnTo>
                    <a:lnTo>
                      <a:pt x="2568" y="2268"/>
                    </a:lnTo>
                    <a:lnTo>
                      <a:pt x="2652" y="2268"/>
                    </a:lnTo>
                    <a:lnTo>
                      <a:pt x="2736" y="2268"/>
                    </a:lnTo>
                    <a:lnTo>
                      <a:pt x="2820" y="2268"/>
                    </a:lnTo>
                    <a:lnTo>
                      <a:pt x="2904" y="2274"/>
                    </a:lnTo>
                    <a:lnTo>
                      <a:pt x="2982" y="2274"/>
                    </a:lnTo>
                    <a:lnTo>
                      <a:pt x="3066" y="2274"/>
                    </a:lnTo>
                    <a:lnTo>
                      <a:pt x="3150" y="2274"/>
                    </a:lnTo>
                    <a:lnTo>
                      <a:pt x="3234" y="2274"/>
                    </a:lnTo>
                    <a:lnTo>
                      <a:pt x="3318" y="2274"/>
                    </a:lnTo>
                    <a:lnTo>
                      <a:pt x="3402" y="2274"/>
                    </a:lnTo>
                    <a:lnTo>
                      <a:pt x="3480" y="2274"/>
                    </a:lnTo>
                    <a:lnTo>
                      <a:pt x="3564" y="2274"/>
                    </a:lnTo>
                    <a:lnTo>
                      <a:pt x="3648" y="2274"/>
                    </a:lnTo>
                    <a:lnTo>
                      <a:pt x="3648" y="2274"/>
                    </a:lnTo>
                    <a:lnTo>
                      <a:pt x="3564" y="2274"/>
                    </a:lnTo>
                    <a:lnTo>
                      <a:pt x="3480" y="2274"/>
                    </a:lnTo>
                    <a:lnTo>
                      <a:pt x="3402" y="2274"/>
                    </a:lnTo>
                    <a:lnTo>
                      <a:pt x="3318" y="2274"/>
                    </a:lnTo>
                    <a:lnTo>
                      <a:pt x="3234" y="2274"/>
                    </a:lnTo>
                    <a:lnTo>
                      <a:pt x="3150" y="2274"/>
                    </a:lnTo>
                    <a:lnTo>
                      <a:pt x="3066" y="2274"/>
                    </a:lnTo>
                    <a:lnTo>
                      <a:pt x="2982" y="2274"/>
                    </a:lnTo>
                    <a:lnTo>
                      <a:pt x="2904" y="2274"/>
                    </a:lnTo>
                    <a:lnTo>
                      <a:pt x="2820" y="2268"/>
                    </a:lnTo>
                    <a:lnTo>
                      <a:pt x="2736" y="2268"/>
                    </a:lnTo>
                    <a:lnTo>
                      <a:pt x="2652" y="2268"/>
                    </a:lnTo>
                    <a:lnTo>
                      <a:pt x="2568" y="2268"/>
                    </a:lnTo>
                    <a:lnTo>
                      <a:pt x="2490" y="2262"/>
                    </a:lnTo>
                    <a:lnTo>
                      <a:pt x="2406" y="2250"/>
                    </a:lnTo>
                    <a:lnTo>
                      <a:pt x="2322" y="2232"/>
                    </a:lnTo>
                    <a:lnTo>
                      <a:pt x="2238" y="2202"/>
                    </a:lnTo>
                    <a:lnTo>
                      <a:pt x="2154" y="2148"/>
                    </a:lnTo>
                    <a:lnTo>
                      <a:pt x="2070" y="2028"/>
                    </a:lnTo>
                    <a:lnTo>
                      <a:pt x="1992" y="1710"/>
                    </a:lnTo>
                    <a:lnTo>
                      <a:pt x="1908" y="1320"/>
                    </a:lnTo>
                    <a:lnTo>
                      <a:pt x="1824" y="1146"/>
                    </a:lnTo>
                    <a:lnTo>
                      <a:pt x="1740" y="1038"/>
                    </a:lnTo>
                    <a:lnTo>
                      <a:pt x="1656" y="864"/>
                    </a:lnTo>
                    <a:lnTo>
                      <a:pt x="1578" y="768"/>
                    </a:lnTo>
                    <a:lnTo>
                      <a:pt x="1494" y="792"/>
                    </a:lnTo>
                    <a:lnTo>
                      <a:pt x="1410" y="1002"/>
                    </a:lnTo>
                    <a:lnTo>
                      <a:pt x="1326" y="1014"/>
                    </a:lnTo>
                    <a:lnTo>
                      <a:pt x="1242" y="1002"/>
                    </a:lnTo>
                    <a:lnTo>
                      <a:pt x="1158" y="696"/>
                    </a:lnTo>
                    <a:lnTo>
                      <a:pt x="1080" y="498"/>
                    </a:lnTo>
                    <a:lnTo>
                      <a:pt x="996" y="570"/>
                    </a:lnTo>
                    <a:lnTo>
                      <a:pt x="912" y="414"/>
                    </a:lnTo>
                    <a:lnTo>
                      <a:pt x="828" y="312"/>
                    </a:lnTo>
                    <a:lnTo>
                      <a:pt x="744" y="450"/>
                    </a:lnTo>
                    <a:lnTo>
                      <a:pt x="666" y="732"/>
                    </a:lnTo>
                    <a:lnTo>
                      <a:pt x="582" y="732"/>
                    </a:lnTo>
                    <a:lnTo>
                      <a:pt x="498" y="270"/>
                    </a:lnTo>
                    <a:lnTo>
                      <a:pt x="414" y="396"/>
                    </a:lnTo>
                    <a:lnTo>
                      <a:pt x="330" y="0"/>
                    </a:lnTo>
                    <a:lnTo>
                      <a:pt x="246" y="96"/>
                    </a:lnTo>
                    <a:lnTo>
                      <a:pt x="168" y="330"/>
                    </a:lnTo>
                    <a:lnTo>
                      <a:pt x="84" y="852"/>
                    </a:lnTo>
                    <a:lnTo>
                      <a:pt x="0" y="183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800360" y="5533920"/>
                <a:ext cx="5790960" cy="28800"/>
              </a:xfrm>
              <a:custGeom>
                <a:avLst/>
                <a:gdLst/>
                <a:ahLst/>
                <a:rect l="l" t="t" r="r" b="b"/>
                <a:pathLst>
                  <a:path w="3648" h="18">
                    <a:moveTo>
                      <a:pt x="0" y="18"/>
                    </a:moveTo>
                    <a:lnTo>
                      <a:pt x="0" y="18"/>
                    </a:lnTo>
                    <a:lnTo>
                      <a:pt x="84" y="18"/>
                    </a:lnTo>
                    <a:lnTo>
                      <a:pt x="168" y="18"/>
                    </a:lnTo>
                    <a:lnTo>
                      <a:pt x="246" y="6"/>
                    </a:lnTo>
                    <a:lnTo>
                      <a:pt x="330" y="0"/>
                    </a:lnTo>
                    <a:lnTo>
                      <a:pt x="414" y="12"/>
                    </a:lnTo>
                    <a:lnTo>
                      <a:pt x="498" y="18"/>
                    </a:lnTo>
                    <a:lnTo>
                      <a:pt x="582" y="18"/>
                    </a:lnTo>
                    <a:lnTo>
                      <a:pt x="666" y="18"/>
                    </a:lnTo>
                    <a:lnTo>
                      <a:pt x="744" y="18"/>
                    </a:lnTo>
                    <a:lnTo>
                      <a:pt x="828" y="18"/>
                    </a:lnTo>
                    <a:lnTo>
                      <a:pt x="912" y="18"/>
                    </a:lnTo>
                    <a:lnTo>
                      <a:pt x="996" y="18"/>
                    </a:lnTo>
                    <a:lnTo>
                      <a:pt x="1080" y="18"/>
                    </a:lnTo>
                    <a:lnTo>
                      <a:pt x="1158" y="6"/>
                    </a:lnTo>
                    <a:lnTo>
                      <a:pt x="1242" y="6"/>
                    </a:lnTo>
                    <a:lnTo>
                      <a:pt x="1326" y="6"/>
                    </a:lnTo>
                    <a:lnTo>
                      <a:pt x="1410" y="12"/>
                    </a:lnTo>
                    <a:lnTo>
                      <a:pt x="1494" y="12"/>
                    </a:lnTo>
                    <a:lnTo>
                      <a:pt x="1578" y="12"/>
                    </a:lnTo>
                    <a:lnTo>
                      <a:pt x="1656" y="12"/>
                    </a:lnTo>
                    <a:lnTo>
                      <a:pt x="1740" y="12"/>
                    </a:lnTo>
                    <a:lnTo>
                      <a:pt x="1824" y="12"/>
                    </a:lnTo>
                    <a:lnTo>
                      <a:pt x="1908" y="12"/>
                    </a:lnTo>
                    <a:lnTo>
                      <a:pt x="1992" y="12"/>
                    </a:lnTo>
                    <a:lnTo>
                      <a:pt x="2070" y="12"/>
                    </a:lnTo>
                    <a:lnTo>
                      <a:pt x="2154" y="12"/>
                    </a:lnTo>
                    <a:lnTo>
                      <a:pt x="2238" y="12"/>
                    </a:lnTo>
                    <a:lnTo>
                      <a:pt x="2322" y="12"/>
                    </a:lnTo>
                    <a:lnTo>
                      <a:pt x="2406" y="12"/>
                    </a:lnTo>
                    <a:lnTo>
                      <a:pt x="2490" y="18"/>
                    </a:lnTo>
                    <a:lnTo>
                      <a:pt x="2568" y="18"/>
                    </a:lnTo>
                    <a:lnTo>
                      <a:pt x="2652" y="18"/>
                    </a:lnTo>
                    <a:lnTo>
                      <a:pt x="2736" y="18"/>
                    </a:lnTo>
                    <a:lnTo>
                      <a:pt x="2820" y="18"/>
                    </a:lnTo>
                    <a:lnTo>
                      <a:pt x="2904" y="18"/>
                    </a:lnTo>
                    <a:lnTo>
                      <a:pt x="2982" y="18"/>
                    </a:lnTo>
                    <a:lnTo>
                      <a:pt x="3066" y="18"/>
                    </a:lnTo>
                    <a:lnTo>
                      <a:pt x="3150" y="18"/>
                    </a:lnTo>
                    <a:lnTo>
                      <a:pt x="3234" y="18"/>
                    </a:lnTo>
                    <a:lnTo>
                      <a:pt x="3318" y="18"/>
                    </a:lnTo>
                    <a:lnTo>
                      <a:pt x="3402" y="18"/>
                    </a:lnTo>
                    <a:lnTo>
                      <a:pt x="3480" y="18"/>
                    </a:lnTo>
                    <a:lnTo>
                      <a:pt x="3564" y="18"/>
                    </a:lnTo>
                    <a:lnTo>
                      <a:pt x="3648" y="18"/>
                    </a:lnTo>
                    <a:lnTo>
                      <a:pt x="3648" y="18"/>
                    </a:lnTo>
                    <a:lnTo>
                      <a:pt x="3564" y="18"/>
                    </a:lnTo>
                    <a:lnTo>
                      <a:pt x="3480" y="18"/>
                    </a:lnTo>
                    <a:lnTo>
                      <a:pt x="3402" y="18"/>
                    </a:lnTo>
                    <a:lnTo>
                      <a:pt x="3318" y="18"/>
                    </a:lnTo>
                    <a:lnTo>
                      <a:pt x="3234" y="18"/>
                    </a:lnTo>
                    <a:lnTo>
                      <a:pt x="3150" y="18"/>
                    </a:lnTo>
                    <a:lnTo>
                      <a:pt x="3066" y="18"/>
                    </a:lnTo>
                    <a:lnTo>
                      <a:pt x="2982" y="18"/>
                    </a:lnTo>
                    <a:lnTo>
                      <a:pt x="2904" y="18"/>
                    </a:lnTo>
                    <a:lnTo>
                      <a:pt x="2820" y="18"/>
                    </a:lnTo>
                    <a:lnTo>
                      <a:pt x="2736" y="18"/>
                    </a:lnTo>
                    <a:lnTo>
                      <a:pt x="2652" y="18"/>
                    </a:lnTo>
                    <a:lnTo>
                      <a:pt x="2568" y="18"/>
                    </a:lnTo>
                    <a:lnTo>
                      <a:pt x="2490" y="18"/>
                    </a:lnTo>
                    <a:lnTo>
                      <a:pt x="2406" y="18"/>
                    </a:lnTo>
                    <a:lnTo>
                      <a:pt x="2322" y="18"/>
                    </a:lnTo>
                    <a:lnTo>
                      <a:pt x="2238" y="18"/>
                    </a:lnTo>
                    <a:lnTo>
                      <a:pt x="2154" y="18"/>
                    </a:lnTo>
                    <a:lnTo>
                      <a:pt x="2070" y="18"/>
                    </a:lnTo>
                    <a:lnTo>
                      <a:pt x="1992" y="18"/>
                    </a:lnTo>
                    <a:lnTo>
                      <a:pt x="1908" y="18"/>
                    </a:lnTo>
                    <a:lnTo>
                      <a:pt x="1824" y="18"/>
                    </a:lnTo>
                    <a:lnTo>
                      <a:pt x="1740" y="18"/>
                    </a:lnTo>
                    <a:lnTo>
                      <a:pt x="1656" y="18"/>
                    </a:lnTo>
                    <a:lnTo>
                      <a:pt x="1578" y="18"/>
                    </a:lnTo>
                    <a:lnTo>
                      <a:pt x="1494" y="18"/>
                    </a:lnTo>
                    <a:lnTo>
                      <a:pt x="1410" y="18"/>
                    </a:lnTo>
                    <a:lnTo>
                      <a:pt x="1326" y="18"/>
                    </a:lnTo>
                    <a:lnTo>
                      <a:pt x="1242" y="18"/>
                    </a:lnTo>
                    <a:lnTo>
                      <a:pt x="1158" y="18"/>
                    </a:lnTo>
                    <a:lnTo>
                      <a:pt x="1080" y="18"/>
                    </a:lnTo>
                    <a:lnTo>
                      <a:pt x="996" y="18"/>
                    </a:lnTo>
                    <a:lnTo>
                      <a:pt x="912" y="18"/>
                    </a:lnTo>
                    <a:lnTo>
                      <a:pt x="828" y="18"/>
                    </a:lnTo>
                    <a:lnTo>
                      <a:pt x="744" y="18"/>
                    </a:lnTo>
                    <a:lnTo>
                      <a:pt x="666" y="18"/>
                    </a:lnTo>
                    <a:lnTo>
                      <a:pt x="582" y="18"/>
                    </a:lnTo>
                    <a:lnTo>
                      <a:pt x="498" y="18"/>
                    </a:lnTo>
                    <a:lnTo>
                      <a:pt x="414" y="18"/>
                    </a:lnTo>
                    <a:lnTo>
                      <a:pt x="330" y="18"/>
                    </a:lnTo>
                    <a:lnTo>
                      <a:pt x="246" y="18"/>
                    </a:lnTo>
                    <a:lnTo>
                      <a:pt x="168" y="18"/>
                    </a:lnTo>
                    <a:lnTo>
                      <a:pt x="84" y="18"/>
                    </a:lnTo>
                    <a:lnTo>
                      <a:pt x="0" y="1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800360" y="5533920"/>
                <a:ext cx="5790960" cy="28800"/>
              </a:xfrm>
              <a:custGeom>
                <a:avLst/>
                <a:gdLst/>
                <a:ahLst/>
                <a:rect l="l" t="t" r="r" b="b"/>
                <a:pathLst>
                  <a:path w="3648" h="18">
                    <a:moveTo>
                      <a:pt x="0" y="18"/>
                    </a:moveTo>
                    <a:lnTo>
                      <a:pt x="0" y="18"/>
                    </a:lnTo>
                    <a:lnTo>
                      <a:pt x="84" y="12"/>
                    </a:lnTo>
                    <a:lnTo>
                      <a:pt x="168" y="12"/>
                    </a:lnTo>
                    <a:lnTo>
                      <a:pt x="246" y="6"/>
                    </a:lnTo>
                    <a:lnTo>
                      <a:pt x="330" y="0"/>
                    </a:lnTo>
                    <a:lnTo>
                      <a:pt x="414" y="12"/>
                    </a:lnTo>
                    <a:lnTo>
                      <a:pt x="498" y="18"/>
                    </a:lnTo>
                    <a:lnTo>
                      <a:pt x="582" y="12"/>
                    </a:lnTo>
                    <a:lnTo>
                      <a:pt x="666" y="12"/>
                    </a:lnTo>
                    <a:lnTo>
                      <a:pt x="744" y="18"/>
                    </a:lnTo>
                    <a:lnTo>
                      <a:pt x="828" y="18"/>
                    </a:lnTo>
                    <a:lnTo>
                      <a:pt x="912" y="18"/>
                    </a:lnTo>
                    <a:lnTo>
                      <a:pt x="996" y="18"/>
                    </a:lnTo>
                    <a:lnTo>
                      <a:pt x="1080" y="18"/>
                    </a:lnTo>
                    <a:lnTo>
                      <a:pt x="1158" y="6"/>
                    </a:lnTo>
                    <a:lnTo>
                      <a:pt x="1242" y="6"/>
                    </a:lnTo>
                    <a:lnTo>
                      <a:pt x="1326" y="6"/>
                    </a:lnTo>
                    <a:lnTo>
                      <a:pt x="1410" y="6"/>
                    </a:lnTo>
                    <a:lnTo>
                      <a:pt x="1494" y="6"/>
                    </a:lnTo>
                    <a:lnTo>
                      <a:pt x="1578" y="12"/>
                    </a:lnTo>
                    <a:lnTo>
                      <a:pt x="1656" y="12"/>
                    </a:lnTo>
                    <a:lnTo>
                      <a:pt x="1740" y="12"/>
                    </a:lnTo>
                    <a:lnTo>
                      <a:pt x="1824" y="12"/>
                    </a:lnTo>
                    <a:lnTo>
                      <a:pt x="1908" y="12"/>
                    </a:lnTo>
                    <a:lnTo>
                      <a:pt x="1992" y="12"/>
                    </a:lnTo>
                    <a:lnTo>
                      <a:pt x="2070" y="12"/>
                    </a:lnTo>
                    <a:lnTo>
                      <a:pt x="2154" y="12"/>
                    </a:lnTo>
                    <a:lnTo>
                      <a:pt x="2238" y="12"/>
                    </a:lnTo>
                    <a:lnTo>
                      <a:pt x="2322" y="12"/>
                    </a:lnTo>
                    <a:lnTo>
                      <a:pt x="2406" y="12"/>
                    </a:lnTo>
                    <a:lnTo>
                      <a:pt x="2490" y="18"/>
                    </a:lnTo>
                    <a:lnTo>
                      <a:pt x="2568" y="18"/>
                    </a:lnTo>
                    <a:lnTo>
                      <a:pt x="2652" y="18"/>
                    </a:lnTo>
                    <a:lnTo>
                      <a:pt x="2736" y="18"/>
                    </a:lnTo>
                    <a:lnTo>
                      <a:pt x="2820" y="18"/>
                    </a:lnTo>
                    <a:lnTo>
                      <a:pt x="2904" y="18"/>
                    </a:lnTo>
                    <a:lnTo>
                      <a:pt x="2982" y="18"/>
                    </a:lnTo>
                    <a:lnTo>
                      <a:pt x="3066" y="18"/>
                    </a:lnTo>
                    <a:lnTo>
                      <a:pt x="3150" y="18"/>
                    </a:lnTo>
                    <a:lnTo>
                      <a:pt x="3234" y="18"/>
                    </a:lnTo>
                    <a:lnTo>
                      <a:pt x="3318" y="18"/>
                    </a:lnTo>
                    <a:lnTo>
                      <a:pt x="3402" y="18"/>
                    </a:lnTo>
                    <a:lnTo>
                      <a:pt x="3480" y="18"/>
                    </a:lnTo>
                    <a:lnTo>
                      <a:pt x="3564" y="18"/>
                    </a:lnTo>
                    <a:lnTo>
                      <a:pt x="3648" y="18"/>
                    </a:lnTo>
                    <a:lnTo>
                      <a:pt x="3648" y="18"/>
                    </a:lnTo>
                    <a:lnTo>
                      <a:pt x="3564" y="18"/>
                    </a:lnTo>
                    <a:lnTo>
                      <a:pt x="3480" y="18"/>
                    </a:lnTo>
                    <a:lnTo>
                      <a:pt x="3402" y="18"/>
                    </a:lnTo>
                    <a:lnTo>
                      <a:pt x="3318" y="18"/>
                    </a:lnTo>
                    <a:lnTo>
                      <a:pt x="3234" y="18"/>
                    </a:lnTo>
                    <a:lnTo>
                      <a:pt x="3150" y="18"/>
                    </a:lnTo>
                    <a:lnTo>
                      <a:pt x="3066" y="18"/>
                    </a:lnTo>
                    <a:lnTo>
                      <a:pt x="2982" y="18"/>
                    </a:lnTo>
                    <a:lnTo>
                      <a:pt x="2904" y="18"/>
                    </a:lnTo>
                    <a:lnTo>
                      <a:pt x="2820" y="18"/>
                    </a:lnTo>
                    <a:lnTo>
                      <a:pt x="2736" y="18"/>
                    </a:lnTo>
                    <a:lnTo>
                      <a:pt x="2652" y="18"/>
                    </a:lnTo>
                    <a:lnTo>
                      <a:pt x="2568" y="18"/>
                    </a:lnTo>
                    <a:lnTo>
                      <a:pt x="2490" y="18"/>
                    </a:lnTo>
                    <a:lnTo>
                      <a:pt x="2406" y="12"/>
                    </a:lnTo>
                    <a:lnTo>
                      <a:pt x="2322" y="12"/>
                    </a:lnTo>
                    <a:lnTo>
                      <a:pt x="2238" y="12"/>
                    </a:lnTo>
                    <a:lnTo>
                      <a:pt x="2154" y="12"/>
                    </a:lnTo>
                    <a:lnTo>
                      <a:pt x="2070" y="12"/>
                    </a:lnTo>
                    <a:lnTo>
                      <a:pt x="1992" y="12"/>
                    </a:lnTo>
                    <a:lnTo>
                      <a:pt x="1908" y="12"/>
                    </a:lnTo>
                    <a:lnTo>
                      <a:pt x="1824" y="12"/>
                    </a:lnTo>
                    <a:lnTo>
                      <a:pt x="1740" y="12"/>
                    </a:lnTo>
                    <a:lnTo>
                      <a:pt x="1656" y="12"/>
                    </a:lnTo>
                    <a:lnTo>
                      <a:pt x="1578" y="12"/>
                    </a:lnTo>
                    <a:lnTo>
                      <a:pt x="1494" y="12"/>
                    </a:lnTo>
                    <a:lnTo>
                      <a:pt x="1410" y="12"/>
                    </a:lnTo>
                    <a:lnTo>
                      <a:pt x="1326" y="6"/>
                    </a:lnTo>
                    <a:lnTo>
                      <a:pt x="1242" y="6"/>
                    </a:lnTo>
                    <a:lnTo>
                      <a:pt x="1158" y="6"/>
                    </a:lnTo>
                    <a:lnTo>
                      <a:pt x="1080" y="18"/>
                    </a:lnTo>
                    <a:lnTo>
                      <a:pt x="996" y="18"/>
                    </a:lnTo>
                    <a:lnTo>
                      <a:pt x="912" y="18"/>
                    </a:lnTo>
                    <a:lnTo>
                      <a:pt x="828" y="18"/>
                    </a:lnTo>
                    <a:lnTo>
                      <a:pt x="744" y="18"/>
                    </a:lnTo>
                    <a:lnTo>
                      <a:pt x="666" y="18"/>
                    </a:lnTo>
                    <a:lnTo>
                      <a:pt x="582" y="18"/>
                    </a:lnTo>
                    <a:lnTo>
                      <a:pt x="498" y="18"/>
                    </a:lnTo>
                    <a:lnTo>
                      <a:pt x="414" y="12"/>
                    </a:lnTo>
                    <a:lnTo>
                      <a:pt x="330" y="0"/>
                    </a:lnTo>
                    <a:lnTo>
                      <a:pt x="246" y="6"/>
                    </a:lnTo>
                    <a:lnTo>
                      <a:pt x="168" y="18"/>
                    </a:lnTo>
                    <a:lnTo>
                      <a:pt x="84" y="18"/>
                    </a:lnTo>
                    <a:lnTo>
                      <a:pt x="0" y="1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800360" y="3943440"/>
                <a:ext cx="5790960" cy="1619280"/>
              </a:xfrm>
              <a:custGeom>
                <a:avLst/>
                <a:gdLst/>
                <a:ahLst/>
                <a:rect l="l" t="t" r="r" b="b"/>
                <a:pathLst>
                  <a:path w="3648" h="1020">
                    <a:moveTo>
                      <a:pt x="0" y="1020"/>
                    </a:moveTo>
                    <a:lnTo>
                      <a:pt x="0" y="576"/>
                    </a:lnTo>
                    <a:lnTo>
                      <a:pt x="84" y="0"/>
                    </a:lnTo>
                    <a:lnTo>
                      <a:pt x="168" y="180"/>
                    </a:lnTo>
                    <a:lnTo>
                      <a:pt x="246" y="324"/>
                    </a:lnTo>
                    <a:lnTo>
                      <a:pt x="330" y="402"/>
                    </a:lnTo>
                    <a:lnTo>
                      <a:pt x="414" y="612"/>
                    </a:lnTo>
                    <a:lnTo>
                      <a:pt x="498" y="618"/>
                    </a:lnTo>
                    <a:lnTo>
                      <a:pt x="582" y="786"/>
                    </a:lnTo>
                    <a:lnTo>
                      <a:pt x="666" y="858"/>
                    </a:lnTo>
                    <a:lnTo>
                      <a:pt x="744" y="786"/>
                    </a:lnTo>
                    <a:lnTo>
                      <a:pt x="828" y="810"/>
                    </a:lnTo>
                    <a:lnTo>
                      <a:pt x="912" y="846"/>
                    </a:lnTo>
                    <a:lnTo>
                      <a:pt x="996" y="858"/>
                    </a:lnTo>
                    <a:lnTo>
                      <a:pt x="1080" y="858"/>
                    </a:lnTo>
                    <a:lnTo>
                      <a:pt x="1158" y="894"/>
                    </a:lnTo>
                    <a:lnTo>
                      <a:pt x="1242" y="924"/>
                    </a:lnTo>
                    <a:lnTo>
                      <a:pt x="1326" y="930"/>
                    </a:lnTo>
                    <a:lnTo>
                      <a:pt x="1410" y="936"/>
                    </a:lnTo>
                    <a:lnTo>
                      <a:pt x="1494" y="972"/>
                    </a:lnTo>
                    <a:lnTo>
                      <a:pt x="1578" y="972"/>
                    </a:lnTo>
                    <a:lnTo>
                      <a:pt x="1656" y="990"/>
                    </a:lnTo>
                    <a:lnTo>
                      <a:pt x="1740" y="1002"/>
                    </a:lnTo>
                    <a:lnTo>
                      <a:pt x="1824" y="1002"/>
                    </a:lnTo>
                    <a:lnTo>
                      <a:pt x="1908" y="1008"/>
                    </a:lnTo>
                    <a:lnTo>
                      <a:pt x="1992" y="1008"/>
                    </a:lnTo>
                    <a:lnTo>
                      <a:pt x="2070" y="1014"/>
                    </a:lnTo>
                    <a:lnTo>
                      <a:pt x="2154" y="1014"/>
                    </a:lnTo>
                    <a:lnTo>
                      <a:pt x="2238" y="1014"/>
                    </a:lnTo>
                    <a:lnTo>
                      <a:pt x="2322" y="1014"/>
                    </a:lnTo>
                    <a:lnTo>
                      <a:pt x="2406" y="1014"/>
                    </a:lnTo>
                    <a:lnTo>
                      <a:pt x="2490" y="1020"/>
                    </a:lnTo>
                    <a:lnTo>
                      <a:pt x="2568" y="1020"/>
                    </a:lnTo>
                    <a:lnTo>
                      <a:pt x="2652" y="1020"/>
                    </a:lnTo>
                    <a:lnTo>
                      <a:pt x="2736" y="1020"/>
                    </a:lnTo>
                    <a:lnTo>
                      <a:pt x="2820" y="1020"/>
                    </a:lnTo>
                    <a:lnTo>
                      <a:pt x="2904" y="1020"/>
                    </a:lnTo>
                    <a:lnTo>
                      <a:pt x="2982" y="1020"/>
                    </a:lnTo>
                    <a:lnTo>
                      <a:pt x="3066" y="1020"/>
                    </a:lnTo>
                    <a:lnTo>
                      <a:pt x="3150" y="1020"/>
                    </a:lnTo>
                    <a:lnTo>
                      <a:pt x="3234" y="1020"/>
                    </a:lnTo>
                    <a:lnTo>
                      <a:pt x="3318" y="1020"/>
                    </a:lnTo>
                    <a:lnTo>
                      <a:pt x="3402" y="1020"/>
                    </a:lnTo>
                    <a:lnTo>
                      <a:pt x="3480" y="1020"/>
                    </a:lnTo>
                    <a:lnTo>
                      <a:pt x="3564" y="1020"/>
                    </a:lnTo>
                    <a:lnTo>
                      <a:pt x="3648" y="1020"/>
                    </a:lnTo>
                    <a:lnTo>
                      <a:pt x="3648" y="1020"/>
                    </a:lnTo>
                    <a:lnTo>
                      <a:pt x="3564" y="1020"/>
                    </a:lnTo>
                    <a:lnTo>
                      <a:pt x="3480" y="1020"/>
                    </a:lnTo>
                    <a:lnTo>
                      <a:pt x="3402" y="1020"/>
                    </a:lnTo>
                    <a:lnTo>
                      <a:pt x="3318" y="1020"/>
                    </a:lnTo>
                    <a:lnTo>
                      <a:pt x="3234" y="1020"/>
                    </a:lnTo>
                    <a:lnTo>
                      <a:pt x="3150" y="1020"/>
                    </a:lnTo>
                    <a:lnTo>
                      <a:pt x="3066" y="1020"/>
                    </a:lnTo>
                    <a:lnTo>
                      <a:pt x="2982" y="1020"/>
                    </a:lnTo>
                    <a:lnTo>
                      <a:pt x="2904" y="1020"/>
                    </a:lnTo>
                    <a:lnTo>
                      <a:pt x="2820" y="1020"/>
                    </a:lnTo>
                    <a:lnTo>
                      <a:pt x="2736" y="1020"/>
                    </a:lnTo>
                    <a:lnTo>
                      <a:pt x="2652" y="1020"/>
                    </a:lnTo>
                    <a:lnTo>
                      <a:pt x="2568" y="1020"/>
                    </a:lnTo>
                    <a:lnTo>
                      <a:pt x="2490" y="1020"/>
                    </a:lnTo>
                    <a:lnTo>
                      <a:pt x="2406" y="1014"/>
                    </a:lnTo>
                    <a:lnTo>
                      <a:pt x="2322" y="1014"/>
                    </a:lnTo>
                    <a:lnTo>
                      <a:pt x="2238" y="1014"/>
                    </a:lnTo>
                    <a:lnTo>
                      <a:pt x="2154" y="1014"/>
                    </a:lnTo>
                    <a:lnTo>
                      <a:pt x="2070" y="1014"/>
                    </a:lnTo>
                    <a:lnTo>
                      <a:pt x="1992" y="1014"/>
                    </a:lnTo>
                    <a:lnTo>
                      <a:pt x="1908" y="1014"/>
                    </a:lnTo>
                    <a:lnTo>
                      <a:pt x="1824" y="1014"/>
                    </a:lnTo>
                    <a:lnTo>
                      <a:pt x="1740" y="1014"/>
                    </a:lnTo>
                    <a:lnTo>
                      <a:pt x="1656" y="1014"/>
                    </a:lnTo>
                    <a:lnTo>
                      <a:pt x="1578" y="1014"/>
                    </a:lnTo>
                    <a:lnTo>
                      <a:pt x="1494" y="1008"/>
                    </a:lnTo>
                    <a:lnTo>
                      <a:pt x="1410" y="1008"/>
                    </a:lnTo>
                    <a:lnTo>
                      <a:pt x="1326" y="1008"/>
                    </a:lnTo>
                    <a:lnTo>
                      <a:pt x="1242" y="1008"/>
                    </a:lnTo>
                    <a:lnTo>
                      <a:pt x="1158" y="1008"/>
                    </a:lnTo>
                    <a:lnTo>
                      <a:pt x="1080" y="1020"/>
                    </a:lnTo>
                    <a:lnTo>
                      <a:pt x="996" y="1020"/>
                    </a:lnTo>
                    <a:lnTo>
                      <a:pt x="912" y="1020"/>
                    </a:lnTo>
                    <a:lnTo>
                      <a:pt x="828" y="1020"/>
                    </a:lnTo>
                    <a:lnTo>
                      <a:pt x="744" y="1020"/>
                    </a:lnTo>
                    <a:lnTo>
                      <a:pt x="666" y="1014"/>
                    </a:lnTo>
                    <a:lnTo>
                      <a:pt x="582" y="1014"/>
                    </a:lnTo>
                    <a:lnTo>
                      <a:pt x="498" y="1020"/>
                    </a:lnTo>
                    <a:lnTo>
                      <a:pt x="414" y="1014"/>
                    </a:lnTo>
                    <a:lnTo>
                      <a:pt x="330" y="1002"/>
                    </a:lnTo>
                    <a:lnTo>
                      <a:pt x="246" y="1008"/>
                    </a:lnTo>
                    <a:lnTo>
                      <a:pt x="168" y="1014"/>
                    </a:lnTo>
                    <a:lnTo>
                      <a:pt x="84" y="1014"/>
                    </a:lnTo>
                    <a:lnTo>
                      <a:pt x="0" y="10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800360" y="2981160"/>
                <a:ext cx="5790960" cy="2581560"/>
              </a:xfrm>
              <a:custGeom>
                <a:avLst/>
                <a:gdLst/>
                <a:ahLst/>
                <a:rect l="l" t="t" r="r" b="b"/>
                <a:pathLst>
                  <a:path w="3648" h="1626">
                    <a:moveTo>
                      <a:pt x="0" y="1182"/>
                    </a:moveTo>
                    <a:lnTo>
                      <a:pt x="0" y="1182"/>
                    </a:lnTo>
                    <a:lnTo>
                      <a:pt x="84" y="204"/>
                    </a:lnTo>
                    <a:lnTo>
                      <a:pt x="168" y="0"/>
                    </a:lnTo>
                    <a:lnTo>
                      <a:pt x="246" y="246"/>
                    </a:lnTo>
                    <a:lnTo>
                      <a:pt x="330" y="456"/>
                    </a:lnTo>
                    <a:lnTo>
                      <a:pt x="414" y="864"/>
                    </a:lnTo>
                    <a:lnTo>
                      <a:pt x="498" y="918"/>
                    </a:lnTo>
                    <a:lnTo>
                      <a:pt x="582" y="1242"/>
                    </a:lnTo>
                    <a:lnTo>
                      <a:pt x="666" y="1350"/>
                    </a:lnTo>
                    <a:lnTo>
                      <a:pt x="744" y="1248"/>
                    </a:lnTo>
                    <a:lnTo>
                      <a:pt x="828" y="1266"/>
                    </a:lnTo>
                    <a:lnTo>
                      <a:pt x="912" y="1320"/>
                    </a:lnTo>
                    <a:lnTo>
                      <a:pt x="996" y="1380"/>
                    </a:lnTo>
                    <a:lnTo>
                      <a:pt x="1080" y="1398"/>
                    </a:lnTo>
                    <a:lnTo>
                      <a:pt x="1158" y="1434"/>
                    </a:lnTo>
                    <a:lnTo>
                      <a:pt x="1242" y="1470"/>
                    </a:lnTo>
                    <a:lnTo>
                      <a:pt x="1326" y="1488"/>
                    </a:lnTo>
                    <a:lnTo>
                      <a:pt x="1410" y="1506"/>
                    </a:lnTo>
                    <a:lnTo>
                      <a:pt x="1494" y="1536"/>
                    </a:lnTo>
                    <a:lnTo>
                      <a:pt x="1578" y="1554"/>
                    </a:lnTo>
                    <a:lnTo>
                      <a:pt x="1656" y="1572"/>
                    </a:lnTo>
                    <a:lnTo>
                      <a:pt x="1740" y="1590"/>
                    </a:lnTo>
                    <a:lnTo>
                      <a:pt x="1824" y="1596"/>
                    </a:lnTo>
                    <a:lnTo>
                      <a:pt x="1908" y="1596"/>
                    </a:lnTo>
                    <a:lnTo>
                      <a:pt x="1992" y="1608"/>
                    </a:lnTo>
                    <a:lnTo>
                      <a:pt x="2070" y="1608"/>
                    </a:lnTo>
                    <a:lnTo>
                      <a:pt x="2154" y="1614"/>
                    </a:lnTo>
                    <a:lnTo>
                      <a:pt x="2238" y="1620"/>
                    </a:lnTo>
                    <a:lnTo>
                      <a:pt x="2322" y="1620"/>
                    </a:lnTo>
                    <a:lnTo>
                      <a:pt x="2406" y="1620"/>
                    </a:lnTo>
                    <a:lnTo>
                      <a:pt x="2490" y="1626"/>
                    </a:lnTo>
                    <a:lnTo>
                      <a:pt x="2568" y="1626"/>
                    </a:lnTo>
                    <a:lnTo>
                      <a:pt x="2652" y="1626"/>
                    </a:lnTo>
                    <a:lnTo>
                      <a:pt x="2736" y="1626"/>
                    </a:lnTo>
                    <a:lnTo>
                      <a:pt x="2820" y="1626"/>
                    </a:lnTo>
                    <a:lnTo>
                      <a:pt x="2904" y="1626"/>
                    </a:lnTo>
                    <a:lnTo>
                      <a:pt x="2982" y="1626"/>
                    </a:lnTo>
                    <a:lnTo>
                      <a:pt x="3066" y="1626"/>
                    </a:lnTo>
                    <a:lnTo>
                      <a:pt x="3150" y="1626"/>
                    </a:lnTo>
                    <a:lnTo>
                      <a:pt x="3234" y="1626"/>
                    </a:lnTo>
                    <a:lnTo>
                      <a:pt x="3318" y="1626"/>
                    </a:lnTo>
                    <a:lnTo>
                      <a:pt x="3402" y="1626"/>
                    </a:lnTo>
                    <a:lnTo>
                      <a:pt x="3480" y="1626"/>
                    </a:lnTo>
                    <a:lnTo>
                      <a:pt x="3564" y="1626"/>
                    </a:lnTo>
                    <a:lnTo>
                      <a:pt x="3648" y="1626"/>
                    </a:lnTo>
                    <a:lnTo>
                      <a:pt x="3648" y="1626"/>
                    </a:lnTo>
                    <a:lnTo>
                      <a:pt x="3564" y="1626"/>
                    </a:lnTo>
                    <a:lnTo>
                      <a:pt x="3480" y="1626"/>
                    </a:lnTo>
                    <a:lnTo>
                      <a:pt x="3402" y="1626"/>
                    </a:lnTo>
                    <a:lnTo>
                      <a:pt x="3318" y="1626"/>
                    </a:lnTo>
                    <a:lnTo>
                      <a:pt x="3234" y="1626"/>
                    </a:lnTo>
                    <a:lnTo>
                      <a:pt x="3150" y="1626"/>
                    </a:lnTo>
                    <a:lnTo>
                      <a:pt x="3066" y="1626"/>
                    </a:lnTo>
                    <a:lnTo>
                      <a:pt x="2982" y="1626"/>
                    </a:lnTo>
                    <a:lnTo>
                      <a:pt x="2904" y="1626"/>
                    </a:lnTo>
                    <a:lnTo>
                      <a:pt x="2820" y="1626"/>
                    </a:lnTo>
                    <a:lnTo>
                      <a:pt x="2736" y="1626"/>
                    </a:lnTo>
                    <a:lnTo>
                      <a:pt x="2652" y="1626"/>
                    </a:lnTo>
                    <a:lnTo>
                      <a:pt x="2568" y="1626"/>
                    </a:lnTo>
                    <a:lnTo>
                      <a:pt x="2490" y="1626"/>
                    </a:lnTo>
                    <a:lnTo>
                      <a:pt x="2406" y="1620"/>
                    </a:lnTo>
                    <a:lnTo>
                      <a:pt x="2322" y="1620"/>
                    </a:lnTo>
                    <a:lnTo>
                      <a:pt x="2238" y="1620"/>
                    </a:lnTo>
                    <a:lnTo>
                      <a:pt x="2154" y="1620"/>
                    </a:lnTo>
                    <a:lnTo>
                      <a:pt x="2070" y="1620"/>
                    </a:lnTo>
                    <a:lnTo>
                      <a:pt x="1992" y="1614"/>
                    </a:lnTo>
                    <a:lnTo>
                      <a:pt x="1908" y="1614"/>
                    </a:lnTo>
                    <a:lnTo>
                      <a:pt x="1824" y="1608"/>
                    </a:lnTo>
                    <a:lnTo>
                      <a:pt x="1740" y="1608"/>
                    </a:lnTo>
                    <a:lnTo>
                      <a:pt x="1656" y="1596"/>
                    </a:lnTo>
                    <a:lnTo>
                      <a:pt x="1578" y="1578"/>
                    </a:lnTo>
                    <a:lnTo>
                      <a:pt x="1494" y="1578"/>
                    </a:lnTo>
                    <a:lnTo>
                      <a:pt x="1410" y="1542"/>
                    </a:lnTo>
                    <a:lnTo>
                      <a:pt x="1326" y="1536"/>
                    </a:lnTo>
                    <a:lnTo>
                      <a:pt x="1242" y="1530"/>
                    </a:lnTo>
                    <a:lnTo>
                      <a:pt x="1158" y="1500"/>
                    </a:lnTo>
                    <a:lnTo>
                      <a:pt x="1080" y="1464"/>
                    </a:lnTo>
                    <a:lnTo>
                      <a:pt x="996" y="1464"/>
                    </a:lnTo>
                    <a:lnTo>
                      <a:pt x="912" y="1452"/>
                    </a:lnTo>
                    <a:lnTo>
                      <a:pt x="828" y="1416"/>
                    </a:lnTo>
                    <a:lnTo>
                      <a:pt x="744" y="1392"/>
                    </a:lnTo>
                    <a:lnTo>
                      <a:pt x="666" y="1464"/>
                    </a:lnTo>
                    <a:lnTo>
                      <a:pt x="582" y="1392"/>
                    </a:lnTo>
                    <a:lnTo>
                      <a:pt x="498" y="1224"/>
                    </a:lnTo>
                    <a:lnTo>
                      <a:pt x="414" y="1218"/>
                    </a:lnTo>
                    <a:lnTo>
                      <a:pt x="330" y="1008"/>
                    </a:lnTo>
                    <a:lnTo>
                      <a:pt x="246" y="930"/>
                    </a:lnTo>
                    <a:lnTo>
                      <a:pt x="168" y="786"/>
                    </a:lnTo>
                    <a:lnTo>
                      <a:pt x="84" y="606"/>
                    </a:lnTo>
                    <a:lnTo>
                      <a:pt x="0" y="118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800360" y="2457360"/>
                <a:ext cx="5790960" cy="3105360"/>
              </a:xfrm>
              <a:custGeom>
                <a:avLst/>
                <a:gdLst/>
                <a:ahLst/>
                <a:rect l="l" t="t" r="r" b="b"/>
                <a:pathLst>
                  <a:path w="3648" h="1956">
                    <a:moveTo>
                      <a:pt x="0" y="1512"/>
                    </a:moveTo>
                    <a:lnTo>
                      <a:pt x="0" y="1512"/>
                    </a:lnTo>
                    <a:lnTo>
                      <a:pt x="84" y="534"/>
                    </a:lnTo>
                    <a:lnTo>
                      <a:pt x="168" y="12"/>
                    </a:lnTo>
                    <a:lnTo>
                      <a:pt x="246" y="0"/>
                    </a:lnTo>
                    <a:lnTo>
                      <a:pt x="330" y="306"/>
                    </a:lnTo>
                    <a:lnTo>
                      <a:pt x="414" y="852"/>
                    </a:lnTo>
                    <a:lnTo>
                      <a:pt x="498" y="996"/>
                    </a:lnTo>
                    <a:lnTo>
                      <a:pt x="582" y="1416"/>
                    </a:lnTo>
                    <a:lnTo>
                      <a:pt x="666" y="1530"/>
                    </a:lnTo>
                    <a:lnTo>
                      <a:pt x="744" y="1446"/>
                    </a:lnTo>
                    <a:lnTo>
                      <a:pt x="828" y="1506"/>
                    </a:lnTo>
                    <a:lnTo>
                      <a:pt x="912" y="1566"/>
                    </a:lnTo>
                    <a:lnTo>
                      <a:pt x="996" y="1650"/>
                    </a:lnTo>
                    <a:lnTo>
                      <a:pt x="1080" y="1680"/>
                    </a:lnTo>
                    <a:lnTo>
                      <a:pt x="1158" y="1728"/>
                    </a:lnTo>
                    <a:lnTo>
                      <a:pt x="1242" y="1764"/>
                    </a:lnTo>
                    <a:lnTo>
                      <a:pt x="1326" y="1788"/>
                    </a:lnTo>
                    <a:lnTo>
                      <a:pt x="1410" y="1818"/>
                    </a:lnTo>
                    <a:lnTo>
                      <a:pt x="1494" y="1854"/>
                    </a:lnTo>
                    <a:lnTo>
                      <a:pt x="1578" y="1872"/>
                    </a:lnTo>
                    <a:lnTo>
                      <a:pt x="1656" y="1896"/>
                    </a:lnTo>
                    <a:lnTo>
                      <a:pt x="1740" y="1908"/>
                    </a:lnTo>
                    <a:lnTo>
                      <a:pt x="1824" y="1914"/>
                    </a:lnTo>
                    <a:lnTo>
                      <a:pt x="1908" y="1920"/>
                    </a:lnTo>
                    <a:lnTo>
                      <a:pt x="1992" y="1932"/>
                    </a:lnTo>
                    <a:lnTo>
                      <a:pt x="2070" y="1938"/>
                    </a:lnTo>
                    <a:lnTo>
                      <a:pt x="2154" y="1944"/>
                    </a:lnTo>
                    <a:lnTo>
                      <a:pt x="2238" y="1944"/>
                    </a:lnTo>
                    <a:lnTo>
                      <a:pt x="2322" y="1950"/>
                    </a:lnTo>
                    <a:lnTo>
                      <a:pt x="2406" y="1950"/>
                    </a:lnTo>
                    <a:lnTo>
                      <a:pt x="2490" y="1956"/>
                    </a:lnTo>
                    <a:lnTo>
                      <a:pt x="2568" y="1956"/>
                    </a:lnTo>
                    <a:lnTo>
                      <a:pt x="2652" y="1956"/>
                    </a:lnTo>
                    <a:lnTo>
                      <a:pt x="2736" y="1956"/>
                    </a:lnTo>
                    <a:lnTo>
                      <a:pt x="2820" y="1956"/>
                    </a:lnTo>
                    <a:lnTo>
                      <a:pt x="2904" y="1956"/>
                    </a:lnTo>
                    <a:lnTo>
                      <a:pt x="2982" y="1956"/>
                    </a:lnTo>
                    <a:lnTo>
                      <a:pt x="3066" y="1956"/>
                    </a:lnTo>
                    <a:lnTo>
                      <a:pt x="3150" y="1956"/>
                    </a:lnTo>
                    <a:lnTo>
                      <a:pt x="3234" y="1956"/>
                    </a:lnTo>
                    <a:lnTo>
                      <a:pt x="3318" y="1956"/>
                    </a:lnTo>
                    <a:lnTo>
                      <a:pt x="3402" y="1956"/>
                    </a:lnTo>
                    <a:lnTo>
                      <a:pt x="3480" y="1956"/>
                    </a:lnTo>
                    <a:lnTo>
                      <a:pt x="3564" y="1956"/>
                    </a:lnTo>
                    <a:lnTo>
                      <a:pt x="3648" y="1956"/>
                    </a:lnTo>
                    <a:lnTo>
                      <a:pt x="3648" y="1956"/>
                    </a:lnTo>
                    <a:lnTo>
                      <a:pt x="3564" y="1956"/>
                    </a:lnTo>
                    <a:lnTo>
                      <a:pt x="3480" y="1956"/>
                    </a:lnTo>
                    <a:lnTo>
                      <a:pt x="3402" y="1956"/>
                    </a:lnTo>
                    <a:lnTo>
                      <a:pt x="3318" y="1956"/>
                    </a:lnTo>
                    <a:lnTo>
                      <a:pt x="3234" y="1956"/>
                    </a:lnTo>
                    <a:lnTo>
                      <a:pt x="3150" y="1956"/>
                    </a:lnTo>
                    <a:lnTo>
                      <a:pt x="3066" y="1956"/>
                    </a:lnTo>
                    <a:lnTo>
                      <a:pt x="2982" y="1956"/>
                    </a:lnTo>
                    <a:lnTo>
                      <a:pt x="2904" y="1956"/>
                    </a:lnTo>
                    <a:lnTo>
                      <a:pt x="2820" y="1956"/>
                    </a:lnTo>
                    <a:lnTo>
                      <a:pt x="2736" y="1956"/>
                    </a:lnTo>
                    <a:lnTo>
                      <a:pt x="2652" y="1956"/>
                    </a:lnTo>
                    <a:lnTo>
                      <a:pt x="2568" y="1956"/>
                    </a:lnTo>
                    <a:lnTo>
                      <a:pt x="2490" y="1956"/>
                    </a:lnTo>
                    <a:lnTo>
                      <a:pt x="2406" y="1950"/>
                    </a:lnTo>
                    <a:lnTo>
                      <a:pt x="2322" y="1950"/>
                    </a:lnTo>
                    <a:lnTo>
                      <a:pt x="2238" y="1950"/>
                    </a:lnTo>
                    <a:lnTo>
                      <a:pt x="2154" y="1944"/>
                    </a:lnTo>
                    <a:lnTo>
                      <a:pt x="2070" y="1938"/>
                    </a:lnTo>
                    <a:lnTo>
                      <a:pt x="1992" y="1938"/>
                    </a:lnTo>
                    <a:lnTo>
                      <a:pt x="1908" y="1926"/>
                    </a:lnTo>
                    <a:lnTo>
                      <a:pt x="1824" y="1926"/>
                    </a:lnTo>
                    <a:lnTo>
                      <a:pt x="1740" y="1920"/>
                    </a:lnTo>
                    <a:lnTo>
                      <a:pt x="1656" y="1902"/>
                    </a:lnTo>
                    <a:lnTo>
                      <a:pt x="1578" y="1884"/>
                    </a:lnTo>
                    <a:lnTo>
                      <a:pt x="1494" y="1866"/>
                    </a:lnTo>
                    <a:lnTo>
                      <a:pt x="1410" y="1836"/>
                    </a:lnTo>
                    <a:lnTo>
                      <a:pt x="1326" y="1818"/>
                    </a:lnTo>
                    <a:lnTo>
                      <a:pt x="1242" y="1800"/>
                    </a:lnTo>
                    <a:lnTo>
                      <a:pt x="1158" y="1764"/>
                    </a:lnTo>
                    <a:lnTo>
                      <a:pt x="1080" y="1728"/>
                    </a:lnTo>
                    <a:lnTo>
                      <a:pt x="996" y="1710"/>
                    </a:lnTo>
                    <a:lnTo>
                      <a:pt x="912" y="1650"/>
                    </a:lnTo>
                    <a:lnTo>
                      <a:pt x="828" y="1596"/>
                    </a:lnTo>
                    <a:lnTo>
                      <a:pt x="744" y="1578"/>
                    </a:lnTo>
                    <a:lnTo>
                      <a:pt x="666" y="1680"/>
                    </a:lnTo>
                    <a:lnTo>
                      <a:pt x="582" y="1572"/>
                    </a:lnTo>
                    <a:lnTo>
                      <a:pt x="498" y="1248"/>
                    </a:lnTo>
                    <a:lnTo>
                      <a:pt x="414" y="1194"/>
                    </a:lnTo>
                    <a:lnTo>
                      <a:pt x="330" y="786"/>
                    </a:lnTo>
                    <a:lnTo>
                      <a:pt x="246" y="576"/>
                    </a:lnTo>
                    <a:lnTo>
                      <a:pt x="168" y="330"/>
                    </a:lnTo>
                    <a:lnTo>
                      <a:pt x="84" y="534"/>
                    </a:lnTo>
                    <a:lnTo>
                      <a:pt x="0" y="15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800360" y="2104920"/>
                <a:ext cx="5790960" cy="3457800"/>
              </a:xfrm>
              <a:custGeom>
                <a:avLst/>
                <a:gdLst/>
                <a:ahLst/>
                <a:rect l="l" t="t" r="r" b="b"/>
                <a:pathLst>
                  <a:path w="3648" h="2178">
                    <a:moveTo>
                      <a:pt x="0" y="1734"/>
                    </a:moveTo>
                    <a:lnTo>
                      <a:pt x="0" y="1734"/>
                    </a:lnTo>
                    <a:lnTo>
                      <a:pt x="84" y="756"/>
                    </a:lnTo>
                    <a:lnTo>
                      <a:pt x="168" y="234"/>
                    </a:lnTo>
                    <a:lnTo>
                      <a:pt x="246" y="0"/>
                    </a:lnTo>
                    <a:lnTo>
                      <a:pt x="330" y="78"/>
                    </a:lnTo>
                    <a:lnTo>
                      <a:pt x="414" y="804"/>
                    </a:lnTo>
                    <a:lnTo>
                      <a:pt x="498" y="906"/>
                    </a:lnTo>
                    <a:lnTo>
                      <a:pt x="582" y="1410"/>
                    </a:lnTo>
                    <a:lnTo>
                      <a:pt x="666" y="1560"/>
                    </a:lnTo>
                    <a:lnTo>
                      <a:pt x="744" y="1458"/>
                    </a:lnTo>
                    <a:lnTo>
                      <a:pt x="828" y="1542"/>
                    </a:lnTo>
                    <a:lnTo>
                      <a:pt x="912" y="1656"/>
                    </a:lnTo>
                    <a:lnTo>
                      <a:pt x="996" y="1782"/>
                    </a:lnTo>
                    <a:lnTo>
                      <a:pt x="1080" y="1830"/>
                    </a:lnTo>
                    <a:lnTo>
                      <a:pt x="1158" y="1866"/>
                    </a:lnTo>
                    <a:lnTo>
                      <a:pt x="1242" y="1908"/>
                    </a:lnTo>
                    <a:lnTo>
                      <a:pt x="1326" y="1956"/>
                    </a:lnTo>
                    <a:lnTo>
                      <a:pt x="1410" y="1998"/>
                    </a:lnTo>
                    <a:lnTo>
                      <a:pt x="1494" y="2040"/>
                    </a:lnTo>
                    <a:lnTo>
                      <a:pt x="1578" y="2070"/>
                    </a:lnTo>
                    <a:lnTo>
                      <a:pt x="1656" y="2100"/>
                    </a:lnTo>
                    <a:lnTo>
                      <a:pt x="1740" y="2112"/>
                    </a:lnTo>
                    <a:lnTo>
                      <a:pt x="1824" y="2118"/>
                    </a:lnTo>
                    <a:lnTo>
                      <a:pt x="1908" y="2130"/>
                    </a:lnTo>
                    <a:lnTo>
                      <a:pt x="1992" y="2142"/>
                    </a:lnTo>
                    <a:lnTo>
                      <a:pt x="2070" y="2148"/>
                    </a:lnTo>
                    <a:lnTo>
                      <a:pt x="2154" y="2154"/>
                    </a:lnTo>
                    <a:lnTo>
                      <a:pt x="2238" y="2160"/>
                    </a:lnTo>
                    <a:lnTo>
                      <a:pt x="2322" y="2166"/>
                    </a:lnTo>
                    <a:lnTo>
                      <a:pt x="2406" y="2172"/>
                    </a:lnTo>
                    <a:lnTo>
                      <a:pt x="2490" y="2172"/>
                    </a:lnTo>
                    <a:lnTo>
                      <a:pt x="2568" y="2172"/>
                    </a:lnTo>
                    <a:lnTo>
                      <a:pt x="2652" y="2172"/>
                    </a:lnTo>
                    <a:lnTo>
                      <a:pt x="2736" y="2172"/>
                    </a:lnTo>
                    <a:lnTo>
                      <a:pt x="2820" y="2178"/>
                    </a:lnTo>
                    <a:lnTo>
                      <a:pt x="2904" y="2178"/>
                    </a:lnTo>
                    <a:lnTo>
                      <a:pt x="2982" y="2178"/>
                    </a:lnTo>
                    <a:lnTo>
                      <a:pt x="3066" y="2178"/>
                    </a:lnTo>
                    <a:lnTo>
                      <a:pt x="3150" y="2178"/>
                    </a:lnTo>
                    <a:lnTo>
                      <a:pt x="3234" y="2178"/>
                    </a:lnTo>
                    <a:lnTo>
                      <a:pt x="3318" y="2178"/>
                    </a:lnTo>
                    <a:lnTo>
                      <a:pt x="3402" y="2178"/>
                    </a:lnTo>
                    <a:lnTo>
                      <a:pt x="3480" y="2178"/>
                    </a:lnTo>
                    <a:lnTo>
                      <a:pt x="3564" y="2178"/>
                    </a:lnTo>
                    <a:lnTo>
                      <a:pt x="3648" y="2178"/>
                    </a:lnTo>
                    <a:lnTo>
                      <a:pt x="3648" y="2178"/>
                    </a:lnTo>
                    <a:lnTo>
                      <a:pt x="3564" y="2178"/>
                    </a:lnTo>
                    <a:lnTo>
                      <a:pt x="3480" y="2178"/>
                    </a:lnTo>
                    <a:lnTo>
                      <a:pt x="3402" y="2178"/>
                    </a:lnTo>
                    <a:lnTo>
                      <a:pt x="3318" y="2178"/>
                    </a:lnTo>
                    <a:lnTo>
                      <a:pt x="3234" y="2178"/>
                    </a:lnTo>
                    <a:lnTo>
                      <a:pt x="3150" y="2178"/>
                    </a:lnTo>
                    <a:lnTo>
                      <a:pt x="3066" y="2178"/>
                    </a:lnTo>
                    <a:lnTo>
                      <a:pt x="2982" y="2178"/>
                    </a:lnTo>
                    <a:lnTo>
                      <a:pt x="2904" y="2178"/>
                    </a:lnTo>
                    <a:lnTo>
                      <a:pt x="2820" y="2178"/>
                    </a:lnTo>
                    <a:lnTo>
                      <a:pt x="2736" y="2178"/>
                    </a:lnTo>
                    <a:lnTo>
                      <a:pt x="2652" y="2178"/>
                    </a:lnTo>
                    <a:lnTo>
                      <a:pt x="2568" y="2178"/>
                    </a:lnTo>
                    <a:lnTo>
                      <a:pt x="2490" y="2178"/>
                    </a:lnTo>
                    <a:lnTo>
                      <a:pt x="2406" y="2172"/>
                    </a:lnTo>
                    <a:lnTo>
                      <a:pt x="2322" y="2172"/>
                    </a:lnTo>
                    <a:lnTo>
                      <a:pt x="2238" y="2166"/>
                    </a:lnTo>
                    <a:lnTo>
                      <a:pt x="2154" y="2166"/>
                    </a:lnTo>
                    <a:lnTo>
                      <a:pt x="2070" y="2160"/>
                    </a:lnTo>
                    <a:lnTo>
                      <a:pt x="1992" y="2154"/>
                    </a:lnTo>
                    <a:lnTo>
                      <a:pt x="1908" y="2142"/>
                    </a:lnTo>
                    <a:lnTo>
                      <a:pt x="1824" y="2136"/>
                    </a:lnTo>
                    <a:lnTo>
                      <a:pt x="1740" y="2130"/>
                    </a:lnTo>
                    <a:lnTo>
                      <a:pt x="1656" y="2118"/>
                    </a:lnTo>
                    <a:lnTo>
                      <a:pt x="1578" y="2094"/>
                    </a:lnTo>
                    <a:lnTo>
                      <a:pt x="1494" y="2076"/>
                    </a:lnTo>
                    <a:lnTo>
                      <a:pt x="1410" y="2040"/>
                    </a:lnTo>
                    <a:lnTo>
                      <a:pt x="1326" y="2010"/>
                    </a:lnTo>
                    <a:lnTo>
                      <a:pt x="1242" y="1986"/>
                    </a:lnTo>
                    <a:lnTo>
                      <a:pt x="1158" y="1950"/>
                    </a:lnTo>
                    <a:lnTo>
                      <a:pt x="1080" y="1902"/>
                    </a:lnTo>
                    <a:lnTo>
                      <a:pt x="996" y="1872"/>
                    </a:lnTo>
                    <a:lnTo>
                      <a:pt x="912" y="1788"/>
                    </a:lnTo>
                    <a:lnTo>
                      <a:pt x="828" y="1728"/>
                    </a:lnTo>
                    <a:lnTo>
                      <a:pt x="744" y="1668"/>
                    </a:lnTo>
                    <a:lnTo>
                      <a:pt x="666" y="1752"/>
                    </a:lnTo>
                    <a:lnTo>
                      <a:pt x="582" y="1638"/>
                    </a:lnTo>
                    <a:lnTo>
                      <a:pt x="498" y="1218"/>
                    </a:lnTo>
                    <a:lnTo>
                      <a:pt x="414" y="1074"/>
                    </a:lnTo>
                    <a:lnTo>
                      <a:pt x="330" y="528"/>
                    </a:lnTo>
                    <a:lnTo>
                      <a:pt x="246" y="222"/>
                    </a:lnTo>
                    <a:lnTo>
                      <a:pt x="168" y="234"/>
                    </a:lnTo>
                    <a:lnTo>
                      <a:pt x="84" y="756"/>
                    </a:lnTo>
                    <a:lnTo>
                      <a:pt x="0" y="173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800360" y="1952640"/>
                <a:ext cx="5790960" cy="3610080"/>
              </a:xfrm>
              <a:custGeom>
                <a:avLst/>
                <a:gdLst/>
                <a:ahLst/>
                <a:rect l="l" t="t" r="r" b="b"/>
                <a:pathLst>
                  <a:path w="3648" h="2274">
                    <a:moveTo>
                      <a:pt x="0" y="1830"/>
                    </a:moveTo>
                    <a:lnTo>
                      <a:pt x="0" y="1830"/>
                    </a:lnTo>
                    <a:lnTo>
                      <a:pt x="84" y="852"/>
                    </a:lnTo>
                    <a:lnTo>
                      <a:pt x="168" y="330"/>
                    </a:lnTo>
                    <a:lnTo>
                      <a:pt x="246" y="96"/>
                    </a:lnTo>
                    <a:lnTo>
                      <a:pt x="330" y="0"/>
                    </a:lnTo>
                    <a:lnTo>
                      <a:pt x="414" y="450"/>
                    </a:lnTo>
                    <a:lnTo>
                      <a:pt x="498" y="480"/>
                    </a:lnTo>
                    <a:lnTo>
                      <a:pt x="582" y="1068"/>
                    </a:lnTo>
                    <a:lnTo>
                      <a:pt x="666" y="1218"/>
                    </a:lnTo>
                    <a:lnTo>
                      <a:pt x="744" y="1122"/>
                    </a:lnTo>
                    <a:lnTo>
                      <a:pt x="828" y="1170"/>
                    </a:lnTo>
                    <a:lnTo>
                      <a:pt x="912" y="1356"/>
                    </a:lnTo>
                    <a:lnTo>
                      <a:pt x="996" y="1554"/>
                    </a:lnTo>
                    <a:lnTo>
                      <a:pt x="1080" y="1656"/>
                    </a:lnTo>
                    <a:lnTo>
                      <a:pt x="1158" y="1740"/>
                    </a:lnTo>
                    <a:lnTo>
                      <a:pt x="1242" y="1830"/>
                    </a:lnTo>
                    <a:lnTo>
                      <a:pt x="1326" y="1902"/>
                    </a:lnTo>
                    <a:lnTo>
                      <a:pt x="1410" y="1974"/>
                    </a:lnTo>
                    <a:lnTo>
                      <a:pt x="1494" y="2040"/>
                    </a:lnTo>
                    <a:lnTo>
                      <a:pt x="1578" y="2088"/>
                    </a:lnTo>
                    <a:lnTo>
                      <a:pt x="1656" y="2142"/>
                    </a:lnTo>
                    <a:lnTo>
                      <a:pt x="1740" y="2172"/>
                    </a:lnTo>
                    <a:lnTo>
                      <a:pt x="1824" y="2190"/>
                    </a:lnTo>
                    <a:lnTo>
                      <a:pt x="1908" y="2202"/>
                    </a:lnTo>
                    <a:lnTo>
                      <a:pt x="1992" y="2226"/>
                    </a:lnTo>
                    <a:lnTo>
                      <a:pt x="2070" y="2238"/>
                    </a:lnTo>
                    <a:lnTo>
                      <a:pt x="2154" y="2250"/>
                    </a:lnTo>
                    <a:lnTo>
                      <a:pt x="2238" y="2256"/>
                    </a:lnTo>
                    <a:lnTo>
                      <a:pt x="2322" y="2262"/>
                    </a:lnTo>
                    <a:lnTo>
                      <a:pt x="2406" y="2268"/>
                    </a:lnTo>
                    <a:lnTo>
                      <a:pt x="2490" y="2268"/>
                    </a:lnTo>
                    <a:lnTo>
                      <a:pt x="2568" y="2268"/>
                    </a:lnTo>
                    <a:lnTo>
                      <a:pt x="2652" y="2268"/>
                    </a:lnTo>
                    <a:lnTo>
                      <a:pt x="2736" y="2268"/>
                    </a:lnTo>
                    <a:lnTo>
                      <a:pt x="2820" y="2274"/>
                    </a:lnTo>
                    <a:lnTo>
                      <a:pt x="2904" y="2274"/>
                    </a:lnTo>
                    <a:lnTo>
                      <a:pt x="2982" y="2274"/>
                    </a:lnTo>
                    <a:lnTo>
                      <a:pt x="3066" y="2274"/>
                    </a:lnTo>
                    <a:lnTo>
                      <a:pt x="3150" y="2274"/>
                    </a:lnTo>
                    <a:lnTo>
                      <a:pt x="3234" y="2274"/>
                    </a:lnTo>
                    <a:lnTo>
                      <a:pt x="3318" y="2274"/>
                    </a:lnTo>
                    <a:lnTo>
                      <a:pt x="3402" y="2274"/>
                    </a:lnTo>
                    <a:lnTo>
                      <a:pt x="3480" y="2274"/>
                    </a:lnTo>
                    <a:lnTo>
                      <a:pt x="3564" y="2274"/>
                    </a:lnTo>
                    <a:lnTo>
                      <a:pt x="3648" y="2274"/>
                    </a:lnTo>
                    <a:lnTo>
                      <a:pt x="3648" y="2274"/>
                    </a:lnTo>
                    <a:lnTo>
                      <a:pt x="3564" y="2274"/>
                    </a:lnTo>
                    <a:lnTo>
                      <a:pt x="3480" y="2274"/>
                    </a:lnTo>
                    <a:lnTo>
                      <a:pt x="3402" y="2274"/>
                    </a:lnTo>
                    <a:lnTo>
                      <a:pt x="3318" y="2274"/>
                    </a:lnTo>
                    <a:lnTo>
                      <a:pt x="3234" y="2274"/>
                    </a:lnTo>
                    <a:lnTo>
                      <a:pt x="3150" y="2274"/>
                    </a:lnTo>
                    <a:lnTo>
                      <a:pt x="3066" y="2274"/>
                    </a:lnTo>
                    <a:lnTo>
                      <a:pt x="2982" y="2274"/>
                    </a:lnTo>
                    <a:lnTo>
                      <a:pt x="2904" y="2274"/>
                    </a:lnTo>
                    <a:lnTo>
                      <a:pt x="2820" y="2274"/>
                    </a:lnTo>
                    <a:lnTo>
                      <a:pt x="2736" y="2268"/>
                    </a:lnTo>
                    <a:lnTo>
                      <a:pt x="2652" y="2268"/>
                    </a:lnTo>
                    <a:lnTo>
                      <a:pt x="2568" y="2268"/>
                    </a:lnTo>
                    <a:lnTo>
                      <a:pt x="2490" y="2268"/>
                    </a:lnTo>
                    <a:lnTo>
                      <a:pt x="2406" y="2268"/>
                    </a:lnTo>
                    <a:lnTo>
                      <a:pt x="2322" y="2262"/>
                    </a:lnTo>
                    <a:lnTo>
                      <a:pt x="2238" y="2256"/>
                    </a:lnTo>
                    <a:lnTo>
                      <a:pt x="2154" y="2250"/>
                    </a:lnTo>
                    <a:lnTo>
                      <a:pt x="2070" y="2244"/>
                    </a:lnTo>
                    <a:lnTo>
                      <a:pt x="1992" y="2238"/>
                    </a:lnTo>
                    <a:lnTo>
                      <a:pt x="1908" y="2226"/>
                    </a:lnTo>
                    <a:lnTo>
                      <a:pt x="1824" y="2214"/>
                    </a:lnTo>
                    <a:lnTo>
                      <a:pt x="1740" y="2208"/>
                    </a:lnTo>
                    <a:lnTo>
                      <a:pt x="1656" y="2196"/>
                    </a:lnTo>
                    <a:lnTo>
                      <a:pt x="1578" y="2166"/>
                    </a:lnTo>
                    <a:lnTo>
                      <a:pt x="1494" y="2136"/>
                    </a:lnTo>
                    <a:lnTo>
                      <a:pt x="1410" y="2094"/>
                    </a:lnTo>
                    <a:lnTo>
                      <a:pt x="1326" y="2052"/>
                    </a:lnTo>
                    <a:lnTo>
                      <a:pt x="1242" y="2004"/>
                    </a:lnTo>
                    <a:lnTo>
                      <a:pt x="1158" y="1962"/>
                    </a:lnTo>
                    <a:lnTo>
                      <a:pt x="1080" y="1926"/>
                    </a:lnTo>
                    <a:lnTo>
                      <a:pt x="996" y="1878"/>
                    </a:lnTo>
                    <a:lnTo>
                      <a:pt x="912" y="1752"/>
                    </a:lnTo>
                    <a:lnTo>
                      <a:pt x="828" y="1638"/>
                    </a:lnTo>
                    <a:lnTo>
                      <a:pt x="744" y="1554"/>
                    </a:lnTo>
                    <a:lnTo>
                      <a:pt x="666" y="1656"/>
                    </a:lnTo>
                    <a:lnTo>
                      <a:pt x="582" y="1506"/>
                    </a:lnTo>
                    <a:lnTo>
                      <a:pt x="498" y="1002"/>
                    </a:lnTo>
                    <a:lnTo>
                      <a:pt x="414" y="900"/>
                    </a:lnTo>
                    <a:lnTo>
                      <a:pt x="330" y="174"/>
                    </a:lnTo>
                    <a:lnTo>
                      <a:pt x="246" y="96"/>
                    </a:lnTo>
                    <a:lnTo>
                      <a:pt x="168" y="330"/>
                    </a:lnTo>
                    <a:lnTo>
                      <a:pt x="84" y="852"/>
                    </a:lnTo>
                    <a:lnTo>
                      <a:pt x="0" y="18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800360" y="1952640"/>
                <a:ext cx="5790960" cy="3610080"/>
              </a:xfrm>
              <a:custGeom>
                <a:avLst/>
                <a:gdLst/>
                <a:ahLst/>
                <a:rect l="l" t="t" r="r" b="b"/>
                <a:pathLst>
                  <a:path w="3648" h="2274">
                    <a:moveTo>
                      <a:pt x="0" y="1830"/>
                    </a:moveTo>
                    <a:lnTo>
                      <a:pt x="0" y="1830"/>
                    </a:lnTo>
                    <a:lnTo>
                      <a:pt x="84" y="852"/>
                    </a:lnTo>
                    <a:lnTo>
                      <a:pt x="168" y="330"/>
                    </a:lnTo>
                    <a:lnTo>
                      <a:pt x="246" y="96"/>
                    </a:lnTo>
                    <a:lnTo>
                      <a:pt x="330" y="0"/>
                    </a:lnTo>
                    <a:lnTo>
                      <a:pt x="414" y="396"/>
                    </a:lnTo>
                    <a:lnTo>
                      <a:pt x="498" y="336"/>
                    </a:lnTo>
                    <a:lnTo>
                      <a:pt x="582" y="906"/>
                    </a:lnTo>
                    <a:lnTo>
                      <a:pt x="666" y="1104"/>
                    </a:lnTo>
                    <a:lnTo>
                      <a:pt x="744" y="1044"/>
                    </a:lnTo>
                    <a:lnTo>
                      <a:pt x="828" y="1098"/>
                    </a:lnTo>
                    <a:lnTo>
                      <a:pt x="912" y="1290"/>
                    </a:lnTo>
                    <a:lnTo>
                      <a:pt x="996" y="1518"/>
                    </a:lnTo>
                    <a:lnTo>
                      <a:pt x="1080" y="1632"/>
                    </a:lnTo>
                    <a:lnTo>
                      <a:pt x="1158" y="1722"/>
                    </a:lnTo>
                    <a:lnTo>
                      <a:pt x="1242" y="1818"/>
                    </a:lnTo>
                    <a:lnTo>
                      <a:pt x="1326" y="1884"/>
                    </a:lnTo>
                    <a:lnTo>
                      <a:pt x="1410" y="1968"/>
                    </a:lnTo>
                    <a:lnTo>
                      <a:pt x="1494" y="2028"/>
                    </a:lnTo>
                    <a:lnTo>
                      <a:pt x="1578" y="2082"/>
                    </a:lnTo>
                    <a:lnTo>
                      <a:pt x="1656" y="2142"/>
                    </a:lnTo>
                    <a:lnTo>
                      <a:pt x="1740" y="2172"/>
                    </a:lnTo>
                    <a:lnTo>
                      <a:pt x="1824" y="2184"/>
                    </a:lnTo>
                    <a:lnTo>
                      <a:pt x="1908" y="2202"/>
                    </a:lnTo>
                    <a:lnTo>
                      <a:pt x="1992" y="2226"/>
                    </a:lnTo>
                    <a:lnTo>
                      <a:pt x="2070" y="2238"/>
                    </a:lnTo>
                    <a:lnTo>
                      <a:pt x="2154" y="2250"/>
                    </a:lnTo>
                    <a:lnTo>
                      <a:pt x="2238" y="2256"/>
                    </a:lnTo>
                    <a:lnTo>
                      <a:pt x="2322" y="2262"/>
                    </a:lnTo>
                    <a:lnTo>
                      <a:pt x="2406" y="2268"/>
                    </a:lnTo>
                    <a:lnTo>
                      <a:pt x="2490" y="2268"/>
                    </a:lnTo>
                    <a:lnTo>
                      <a:pt x="2568" y="2268"/>
                    </a:lnTo>
                    <a:lnTo>
                      <a:pt x="2652" y="2268"/>
                    </a:lnTo>
                    <a:lnTo>
                      <a:pt x="2736" y="2268"/>
                    </a:lnTo>
                    <a:lnTo>
                      <a:pt x="2820" y="2274"/>
                    </a:lnTo>
                    <a:lnTo>
                      <a:pt x="2904" y="2274"/>
                    </a:lnTo>
                    <a:lnTo>
                      <a:pt x="2982" y="2274"/>
                    </a:lnTo>
                    <a:lnTo>
                      <a:pt x="3066" y="2274"/>
                    </a:lnTo>
                    <a:lnTo>
                      <a:pt x="3150" y="2274"/>
                    </a:lnTo>
                    <a:lnTo>
                      <a:pt x="3234" y="2274"/>
                    </a:lnTo>
                    <a:lnTo>
                      <a:pt x="3318" y="2274"/>
                    </a:lnTo>
                    <a:lnTo>
                      <a:pt x="3402" y="2274"/>
                    </a:lnTo>
                    <a:lnTo>
                      <a:pt x="3480" y="2274"/>
                    </a:lnTo>
                    <a:lnTo>
                      <a:pt x="3564" y="2274"/>
                    </a:lnTo>
                    <a:lnTo>
                      <a:pt x="3648" y="2274"/>
                    </a:lnTo>
                    <a:lnTo>
                      <a:pt x="3648" y="2274"/>
                    </a:lnTo>
                    <a:lnTo>
                      <a:pt x="3564" y="2274"/>
                    </a:lnTo>
                    <a:lnTo>
                      <a:pt x="3480" y="2274"/>
                    </a:lnTo>
                    <a:lnTo>
                      <a:pt x="3402" y="2274"/>
                    </a:lnTo>
                    <a:lnTo>
                      <a:pt x="3318" y="2274"/>
                    </a:lnTo>
                    <a:lnTo>
                      <a:pt x="3234" y="2274"/>
                    </a:lnTo>
                    <a:lnTo>
                      <a:pt x="3150" y="2274"/>
                    </a:lnTo>
                    <a:lnTo>
                      <a:pt x="3066" y="2274"/>
                    </a:lnTo>
                    <a:lnTo>
                      <a:pt x="2982" y="2274"/>
                    </a:lnTo>
                    <a:lnTo>
                      <a:pt x="2904" y="2274"/>
                    </a:lnTo>
                    <a:lnTo>
                      <a:pt x="2820" y="2274"/>
                    </a:lnTo>
                    <a:lnTo>
                      <a:pt x="2736" y="2268"/>
                    </a:lnTo>
                    <a:lnTo>
                      <a:pt x="2652" y="2268"/>
                    </a:lnTo>
                    <a:lnTo>
                      <a:pt x="2568" y="2268"/>
                    </a:lnTo>
                    <a:lnTo>
                      <a:pt x="2490" y="2268"/>
                    </a:lnTo>
                    <a:lnTo>
                      <a:pt x="2406" y="2268"/>
                    </a:lnTo>
                    <a:lnTo>
                      <a:pt x="2322" y="2262"/>
                    </a:lnTo>
                    <a:lnTo>
                      <a:pt x="2238" y="2256"/>
                    </a:lnTo>
                    <a:lnTo>
                      <a:pt x="2154" y="2250"/>
                    </a:lnTo>
                    <a:lnTo>
                      <a:pt x="2070" y="2238"/>
                    </a:lnTo>
                    <a:lnTo>
                      <a:pt x="1992" y="2226"/>
                    </a:lnTo>
                    <a:lnTo>
                      <a:pt x="1908" y="2202"/>
                    </a:lnTo>
                    <a:lnTo>
                      <a:pt x="1824" y="2190"/>
                    </a:lnTo>
                    <a:lnTo>
                      <a:pt x="1740" y="2172"/>
                    </a:lnTo>
                    <a:lnTo>
                      <a:pt x="1656" y="2142"/>
                    </a:lnTo>
                    <a:lnTo>
                      <a:pt x="1578" y="2088"/>
                    </a:lnTo>
                    <a:lnTo>
                      <a:pt x="1494" y="2040"/>
                    </a:lnTo>
                    <a:lnTo>
                      <a:pt x="1410" y="1974"/>
                    </a:lnTo>
                    <a:lnTo>
                      <a:pt x="1326" y="1902"/>
                    </a:lnTo>
                    <a:lnTo>
                      <a:pt x="1242" y="1830"/>
                    </a:lnTo>
                    <a:lnTo>
                      <a:pt x="1158" y="1740"/>
                    </a:lnTo>
                    <a:lnTo>
                      <a:pt x="1080" y="1656"/>
                    </a:lnTo>
                    <a:lnTo>
                      <a:pt x="996" y="1554"/>
                    </a:lnTo>
                    <a:lnTo>
                      <a:pt x="912" y="1356"/>
                    </a:lnTo>
                    <a:lnTo>
                      <a:pt x="828" y="1170"/>
                    </a:lnTo>
                    <a:lnTo>
                      <a:pt x="744" y="1122"/>
                    </a:lnTo>
                    <a:lnTo>
                      <a:pt x="666" y="1218"/>
                    </a:lnTo>
                    <a:lnTo>
                      <a:pt x="582" y="1068"/>
                    </a:lnTo>
                    <a:lnTo>
                      <a:pt x="498" y="480"/>
                    </a:lnTo>
                    <a:lnTo>
                      <a:pt x="414" y="450"/>
                    </a:lnTo>
                    <a:lnTo>
                      <a:pt x="330" y="0"/>
                    </a:lnTo>
                    <a:lnTo>
                      <a:pt x="246" y="96"/>
                    </a:lnTo>
                    <a:lnTo>
                      <a:pt x="168" y="330"/>
                    </a:lnTo>
                    <a:lnTo>
                      <a:pt x="84" y="852"/>
                    </a:lnTo>
                    <a:lnTo>
                      <a:pt x="0" y="18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800360" y="1952640"/>
                <a:ext cx="5790960" cy="3610080"/>
              </a:xfrm>
              <a:custGeom>
                <a:avLst/>
                <a:gdLst/>
                <a:ahLst/>
                <a:rect l="l" t="t" r="r" b="b"/>
                <a:pathLst>
                  <a:path w="3648" h="2274">
                    <a:moveTo>
                      <a:pt x="0" y="1830"/>
                    </a:moveTo>
                    <a:lnTo>
                      <a:pt x="0" y="1830"/>
                    </a:lnTo>
                    <a:lnTo>
                      <a:pt x="84" y="852"/>
                    </a:lnTo>
                    <a:lnTo>
                      <a:pt x="168" y="330"/>
                    </a:lnTo>
                    <a:lnTo>
                      <a:pt x="246" y="96"/>
                    </a:lnTo>
                    <a:lnTo>
                      <a:pt x="330" y="0"/>
                    </a:lnTo>
                    <a:lnTo>
                      <a:pt x="414" y="396"/>
                    </a:lnTo>
                    <a:lnTo>
                      <a:pt x="498" y="270"/>
                    </a:lnTo>
                    <a:lnTo>
                      <a:pt x="582" y="804"/>
                    </a:lnTo>
                    <a:lnTo>
                      <a:pt x="666" y="1038"/>
                    </a:lnTo>
                    <a:lnTo>
                      <a:pt x="744" y="960"/>
                    </a:lnTo>
                    <a:lnTo>
                      <a:pt x="828" y="1014"/>
                    </a:lnTo>
                    <a:lnTo>
                      <a:pt x="912" y="1236"/>
                    </a:lnTo>
                    <a:lnTo>
                      <a:pt x="996" y="1470"/>
                    </a:lnTo>
                    <a:lnTo>
                      <a:pt x="1080" y="1590"/>
                    </a:lnTo>
                    <a:lnTo>
                      <a:pt x="1158" y="1680"/>
                    </a:lnTo>
                    <a:lnTo>
                      <a:pt x="1242" y="1776"/>
                    </a:lnTo>
                    <a:lnTo>
                      <a:pt x="1326" y="1860"/>
                    </a:lnTo>
                    <a:lnTo>
                      <a:pt x="1410" y="1938"/>
                    </a:lnTo>
                    <a:lnTo>
                      <a:pt x="1494" y="1986"/>
                    </a:lnTo>
                    <a:lnTo>
                      <a:pt x="1578" y="2076"/>
                    </a:lnTo>
                    <a:lnTo>
                      <a:pt x="1656" y="2136"/>
                    </a:lnTo>
                    <a:lnTo>
                      <a:pt x="1740" y="2172"/>
                    </a:lnTo>
                    <a:lnTo>
                      <a:pt x="1824" y="2184"/>
                    </a:lnTo>
                    <a:lnTo>
                      <a:pt x="1908" y="2202"/>
                    </a:lnTo>
                    <a:lnTo>
                      <a:pt x="1992" y="2220"/>
                    </a:lnTo>
                    <a:lnTo>
                      <a:pt x="2070" y="2238"/>
                    </a:lnTo>
                    <a:lnTo>
                      <a:pt x="2154" y="2250"/>
                    </a:lnTo>
                    <a:lnTo>
                      <a:pt x="2238" y="2256"/>
                    </a:lnTo>
                    <a:lnTo>
                      <a:pt x="2322" y="2262"/>
                    </a:lnTo>
                    <a:lnTo>
                      <a:pt x="2406" y="2268"/>
                    </a:lnTo>
                    <a:lnTo>
                      <a:pt x="2490" y="2268"/>
                    </a:lnTo>
                    <a:lnTo>
                      <a:pt x="2568" y="2268"/>
                    </a:lnTo>
                    <a:lnTo>
                      <a:pt x="2652" y="2268"/>
                    </a:lnTo>
                    <a:lnTo>
                      <a:pt x="2736" y="2268"/>
                    </a:lnTo>
                    <a:lnTo>
                      <a:pt x="2820" y="2274"/>
                    </a:lnTo>
                    <a:lnTo>
                      <a:pt x="2904" y="2274"/>
                    </a:lnTo>
                    <a:lnTo>
                      <a:pt x="2982" y="2274"/>
                    </a:lnTo>
                    <a:lnTo>
                      <a:pt x="3066" y="2274"/>
                    </a:lnTo>
                    <a:lnTo>
                      <a:pt x="3150" y="2274"/>
                    </a:lnTo>
                    <a:lnTo>
                      <a:pt x="3234" y="2274"/>
                    </a:lnTo>
                    <a:lnTo>
                      <a:pt x="3318" y="2274"/>
                    </a:lnTo>
                    <a:lnTo>
                      <a:pt x="3402" y="2274"/>
                    </a:lnTo>
                    <a:lnTo>
                      <a:pt x="3480" y="2274"/>
                    </a:lnTo>
                    <a:lnTo>
                      <a:pt x="3564" y="2274"/>
                    </a:lnTo>
                    <a:lnTo>
                      <a:pt x="3648" y="2274"/>
                    </a:lnTo>
                    <a:lnTo>
                      <a:pt x="3648" y="2274"/>
                    </a:lnTo>
                    <a:lnTo>
                      <a:pt x="3564" y="2274"/>
                    </a:lnTo>
                    <a:lnTo>
                      <a:pt x="3480" y="2274"/>
                    </a:lnTo>
                    <a:lnTo>
                      <a:pt x="3402" y="2274"/>
                    </a:lnTo>
                    <a:lnTo>
                      <a:pt x="3318" y="2274"/>
                    </a:lnTo>
                    <a:lnTo>
                      <a:pt x="3234" y="2274"/>
                    </a:lnTo>
                    <a:lnTo>
                      <a:pt x="3150" y="2274"/>
                    </a:lnTo>
                    <a:lnTo>
                      <a:pt x="3066" y="2274"/>
                    </a:lnTo>
                    <a:lnTo>
                      <a:pt x="2982" y="2274"/>
                    </a:lnTo>
                    <a:lnTo>
                      <a:pt x="2904" y="2274"/>
                    </a:lnTo>
                    <a:lnTo>
                      <a:pt x="2820" y="2274"/>
                    </a:lnTo>
                    <a:lnTo>
                      <a:pt x="2736" y="2268"/>
                    </a:lnTo>
                    <a:lnTo>
                      <a:pt x="2652" y="2268"/>
                    </a:lnTo>
                    <a:lnTo>
                      <a:pt x="2568" y="2268"/>
                    </a:lnTo>
                    <a:lnTo>
                      <a:pt x="2490" y="2268"/>
                    </a:lnTo>
                    <a:lnTo>
                      <a:pt x="2406" y="2268"/>
                    </a:lnTo>
                    <a:lnTo>
                      <a:pt x="2322" y="2262"/>
                    </a:lnTo>
                    <a:lnTo>
                      <a:pt x="2238" y="2256"/>
                    </a:lnTo>
                    <a:lnTo>
                      <a:pt x="2154" y="2250"/>
                    </a:lnTo>
                    <a:lnTo>
                      <a:pt x="2070" y="2238"/>
                    </a:lnTo>
                    <a:lnTo>
                      <a:pt x="1992" y="2226"/>
                    </a:lnTo>
                    <a:lnTo>
                      <a:pt x="1908" y="2202"/>
                    </a:lnTo>
                    <a:lnTo>
                      <a:pt x="1824" y="2184"/>
                    </a:lnTo>
                    <a:lnTo>
                      <a:pt x="1740" y="2172"/>
                    </a:lnTo>
                    <a:lnTo>
                      <a:pt x="1656" y="2142"/>
                    </a:lnTo>
                    <a:lnTo>
                      <a:pt x="1578" y="2082"/>
                    </a:lnTo>
                    <a:lnTo>
                      <a:pt x="1494" y="2028"/>
                    </a:lnTo>
                    <a:lnTo>
                      <a:pt x="1410" y="1968"/>
                    </a:lnTo>
                    <a:lnTo>
                      <a:pt x="1326" y="1884"/>
                    </a:lnTo>
                    <a:lnTo>
                      <a:pt x="1242" y="1818"/>
                    </a:lnTo>
                    <a:lnTo>
                      <a:pt x="1158" y="1722"/>
                    </a:lnTo>
                    <a:lnTo>
                      <a:pt x="1080" y="1632"/>
                    </a:lnTo>
                    <a:lnTo>
                      <a:pt x="996" y="1518"/>
                    </a:lnTo>
                    <a:lnTo>
                      <a:pt x="912" y="1290"/>
                    </a:lnTo>
                    <a:lnTo>
                      <a:pt x="828" y="1098"/>
                    </a:lnTo>
                    <a:lnTo>
                      <a:pt x="744" y="1044"/>
                    </a:lnTo>
                    <a:lnTo>
                      <a:pt x="666" y="1104"/>
                    </a:lnTo>
                    <a:lnTo>
                      <a:pt x="582" y="906"/>
                    </a:lnTo>
                    <a:lnTo>
                      <a:pt x="498" y="336"/>
                    </a:lnTo>
                    <a:lnTo>
                      <a:pt x="414" y="396"/>
                    </a:lnTo>
                    <a:lnTo>
                      <a:pt x="330" y="0"/>
                    </a:lnTo>
                    <a:lnTo>
                      <a:pt x="246" y="96"/>
                    </a:lnTo>
                    <a:lnTo>
                      <a:pt x="168" y="330"/>
                    </a:lnTo>
                    <a:lnTo>
                      <a:pt x="84" y="852"/>
                    </a:lnTo>
                    <a:lnTo>
                      <a:pt x="0" y="18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800360" y="1952640"/>
                <a:ext cx="5790960" cy="3610080"/>
              </a:xfrm>
              <a:custGeom>
                <a:avLst/>
                <a:gdLst/>
                <a:ahLst/>
                <a:rect l="l" t="t" r="r" b="b"/>
                <a:pathLst>
                  <a:path w="3648" h="2274">
                    <a:moveTo>
                      <a:pt x="0" y="1830"/>
                    </a:moveTo>
                    <a:lnTo>
                      <a:pt x="0" y="1830"/>
                    </a:lnTo>
                    <a:lnTo>
                      <a:pt x="84" y="852"/>
                    </a:lnTo>
                    <a:lnTo>
                      <a:pt x="168" y="330"/>
                    </a:lnTo>
                    <a:lnTo>
                      <a:pt x="246" y="96"/>
                    </a:lnTo>
                    <a:lnTo>
                      <a:pt x="330" y="0"/>
                    </a:lnTo>
                    <a:lnTo>
                      <a:pt x="414" y="396"/>
                    </a:lnTo>
                    <a:lnTo>
                      <a:pt x="498" y="270"/>
                    </a:lnTo>
                    <a:lnTo>
                      <a:pt x="582" y="732"/>
                    </a:lnTo>
                    <a:lnTo>
                      <a:pt x="666" y="792"/>
                    </a:lnTo>
                    <a:lnTo>
                      <a:pt x="744" y="684"/>
                    </a:lnTo>
                    <a:lnTo>
                      <a:pt x="828" y="768"/>
                    </a:lnTo>
                    <a:lnTo>
                      <a:pt x="912" y="1044"/>
                    </a:lnTo>
                    <a:lnTo>
                      <a:pt x="996" y="1338"/>
                    </a:lnTo>
                    <a:lnTo>
                      <a:pt x="1080" y="1482"/>
                    </a:lnTo>
                    <a:lnTo>
                      <a:pt x="1158" y="1578"/>
                    </a:lnTo>
                    <a:lnTo>
                      <a:pt x="1242" y="1686"/>
                    </a:lnTo>
                    <a:lnTo>
                      <a:pt x="1326" y="1788"/>
                    </a:lnTo>
                    <a:lnTo>
                      <a:pt x="1410" y="1902"/>
                    </a:lnTo>
                    <a:lnTo>
                      <a:pt x="1494" y="1974"/>
                    </a:lnTo>
                    <a:lnTo>
                      <a:pt x="1578" y="2070"/>
                    </a:lnTo>
                    <a:lnTo>
                      <a:pt x="1656" y="2130"/>
                    </a:lnTo>
                    <a:lnTo>
                      <a:pt x="1740" y="2166"/>
                    </a:lnTo>
                    <a:lnTo>
                      <a:pt x="1824" y="2184"/>
                    </a:lnTo>
                    <a:lnTo>
                      <a:pt x="1908" y="2202"/>
                    </a:lnTo>
                    <a:lnTo>
                      <a:pt x="1992" y="2220"/>
                    </a:lnTo>
                    <a:lnTo>
                      <a:pt x="2070" y="2238"/>
                    </a:lnTo>
                    <a:lnTo>
                      <a:pt x="2154" y="2250"/>
                    </a:lnTo>
                    <a:lnTo>
                      <a:pt x="2238" y="2256"/>
                    </a:lnTo>
                    <a:lnTo>
                      <a:pt x="2322" y="2262"/>
                    </a:lnTo>
                    <a:lnTo>
                      <a:pt x="2406" y="2268"/>
                    </a:lnTo>
                    <a:lnTo>
                      <a:pt x="2490" y="2268"/>
                    </a:lnTo>
                    <a:lnTo>
                      <a:pt x="2568" y="2268"/>
                    </a:lnTo>
                    <a:lnTo>
                      <a:pt x="2652" y="2268"/>
                    </a:lnTo>
                    <a:lnTo>
                      <a:pt x="2736" y="2268"/>
                    </a:lnTo>
                    <a:lnTo>
                      <a:pt x="2820" y="2274"/>
                    </a:lnTo>
                    <a:lnTo>
                      <a:pt x="2904" y="2274"/>
                    </a:lnTo>
                    <a:lnTo>
                      <a:pt x="2982" y="2274"/>
                    </a:lnTo>
                    <a:lnTo>
                      <a:pt x="3066" y="2274"/>
                    </a:lnTo>
                    <a:lnTo>
                      <a:pt x="3150" y="2274"/>
                    </a:lnTo>
                    <a:lnTo>
                      <a:pt x="3234" y="2274"/>
                    </a:lnTo>
                    <a:lnTo>
                      <a:pt x="3318" y="2274"/>
                    </a:lnTo>
                    <a:lnTo>
                      <a:pt x="3402" y="2274"/>
                    </a:lnTo>
                    <a:lnTo>
                      <a:pt x="3480" y="2274"/>
                    </a:lnTo>
                    <a:lnTo>
                      <a:pt x="3564" y="2274"/>
                    </a:lnTo>
                    <a:lnTo>
                      <a:pt x="3648" y="2274"/>
                    </a:lnTo>
                    <a:lnTo>
                      <a:pt x="3648" y="2274"/>
                    </a:lnTo>
                    <a:lnTo>
                      <a:pt x="3564" y="2274"/>
                    </a:lnTo>
                    <a:lnTo>
                      <a:pt x="3480" y="2274"/>
                    </a:lnTo>
                    <a:lnTo>
                      <a:pt x="3402" y="2274"/>
                    </a:lnTo>
                    <a:lnTo>
                      <a:pt x="3318" y="2274"/>
                    </a:lnTo>
                    <a:lnTo>
                      <a:pt x="3234" y="2274"/>
                    </a:lnTo>
                    <a:lnTo>
                      <a:pt x="3150" y="2274"/>
                    </a:lnTo>
                    <a:lnTo>
                      <a:pt x="3066" y="2274"/>
                    </a:lnTo>
                    <a:lnTo>
                      <a:pt x="2982" y="2274"/>
                    </a:lnTo>
                    <a:lnTo>
                      <a:pt x="2904" y="2274"/>
                    </a:lnTo>
                    <a:lnTo>
                      <a:pt x="2820" y="2274"/>
                    </a:lnTo>
                    <a:lnTo>
                      <a:pt x="2736" y="2268"/>
                    </a:lnTo>
                    <a:lnTo>
                      <a:pt x="2652" y="2268"/>
                    </a:lnTo>
                    <a:lnTo>
                      <a:pt x="2568" y="2268"/>
                    </a:lnTo>
                    <a:lnTo>
                      <a:pt x="2490" y="2268"/>
                    </a:lnTo>
                    <a:lnTo>
                      <a:pt x="2406" y="2268"/>
                    </a:lnTo>
                    <a:lnTo>
                      <a:pt x="2322" y="2262"/>
                    </a:lnTo>
                    <a:lnTo>
                      <a:pt x="2238" y="2256"/>
                    </a:lnTo>
                    <a:lnTo>
                      <a:pt x="2154" y="2250"/>
                    </a:lnTo>
                    <a:lnTo>
                      <a:pt x="2070" y="2238"/>
                    </a:lnTo>
                    <a:lnTo>
                      <a:pt x="1992" y="2220"/>
                    </a:lnTo>
                    <a:lnTo>
                      <a:pt x="1908" y="2202"/>
                    </a:lnTo>
                    <a:lnTo>
                      <a:pt x="1824" y="2184"/>
                    </a:lnTo>
                    <a:lnTo>
                      <a:pt x="1740" y="2172"/>
                    </a:lnTo>
                    <a:lnTo>
                      <a:pt x="1656" y="2136"/>
                    </a:lnTo>
                    <a:lnTo>
                      <a:pt x="1578" y="2076"/>
                    </a:lnTo>
                    <a:lnTo>
                      <a:pt x="1494" y="1986"/>
                    </a:lnTo>
                    <a:lnTo>
                      <a:pt x="1410" y="1938"/>
                    </a:lnTo>
                    <a:lnTo>
                      <a:pt x="1326" y="1860"/>
                    </a:lnTo>
                    <a:lnTo>
                      <a:pt x="1242" y="1776"/>
                    </a:lnTo>
                    <a:lnTo>
                      <a:pt x="1158" y="1680"/>
                    </a:lnTo>
                    <a:lnTo>
                      <a:pt x="1080" y="1590"/>
                    </a:lnTo>
                    <a:lnTo>
                      <a:pt x="996" y="1470"/>
                    </a:lnTo>
                    <a:lnTo>
                      <a:pt x="912" y="1236"/>
                    </a:lnTo>
                    <a:lnTo>
                      <a:pt x="828" y="1014"/>
                    </a:lnTo>
                    <a:lnTo>
                      <a:pt x="744" y="960"/>
                    </a:lnTo>
                    <a:lnTo>
                      <a:pt x="666" y="1038"/>
                    </a:lnTo>
                    <a:lnTo>
                      <a:pt x="582" y="804"/>
                    </a:lnTo>
                    <a:lnTo>
                      <a:pt x="498" y="270"/>
                    </a:lnTo>
                    <a:lnTo>
                      <a:pt x="414" y="396"/>
                    </a:lnTo>
                    <a:lnTo>
                      <a:pt x="330" y="0"/>
                    </a:lnTo>
                    <a:lnTo>
                      <a:pt x="246" y="96"/>
                    </a:lnTo>
                    <a:lnTo>
                      <a:pt x="168" y="330"/>
                    </a:lnTo>
                    <a:lnTo>
                      <a:pt x="84" y="852"/>
                    </a:lnTo>
                    <a:lnTo>
                      <a:pt x="0" y="18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800360" y="1952640"/>
                <a:ext cx="5790960" cy="3610080"/>
              </a:xfrm>
              <a:custGeom>
                <a:avLst/>
                <a:gdLst/>
                <a:ahLst/>
                <a:rect l="l" t="t" r="r" b="b"/>
                <a:pathLst>
                  <a:path w="3648" h="2274">
                    <a:moveTo>
                      <a:pt x="0" y="1830"/>
                    </a:moveTo>
                    <a:lnTo>
                      <a:pt x="0" y="1830"/>
                    </a:lnTo>
                    <a:lnTo>
                      <a:pt x="84" y="852"/>
                    </a:lnTo>
                    <a:lnTo>
                      <a:pt x="168" y="330"/>
                    </a:lnTo>
                    <a:lnTo>
                      <a:pt x="246" y="96"/>
                    </a:lnTo>
                    <a:lnTo>
                      <a:pt x="330" y="0"/>
                    </a:lnTo>
                    <a:lnTo>
                      <a:pt x="414" y="396"/>
                    </a:lnTo>
                    <a:lnTo>
                      <a:pt x="498" y="270"/>
                    </a:lnTo>
                    <a:lnTo>
                      <a:pt x="582" y="732"/>
                    </a:lnTo>
                    <a:lnTo>
                      <a:pt x="666" y="732"/>
                    </a:lnTo>
                    <a:lnTo>
                      <a:pt x="744" y="564"/>
                    </a:lnTo>
                    <a:lnTo>
                      <a:pt x="828" y="636"/>
                    </a:lnTo>
                    <a:lnTo>
                      <a:pt x="912" y="918"/>
                    </a:lnTo>
                    <a:lnTo>
                      <a:pt x="996" y="1242"/>
                    </a:lnTo>
                    <a:lnTo>
                      <a:pt x="1080" y="1410"/>
                    </a:lnTo>
                    <a:lnTo>
                      <a:pt x="1158" y="1530"/>
                    </a:lnTo>
                    <a:lnTo>
                      <a:pt x="1242" y="1650"/>
                    </a:lnTo>
                    <a:lnTo>
                      <a:pt x="1326" y="1758"/>
                    </a:lnTo>
                    <a:lnTo>
                      <a:pt x="1410" y="1890"/>
                    </a:lnTo>
                    <a:lnTo>
                      <a:pt x="1494" y="1956"/>
                    </a:lnTo>
                    <a:lnTo>
                      <a:pt x="1578" y="2052"/>
                    </a:lnTo>
                    <a:lnTo>
                      <a:pt x="1656" y="2118"/>
                    </a:lnTo>
                    <a:lnTo>
                      <a:pt x="1740" y="2160"/>
                    </a:lnTo>
                    <a:lnTo>
                      <a:pt x="1824" y="2178"/>
                    </a:lnTo>
                    <a:lnTo>
                      <a:pt x="1908" y="2202"/>
                    </a:lnTo>
                    <a:lnTo>
                      <a:pt x="1992" y="2220"/>
                    </a:lnTo>
                    <a:lnTo>
                      <a:pt x="2070" y="2238"/>
                    </a:lnTo>
                    <a:lnTo>
                      <a:pt x="2154" y="2250"/>
                    </a:lnTo>
                    <a:lnTo>
                      <a:pt x="2238" y="2256"/>
                    </a:lnTo>
                    <a:lnTo>
                      <a:pt x="2322" y="2262"/>
                    </a:lnTo>
                    <a:lnTo>
                      <a:pt x="2406" y="2268"/>
                    </a:lnTo>
                    <a:lnTo>
                      <a:pt x="2490" y="2268"/>
                    </a:lnTo>
                    <a:lnTo>
                      <a:pt x="2568" y="2268"/>
                    </a:lnTo>
                    <a:lnTo>
                      <a:pt x="2652" y="2268"/>
                    </a:lnTo>
                    <a:lnTo>
                      <a:pt x="2736" y="2268"/>
                    </a:lnTo>
                    <a:lnTo>
                      <a:pt x="2820" y="2274"/>
                    </a:lnTo>
                    <a:lnTo>
                      <a:pt x="2904" y="2274"/>
                    </a:lnTo>
                    <a:lnTo>
                      <a:pt x="2982" y="2274"/>
                    </a:lnTo>
                    <a:lnTo>
                      <a:pt x="3066" y="2274"/>
                    </a:lnTo>
                    <a:lnTo>
                      <a:pt x="3150" y="2274"/>
                    </a:lnTo>
                    <a:lnTo>
                      <a:pt x="3234" y="2274"/>
                    </a:lnTo>
                    <a:lnTo>
                      <a:pt x="3318" y="2274"/>
                    </a:lnTo>
                    <a:lnTo>
                      <a:pt x="3402" y="2274"/>
                    </a:lnTo>
                    <a:lnTo>
                      <a:pt x="3480" y="2274"/>
                    </a:lnTo>
                    <a:lnTo>
                      <a:pt x="3564" y="2274"/>
                    </a:lnTo>
                    <a:lnTo>
                      <a:pt x="3648" y="2274"/>
                    </a:lnTo>
                    <a:lnTo>
                      <a:pt x="3648" y="2274"/>
                    </a:lnTo>
                    <a:lnTo>
                      <a:pt x="3564" y="2274"/>
                    </a:lnTo>
                    <a:lnTo>
                      <a:pt x="3480" y="2274"/>
                    </a:lnTo>
                    <a:lnTo>
                      <a:pt x="3402" y="2274"/>
                    </a:lnTo>
                    <a:lnTo>
                      <a:pt x="3318" y="2274"/>
                    </a:lnTo>
                    <a:lnTo>
                      <a:pt x="3234" y="2274"/>
                    </a:lnTo>
                    <a:lnTo>
                      <a:pt x="3150" y="2274"/>
                    </a:lnTo>
                    <a:lnTo>
                      <a:pt x="3066" y="2274"/>
                    </a:lnTo>
                    <a:lnTo>
                      <a:pt x="2982" y="2274"/>
                    </a:lnTo>
                    <a:lnTo>
                      <a:pt x="2904" y="2274"/>
                    </a:lnTo>
                    <a:lnTo>
                      <a:pt x="2820" y="2274"/>
                    </a:lnTo>
                    <a:lnTo>
                      <a:pt x="2736" y="2268"/>
                    </a:lnTo>
                    <a:lnTo>
                      <a:pt x="2652" y="2268"/>
                    </a:lnTo>
                    <a:lnTo>
                      <a:pt x="2568" y="2268"/>
                    </a:lnTo>
                    <a:lnTo>
                      <a:pt x="2490" y="2268"/>
                    </a:lnTo>
                    <a:lnTo>
                      <a:pt x="2406" y="2268"/>
                    </a:lnTo>
                    <a:lnTo>
                      <a:pt x="2322" y="2262"/>
                    </a:lnTo>
                    <a:lnTo>
                      <a:pt x="2238" y="2256"/>
                    </a:lnTo>
                    <a:lnTo>
                      <a:pt x="2154" y="2250"/>
                    </a:lnTo>
                    <a:lnTo>
                      <a:pt x="2070" y="2238"/>
                    </a:lnTo>
                    <a:lnTo>
                      <a:pt x="1992" y="2220"/>
                    </a:lnTo>
                    <a:lnTo>
                      <a:pt x="1908" y="2202"/>
                    </a:lnTo>
                    <a:lnTo>
                      <a:pt x="1824" y="2184"/>
                    </a:lnTo>
                    <a:lnTo>
                      <a:pt x="1740" y="2166"/>
                    </a:lnTo>
                    <a:lnTo>
                      <a:pt x="1656" y="2130"/>
                    </a:lnTo>
                    <a:lnTo>
                      <a:pt x="1578" y="2070"/>
                    </a:lnTo>
                    <a:lnTo>
                      <a:pt x="1494" y="1974"/>
                    </a:lnTo>
                    <a:lnTo>
                      <a:pt x="1410" y="1902"/>
                    </a:lnTo>
                    <a:lnTo>
                      <a:pt x="1326" y="1788"/>
                    </a:lnTo>
                    <a:lnTo>
                      <a:pt x="1242" y="1686"/>
                    </a:lnTo>
                    <a:lnTo>
                      <a:pt x="1158" y="1578"/>
                    </a:lnTo>
                    <a:lnTo>
                      <a:pt x="1080" y="1482"/>
                    </a:lnTo>
                    <a:lnTo>
                      <a:pt x="996" y="1338"/>
                    </a:lnTo>
                    <a:lnTo>
                      <a:pt x="912" y="1044"/>
                    </a:lnTo>
                    <a:lnTo>
                      <a:pt x="828" y="768"/>
                    </a:lnTo>
                    <a:lnTo>
                      <a:pt x="744" y="684"/>
                    </a:lnTo>
                    <a:lnTo>
                      <a:pt x="666" y="792"/>
                    </a:lnTo>
                    <a:lnTo>
                      <a:pt x="582" y="732"/>
                    </a:lnTo>
                    <a:lnTo>
                      <a:pt x="498" y="270"/>
                    </a:lnTo>
                    <a:lnTo>
                      <a:pt x="414" y="396"/>
                    </a:lnTo>
                    <a:lnTo>
                      <a:pt x="330" y="0"/>
                    </a:lnTo>
                    <a:lnTo>
                      <a:pt x="246" y="96"/>
                    </a:lnTo>
                    <a:lnTo>
                      <a:pt x="168" y="330"/>
                    </a:lnTo>
                    <a:lnTo>
                      <a:pt x="84" y="852"/>
                    </a:lnTo>
                    <a:lnTo>
                      <a:pt x="0" y="18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800360" y="1952640"/>
                <a:ext cx="5790960" cy="3610080"/>
              </a:xfrm>
              <a:custGeom>
                <a:avLst/>
                <a:gdLst/>
                <a:ahLst/>
                <a:rect l="l" t="t" r="r" b="b"/>
                <a:pathLst>
                  <a:path w="3648" h="2274">
                    <a:moveTo>
                      <a:pt x="0" y="1830"/>
                    </a:moveTo>
                    <a:lnTo>
                      <a:pt x="0" y="1830"/>
                    </a:lnTo>
                    <a:lnTo>
                      <a:pt x="84" y="852"/>
                    </a:lnTo>
                    <a:lnTo>
                      <a:pt x="168" y="330"/>
                    </a:lnTo>
                    <a:lnTo>
                      <a:pt x="246" y="96"/>
                    </a:lnTo>
                    <a:lnTo>
                      <a:pt x="330" y="0"/>
                    </a:lnTo>
                    <a:lnTo>
                      <a:pt x="414" y="396"/>
                    </a:lnTo>
                    <a:lnTo>
                      <a:pt x="498" y="270"/>
                    </a:lnTo>
                    <a:lnTo>
                      <a:pt x="582" y="732"/>
                    </a:lnTo>
                    <a:lnTo>
                      <a:pt x="666" y="732"/>
                    </a:lnTo>
                    <a:lnTo>
                      <a:pt x="744" y="450"/>
                    </a:lnTo>
                    <a:lnTo>
                      <a:pt x="828" y="396"/>
                    </a:lnTo>
                    <a:lnTo>
                      <a:pt x="912" y="690"/>
                    </a:lnTo>
                    <a:lnTo>
                      <a:pt x="996" y="1074"/>
                    </a:lnTo>
                    <a:lnTo>
                      <a:pt x="1080" y="1302"/>
                    </a:lnTo>
                    <a:lnTo>
                      <a:pt x="1158" y="1452"/>
                    </a:lnTo>
                    <a:lnTo>
                      <a:pt x="1242" y="1596"/>
                    </a:lnTo>
                    <a:lnTo>
                      <a:pt x="1326" y="1734"/>
                    </a:lnTo>
                    <a:lnTo>
                      <a:pt x="1410" y="1866"/>
                    </a:lnTo>
                    <a:lnTo>
                      <a:pt x="1494" y="1938"/>
                    </a:lnTo>
                    <a:lnTo>
                      <a:pt x="1578" y="2040"/>
                    </a:lnTo>
                    <a:lnTo>
                      <a:pt x="1656" y="2106"/>
                    </a:lnTo>
                    <a:lnTo>
                      <a:pt x="1740" y="2148"/>
                    </a:lnTo>
                    <a:lnTo>
                      <a:pt x="1824" y="2172"/>
                    </a:lnTo>
                    <a:lnTo>
                      <a:pt x="1908" y="2196"/>
                    </a:lnTo>
                    <a:lnTo>
                      <a:pt x="1992" y="2214"/>
                    </a:lnTo>
                    <a:lnTo>
                      <a:pt x="2070" y="2232"/>
                    </a:lnTo>
                    <a:lnTo>
                      <a:pt x="2154" y="2244"/>
                    </a:lnTo>
                    <a:lnTo>
                      <a:pt x="2238" y="2250"/>
                    </a:lnTo>
                    <a:lnTo>
                      <a:pt x="2322" y="2256"/>
                    </a:lnTo>
                    <a:lnTo>
                      <a:pt x="2406" y="2262"/>
                    </a:lnTo>
                    <a:lnTo>
                      <a:pt x="2490" y="2268"/>
                    </a:lnTo>
                    <a:lnTo>
                      <a:pt x="2568" y="2268"/>
                    </a:lnTo>
                    <a:lnTo>
                      <a:pt x="2652" y="2268"/>
                    </a:lnTo>
                    <a:lnTo>
                      <a:pt x="2736" y="2268"/>
                    </a:lnTo>
                    <a:lnTo>
                      <a:pt x="2820" y="2274"/>
                    </a:lnTo>
                    <a:lnTo>
                      <a:pt x="2904" y="2274"/>
                    </a:lnTo>
                    <a:lnTo>
                      <a:pt x="2982" y="2274"/>
                    </a:lnTo>
                    <a:lnTo>
                      <a:pt x="3066" y="2274"/>
                    </a:lnTo>
                    <a:lnTo>
                      <a:pt x="3150" y="2274"/>
                    </a:lnTo>
                    <a:lnTo>
                      <a:pt x="3234" y="2274"/>
                    </a:lnTo>
                    <a:lnTo>
                      <a:pt x="3318" y="2274"/>
                    </a:lnTo>
                    <a:lnTo>
                      <a:pt x="3402" y="2274"/>
                    </a:lnTo>
                    <a:lnTo>
                      <a:pt x="3480" y="2274"/>
                    </a:lnTo>
                    <a:lnTo>
                      <a:pt x="3564" y="2274"/>
                    </a:lnTo>
                    <a:lnTo>
                      <a:pt x="3648" y="2274"/>
                    </a:lnTo>
                    <a:lnTo>
                      <a:pt x="3648" y="2274"/>
                    </a:lnTo>
                    <a:lnTo>
                      <a:pt x="3564" y="2274"/>
                    </a:lnTo>
                    <a:lnTo>
                      <a:pt x="3480" y="2274"/>
                    </a:lnTo>
                    <a:lnTo>
                      <a:pt x="3402" y="2274"/>
                    </a:lnTo>
                    <a:lnTo>
                      <a:pt x="3318" y="2274"/>
                    </a:lnTo>
                    <a:lnTo>
                      <a:pt x="3234" y="2274"/>
                    </a:lnTo>
                    <a:lnTo>
                      <a:pt x="3150" y="2274"/>
                    </a:lnTo>
                    <a:lnTo>
                      <a:pt x="3066" y="2274"/>
                    </a:lnTo>
                    <a:lnTo>
                      <a:pt x="2982" y="2274"/>
                    </a:lnTo>
                    <a:lnTo>
                      <a:pt x="2904" y="2274"/>
                    </a:lnTo>
                    <a:lnTo>
                      <a:pt x="2820" y="2274"/>
                    </a:lnTo>
                    <a:lnTo>
                      <a:pt x="2736" y="2268"/>
                    </a:lnTo>
                    <a:lnTo>
                      <a:pt x="2652" y="2268"/>
                    </a:lnTo>
                    <a:lnTo>
                      <a:pt x="2568" y="2268"/>
                    </a:lnTo>
                    <a:lnTo>
                      <a:pt x="2490" y="2268"/>
                    </a:lnTo>
                    <a:lnTo>
                      <a:pt x="2406" y="2268"/>
                    </a:lnTo>
                    <a:lnTo>
                      <a:pt x="2322" y="2262"/>
                    </a:lnTo>
                    <a:lnTo>
                      <a:pt x="2238" y="2256"/>
                    </a:lnTo>
                    <a:lnTo>
                      <a:pt x="2154" y="2250"/>
                    </a:lnTo>
                    <a:lnTo>
                      <a:pt x="2070" y="2238"/>
                    </a:lnTo>
                    <a:lnTo>
                      <a:pt x="1992" y="2220"/>
                    </a:lnTo>
                    <a:lnTo>
                      <a:pt x="1908" y="2202"/>
                    </a:lnTo>
                    <a:lnTo>
                      <a:pt x="1824" y="2178"/>
                    </a:lnTo>
                    <a:lnTo>
                      <a:pt x="1740" y="2160"/>
                    </a:lnTo>
                    <a:lnTo>
                      <a:pt x="1656" y="2118"/>
                    </a:lnTo>
                    <a:lnTo>
                      <a:pt x="1578" y="2052"/>
                    </a:lnTo>
                    <a:lnTo>
                      <a:pt x="1494" y="1956"/>
                    </a:lnTo>
                    <a:lnTo>
                      <a:pt x="1410" y="1890"/>
                    </a:lnTo>
                    <a:lnTo>
                      <a:pt x="1326" y="1758"/>
                    </a:lnTo>
                    <a:lnTo>
                      <a:pt x="1242" y="1650"/>
                    </a:lnTo>
                    <a:lnTo>
                      <a:pt x="1158" y="1530"/>
                    </a:lnTo>
                    <a:lnTo>
                      <a:pt x="1080" y="1410"/>
                    </a:lnTo>
                    <a:lnTo>
                      <a:pt x="996" y="1242"/>
                    </a:lnTo>
                    <a:lnTo>
                      <a:pt x="912" y="918"/>
                    </a:lnTo>
                    <a:lnTo>
                      <a:pt x="828" y="636"/>
                    </a:lnTo>
                    <a:lnTo>
                      <a:pt x="744" y="564"/>
                    </a:lnTo>
                    <a:lnTo>
                      <a:pt x="666" y="732"/>
                    </a:lnTo>
                    <a:lnTo>
                      <a:pt x="582" y="732"/>
                    </a:lnTo>
                    <a:lnTo>
                      <a:pt x="498" y="270"/>
                    </a:lnTo>
                    <a:lnTo>
                      <a:pt x="414" y="396"/>
                    </a:lnTo>
                    <a:lnTo>
                      <a:pt x="330" y="0"/>
                    </a:lnTo>
                    <a:lnTo>
                      <a:pt x="246" y="96"/>
                    </a:lnTo>
                    <a:lnTo>
                      <a:pt x="168" y="330"/>
                    </a:lnTo>
                    <a:lnTo>
                      <a:pt x="84" y="852"/>
                    </a:lnTo>
                    <a:lnTo>
                      <a:pt x="0" y="18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800360" y="1952640"/>
                <a:ext cx="5790960" cy="3610080"/>
              </a:xfrm>
              <a:custGeom>
                <a:avLst/>
                <a:gdLst/>
                <a:ahLst/>
                <a:rect l="l" t="t" r="r" b="b"/>
                <a:pathLst>
                  <a:path w="3648" h="2274">
                    <a:moveTo>
                      <a:pt x="0" y="1830"/>
                    </a:moveTo>
                    <a:lnTo>
                      <a:pt x="0" y="1830"/>
                    </a:lnTo>
                    <a:lnTo>
                      <a:pt x="84" y="852"/>
                    </a:lnTo>
                    <a:lnTo>
                      <a:pt x="168" y="330"/>
                    </a:lnTo>
                    <a:lnTo>
                      <a:pt x="246" y="96"/>
                    </a:lnTo>
                    <a:lnTo>
                      <a:pt x="330" y="0"/>
                    </a:lnTo>
                    <a:lnTo>
                      <a:pt x="414" y="396"/>
                    </a:lnTo>
                    <a:lnTo>
                      <a:pt x="498" y="270"/>
                    </a:lnTo>
                    <a:lnTo>
                      <a:pt x="582" y="732"/>
                    </a:lnTo>
                    <a:lnTo>
                      <a:pt x="666" y="732"/>
                    </a:lnTo>
                    <a:lnTo>
                      <a:pt x="744" y="450"/>
                    </a:lnTo>
                    <a:lnTo>
                      <a:pt x="828" y="312"/>
                    </a:lnTo>
                    <a:lnTo>
                      <a:pt x="912" y="546"/>
                    </a:lnTo>
                    <a:lnTo>
                      <a:pt x="996" y="960"/>
                    </a:lnTo>
                    <a:lnTo>
                      <a:pt x="1080" y="1218"/>
                    </a:lnTo>
                    <a:lnTo>
                      <a:pt x="1158" y="1380"/>
                    </a:lnTo>
                    <a:lnTo>
                      <a:pt x="1242" y="1542"/>
                    </a:lnTo>
                    <a:lnTo>
                      <a:pt x="1326" y="1692"/>
                    </a:lnTo>
                    <a:lnTo>
                      <a:pt x="1410" y="1836"/>
                    </a:lnTo>
                    <a:lnTo>
                      <a:pt x="1494" y="1908"/>
                    </a:lnTo>
                    <a:lnTo>
                      <a:pt x="1578" y="2016"/>
                    </a:lnTo>
                    <a:lnTo>
                      <a:pt x="1656" y="2076"/>
                    </a:lnTo>
                    <a:lnTo>
                      <a:pt x="1740" y="2118"/>
                    </a:lnTo>
                    <a:lnTo>
                      <a:pt x="1824" y="2154"/>
                    </a:lnTo>
                    <a:lnTo>
                      <a:pt x="1908" y="2184"/>
                    </a:lnTo>
                    <a:lnTo>
                      <a:pt x="1992" y="2208"/>
                    </a:lnTo>
                    <a:lnTo>
                      <a:pt x="2070" y="2226"/>
                    </a:lnTo>
                    <a:lnTo>
                      <a:pt x="2154" y="2238"/>
                    </a:lnTo>
                    <a:lnTo>
                      <a:pt x="2238" y="2250"/>
                    </a:lnTo>
                    <a:lnTo>
                      <a:pt x="2322" y="2256"/>
                    </a:lnTo>
                    <a:lnTo>
                      <a:pt x="2406" y="2262"/>
                    </a:lnTo>
                    <a:lnTo>
                      <a:pt x="2490" y="2268"/>
                    </a:lnTo>
                    <a:lnTo>
                      <a:pt x="2568" y="2268"/>
                    </a:lnTo>
                    <a:lnTo>
                      <a:pt x="2652" y="2268"/>
                    </a:lnTo>
                    <a:lnTo>
                      <a:pt x="2736" y="2268"/>
                    </a:lnTo>
                    <a:lnTo>
                      <a:pt x="2820" y="2274"/>
                    </a:lnTo>
                    <a:lnTo>
                      <a:pt x="2904" y="2274"/>
                    </a:lnTo>
                    <a:lnTo>
                      <a:pt x="2982" y="2274"/>
                    </a:lnTo>
                    <a:lnTo>
                      <a:pt x="3066" y="2274"/>
                    </a:lnTo>
                    <a:lnTo>
                      <a:pt x="3150" y="2274"/>
                    </a:lnTo>
                    <a:lnTo>
                      <a:pt x="3234" y="2274"/>
                    </a:lnTo>
                    <a:lnTo>
                      <a:pt x="3318" y="2274"/>
                    </a:lnTo>
                    <a:lnTo>
                      <a:pt x="3402" y="2274"/>
                    </a:lnTo>
                    <a:lnTo>
                      <a:pt x="3480" y="2274"/>
                    </a:lnTo>
                    <a:lnTo>
                      <a:pt x="3564" y="2274"/>
                    </a:lnTo>
                    <a:lnTo>
                      <a:pt x="3648" y="2274"/>
                    </a:lnTo>
                    <a:lnTo>
                      <a:pt x="3648" y="2274"/>
                    </a:lnTo>
                    <a:lnTo>
                      <a:pt x="3564" y="2274"/>
                    </a:lnTo>
                    <a:lnTo>
                      <a:pt x="3480" y="2274"/>
                    </a:lnTo>
                    <a:lnTo>
                      <a:pt x="3402" y="2274"/>
                    </a:lnTo>
                    <a:lnTo>
                      <a:pt x="3318" y="2274"/>
                    </a:lnTo>
                    <a:lnTo>
                      <a:pt x="3234" y="2274"/>
                    </a:lnTo>
                    <a:lnTo>
                      <a:pt x="3150" y="2274"/>
                    </a:lnTo>
                    <a:lnTo>
                      <a:pt x="3066" y="2274"/>
                    </a:lnTo>
                    <a:lnTo>
                      <a:pt x="2982" y="2274"/>
                    </a:lnTo>
                    <a:lnTo>
                      <a:pt x="2904" y="2274"/>
                    </a:lnTo>
                    <a:lnTo>
                      <a:pt x="2820" y="2274"/>
                    </a:lnTo>
                    <a:lnTo>
                      <a:pt x="2736" y="2268"/>
                    </a:lnTo>
                    <a:lnTo>
                      <a:pt x="2652" y="2268"/>
                    </a:lnTo>
                    <a:lnTo>
                      <a:pt x="2568" y="2268"/>
                    </a:lnTo>
                    <a:lnTo>
                      <a:pt x="2490" y="2268"/>
                    </a:lnTo>
                    <a:lnTo>
                      <a:pt x="2406" y="2262"/>
                    </a:lnTo>
                    <a:lnTo>
                      <a:pt x="2322" y="2256"/>
                    </a:lnTo>
                    <a:lnTo>
                      <a:pt x="2238" y="2250"/>
                    </a:lnTo>
                    <a:lnTo>
                      <a:pt x="2154" y="2244"/>
                    </a:lnTo>
                    <a:lnTo>
                      <a:pt x="2070" y="2232"/>
                    </a:lnTo>
                    <a:lnTo>
                      <a:pt x="1992" y="2214"/>
                    </a:lnTo>
                    <a:lnTo>
                      <a:pt x="1908" y="2196"/>
                    </a:lnTo>
                    <a:lnTo>
                      <a:pt x="1824" y="2172"/>
                    </a:lnTo>
                    <a:lnTo>
                      <a:pt x="1740" y="2148"/>
                    </a:lnTo>
                    <a:lnTo>
                      <a:pt x="1656" y="2106"/>
                    </a:lnTo>
                    <a:lnTo>
                      <a:pt x="1578" y="2040"/>
                    </a:lnTo>
                    <a:lnTo>
                      <a:pt x="1494" y="1938"/>
                    </a:lnTo>
                    <a:lnTo>
                      <a:pt x="1410" y="1866"/>
                    </a:lnTo>
                    <a:lnTo>
                      <a:pt x="1326" y="1734"/>
                    </a:lnTo>
                    <a:lnTo>
                      <a:pt x="1242" y="1596"/>
                    </a:lnTo>
                    <a:lnTo>
                      <a:pt x="1158" y="1452"/>
                    </a:lnTo>
                    <a:lnTo>
                      <a:pt x="1080" y="1302"/>
                    </a:lnTo>
                    <a:lnTo>
                      <a:pt x="996" y="1074"/>
                    </a:lnTo>
                    <a:lnTo>
                      <a:pt x="912" y="690"/>
                    </a:lnTo>
                    <a:lnTo>
                      <a:pt x="828" y="396"/>
                    </a:lnTo>
                    <a:lnTo>
                      <a:pt x="744" y="450"/>
                    </a:lnTo>
                    <a:lnTo>
                      <a:pt x="666" y="732"/>
                    </a:lnTo>
                    <a:lnTo>
                      <a:pt x="582" y="732"/>
                    </a:lnTo>
                    <a:lnTo>
                      <a:pt x="498" y="270"/>
                    </a:lnTo>
                    <a:lnTo>
                      <a:pt x="414" y="396"/>
                    </a:lnTo>
                    <a:lnTo>
                      <a:pt x="330" y="0"/>
                    </a:lnTo>
                    <a:lnTo>
                      <a:pt x="246" y="96"/>
                    </a:lnTo>
                    <a:lnTo>
                      <a:pt x="168" y="330"/>
                    </a:lnTo>
                    <a:lnTo>
                      <a:pt x="84" y="852"/>
                    </a:lnTo>
                    <a:lnTo>
                      <a:pt x="0" y="18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800360" y="1952640"/>
                <a:ext cx="5790960" cy="3610080"/>
              </a:xfrm>
              <a:custGeom>
                <a:avLst/>
                <a:gdLst/>
                <a:ahLst/>
                <a:rect l="l" t="t" r="r" b="b"/>
                <a:pathLst>
                  <a:path w="3648" h="2274">
                    <a:moveTo>
                      <a:pt x="0" y="1830"/>
                    </a:moveTo>
                    <a:lnTo>
                      <a:pt x="0" y="1830"/>
                    </a:lnTo>
                    <a:lnTo>
                      <a:pt x="84" y="852"/>
                    </a:lnTo>
                    <a:lnTo>
                      <a:pt x="168" y="330"/>
                    </a:lnTo>
                    <a:lnTo>
                      <a:pt x="246" y="96"/>
                    </a:lnTo>
                    <a:lnTo>
                      <a:pt x="330" y="0"/>
                    </a:lnTo>
                    <a:lnTo>
                      <a:pt x="414" y="396"/>
                    </a:lnTo>
                    <a:lnTo>
                      <a:pt x="498" y="270"/>
                    </a:lnTo>
                    <a:lnTo>
                      <a:pt x="582" y="732"/>
                    </a:lnTo>
                    <a:lnTo>
                      <a:pt x="666" y="732"/>
                    </a:lnTo>
                    <a:lnTo>
                      <a:pt x="744" y="450"/>
                    </a:lnTo>
                    <a:lnTo>
                      <a:pt x="828" y="312"/>
                    </a:lnTo>
                    <a:lnTo>
                      <a:pt x="912" y="414"/>
                    </a:lnTo>
                    <a:lnTo>
                      <a:pt x="996" y="690"/>
                    </a:lnTo>
                    <a:lnTo>
                      <a:pt x="1080" y="1014"/>
                    </a:lnTo>
                    <a:lnTo>
                      <a:pt x="1158" y="1248"/>
                    </a:lnTo>
                    <a:lnTo>
                      <a:pt x="1242" y="1476"/>
                    </a:lnTo>
                    <a:lnTo>
                      <a:pt x="1326" y="1644"/>
                    </a:lnTo>
                    <a:lnTo>
                      <a:pt x="1410" y="1806"/>
                    </a:lnTo>
                    <a:lnTo>
                      <a:pt x="1494" y="1878"/>
                    </a:lnTo>
                    <a:lnTo>
                      <a:pt x="1578" y="1998"/>
                    </a:lnTo>
                    <a:lnTo>
                      <a:pt x="1656" y="2070"/>
                    </a:lnTo>
                    <a:lnTo>
                      <a:pt x="1740" y="2112"/>
                    </a:lnTo>
                    <a:lnTo>
                      <a:pt x="1824" y="2148"/>
                    </a:lnTo>
                    <a:lnTo>
                      <a:pt x="1908" y="2184"/>
                    </a:lnTo>
                    <a:lnTo>
                      <a:pt x="1992" y="2208"/>
                    </a:lnTo>
                    <a:lnTo>
                      <a:pt x="2070" y="2226"/>
                    </a:lnTo>
                    <a:lnTo>
                      <a:pt x="2154" y="2238"/>
                    </a:lnTo>
                    <a:lnTo>
                      <a:pt x="2238" y="2250"/>
                    </a:lnTo>
                    <a:lnTo>
                      <a:pt x="2322" y="2256"/>
                    </a:lnTo>
                    <a:lnTo>
                      <a:pt x="2406" y="2262"/>
                    </a:lnTo>
                    <a:lnTo>
                      <a:pt x="2490" y="2268"/>
                    </a:lnTo>
                    <a:lnTo>
                      <a:pt x="2568" y="2268"/>
                    </a:lnTo>
                    <a:lnTo>
                      <a:pt x="2652" y="2268"/>
                    </a:lnTo>
                    <a:lnTo>
                      <a:pt x="2736" y="2268"/>
                    </a:lnTo>
                    <a:lnTo>
                      <a:pt x="2820" y="2274"/>
                    </a:lnTo>
                    <a:lnTo>
                      <a:pt x="2904" y="2274"/>
                    </a:lnTo>
                    <a:lnTo>
                      <a:pt x="2982" y="2274"/>
                    </a:lnTo>
                    <a:lnTo>
                      <a:pt x="3066" y="2274"/>
                    </a:lnTo>
                    <a:lnTo>
                      <a:pt x="3150" y="2274"/>
                    </a:lnTo>
                    <a:lnTo>
                      <a:pt x="3234" y="2274"/>
                    </a:lnTo>
                    <a:lnTo>
                      <a:pt x="3318" y="2274"/>
                    </a:lnTo>
                    <a:lnTo>
                      <a:pt x="3402" y="2274"/>
                    </a:lnTo>
                    <a:lnTo>
                      <a:pt x="3480" y="2274"/>
                    </a:lnTo>
                    <a:lnTo>
                      <a:pt x="3564" y="2274"/>
                    </a:lnTo>
                    <a:lnTo>
                      <a:pt x="3648" y="2274"/>
                    </a:lnTo>
                    <a:lnTo>
                      <a:pt x="3648" y="2274"/>
                    </a:lnTo>
                    <a:lnTo>
                      <a:pt x="3564" y="2274"/>
                    </a:lnTo>
                    <a:lnTo>
                      <a:pt x="3480" y="2274"/>
                    </a:lnTo>
                    <a:lnTo>
                      <a:pt x="3402" y="2274"/>
                    </a:lnTo>
                    <a:lnTo>
                      <a:pt x="3318" y="2274"/>
                    </a:lnTo>
                    <a:lnTo>
                      <a:pt x="3234" y="2274"/>
                    </a:lnTo>
                    <a:lnTo>
                      <a:pt x="3150" y="2274"/>
                    </a:lnTo>
                    <a:lnTo>
                      <a:pt x="3066" y="2274"/>
                    </a:lnTo>
                    <a:lnTo>
                      <a:pt x="2982" y="2274"/>
                    </a:lnTo>
                    <a:lnTo>
                      <a:pt x="2904" y="2274"/>
                    </a:lnTo>
                    <a:lnTo>
                      <a:pt x="2820" y="2274"/>
                    </a:lnTo>
                    <a:lnTo>
                      <a:pt x="2736" y="2268"/>
                    </a:lnTo>
                    <a:lnTo>
                      <a:pt x="2652" y="2268"/>
                    </a:lnTo>
                    <a:lnTo>
                      <a:pt x="2568" y="2268"/>
                    </a:lnTo>
                    <a:lnTo>
                      <a:pt x="2490" y="2268"/>
                    </a:lnTo>
                    <a:lnTo>
                      <a:pt x="2406" y="2262"/>
                    </a:lnTo>
                    <a:lnTo>
                      <a:pt x="2322" y="2256"/>
                    </a:lnTo>
                    <a:lnTo>
                      <a:pt x="2238" y="2250"/>
                    </a:lnTo>
                    <a:lnTo>
                      <a:pt x="2154" y="2238"/>
                    </a:lnTo>
                    <a:lnTo>
                      <a:pt x="2070" y="2226"/>
                    </a:lnTo>
                    <a:lnTo>
                      <a:pt x="1992" y="2208"/>
                    </a:lnTo>
                    <a:lnTo>
                      <a:pt x="1908" y="2184"/>
                    </a:lnTo>
                    <a:lnTo>
                      <a:pt x="1824" y="2154"/>
                    </a:lnTo>
                    <a:lnTo>
                      <a:pt x="1740" y="2118"/>
                    </a:lnTo>
                    <a:lnTo>
                      <a:pt x="1656" y="2076"/>
                    </a:lnTo>
                    <a:lnTo>
                      <a:pt x="1578" y="2016"/>
                    </a:lnTo>
                    <a:lnTo>
                      <a:pt x="1494" y="1908"/>
                    </a:lnTo>
                    <a:lnTo>
                      <a:pt x="1410" y="1836"/>
                    </a:lnTo>
                    <a:lnTo>
                      <a:pt x="1326" y="1692"/>
                    </a:lnTo>
                    <a:lnTo>
                      <a:pt x="1242" y="1542"/>
                    </a:lnTo>
                    <a:lnTo>
                      <a:pt x="1158" y="1380"/>
                    </a:lnTo>
                    <a:lnTo>
                      <a:pt x="1080" y="1218"/>
                    </a:lnTo>
                    <a:lnTo>
                      <a:pt x="996" y="960"/>
                    </a:lnTo>
                    <a:lnTo>
                      <a:pt x="912" y="546"/>
                    </a:lnTo>
                    <a:lnTo>
                      <a:pt x="828" y="312"/>
                    </a:lnTo>
                    <a:lnTo>
                      <a:pt x="744" y="450"/>
                    </a:lnTo>
                    <a:lnTo>
                      <a:pt x="666" y="732"/>
                    </a:lnTo>
                    <a:lnTo>
                      <a:pt x="582" y="732"/>
                    </a:lnTo>
                    <a:lnTo>
                      <a:pt x="498" y="270"/>
                    </a:lnTo>
                    <a:lnTo>
                      <a:pt x="414" y="396"/>
                    </a:lnTo>
                    <a:lnTo>
                      <a:pt x="330" y="0"/>
                    </a:lnTo>
                    <a:lnTo>
                      <a:pt x="246" y="96"/>
                    </a:lnTo>
                    <a:lnTo>
                      <a:pt x="168" y="330"/>
                    </a:lnTo>
                    <a:lnTo>
                      <a:pt x="84" y="852"/>
                    </a:lnTo>
                    <a:lnTo>
                      <a:pt x="0" y="18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800360" y="1952640"/>
                <a:ext cx="5790960" cy="3610080"/>
              </a:xfrm>
              <a:custGeom>
                <a:avLst/>
                <a:gdLst/>
                <a:ahLst/>
                <a:rect l="l" t="t" r="r" b="b"/>
                <a:pathLst>
                  <a:path w="3648" h="2274">
                    <a:moveTo>
                      <a:pt x="0" y="1830"/>
                    </a:moveTo>
                    <a:lnTo>
                      <a:pt x="0" y="1830"/>
                    </a:lnTo>
                    <a:lnTo>
                      <a:pt x="84" y="852"/>
                    </a:lnTo>
                    <a:lnTo>
                      <a:pt x="168" y="330"/>
                    </a:lnTo>
                    <a:lnTo>
                      <a:pt x="246" y="96"/>
                    </a:lnTo>
                    <a:lnTo>
                      <a:pt x="330" y="0"/>
                    </a:lnTo>
                    <a:lnTo>
                      <a:pt x="414" y="396"/>
                    </a:lnTo>
                    <a:lnTo>
                      <a:pt x="498" y="270"/>
                    </a:lnTo>
                    <a:lnTo>
                      <a:pt x="582" y="732"/>
                    </a:lnTo>
                    <a:lnTo>
                      <a:pt x="666" y="732"/>
                    </a:lnTo>
                    <a:lnTo>
                      <a:pt x="744" y="450"/>
                    </a:lnTo>
                    <a:lnTo>
                      <a:pt x="828" y="312"/>
                    </a:lnTo>
                    <a:lnTo>
                      <a:pt x="912" y="414"/>
                    </a:lnTo>
                    <a:lnTo>
                      <a:pt x="996" y="570"/>
                    </a:lnTo>
                    <a:lnTo>
                      <a:pt x="1080" y="666"/>
                    </a:lnTo>
                    <a:lnTo>
                      <a:pt x="1158" y="1032"/>
                    </a:lnTo>
                    <a:lnTo>
                      <a:pt x="1242" y="1380"/>
                    </a:lnTo>
                    <a:lnTo>
                      <a:pt x="1326" y="1590"/>
                    </a:lnTo>
                    <a:lnTo>
                      <a:pt x="1410" y="1770"/>
                    </a:lnTo>
                    <a:lnTo>
                      <a:pt x="1494" y="1848"/>
                    </a:lnTo>
                    <a:lnTo>
                      <a:pt x="1578" y="1968"/>
                    </a:lnTo>
                    <a:lnTo>
                      <a:pt x="1656" y="2046"/>
                    </a:lnTo>
                    <a:lnTo>
                      <a:pt x="1740" y="2094"/>
                    </a:lnTo>
                    <a:lnTo>
                      <a:pt x="1824" y="2136"/>
                    </a:lnTo>
                    <a:lnTo>
                      <a:pt x="1908" y="2172"/>
                    </a:lnTo>
                    <a:lnTo>
                      <a:pt x="1992" y="2202"/>
                    </a:lnTo>
                    <a:lnTo>
                      <a:pt x="2070" y="2226"/>
                    </a:lnTo>
                    <a:lnTo>
                      <a:pt x="2154" y="2238"/>
                    </a:lnTo>
                    <a:lnTo>
                      <a:pt x="2238" y="2250"/>
                    </a:lnTo>
                    <a:lnTo>
                      <a:pt x="2322" y="2256"/>
                    </a:lnTo>
                    <a:lnTo>
                      <a:pt x="2406" y="2262"/>
                    </a:lnTo>
                    <a:lnTo>
                      <a:pt x="2490" y="2268"/>
                    </a:lnTo>
                    <a:lnTo>
                      <a:pt x="2568" y="2268"/>
                    </a:lnTo>
                    <a:lnTo>
                      <a:pt x="2652" y="2268"/>
                    </a:lnTo>
                    <a:lnTo>
                      <a:pt x="2736" y="2268"/>
                    </a:lnTo>
                    <a:lnTo>
                      <a:pt x="2820" y="2274"/>
                    </a:lnTo>
                    <a:lnTo>
                      <a:pt x="2904" y="2274"/>
                    </a:lnTo>
                    <a:lnTo>
                      <a:pt x="2982" y="2274"/>
                    </a:lnTo>
                    <a:lnTo>
                      <a:pt x="3066" y="2274"/>
                    </a:lnTo>
                    <a:lnTo>
                      <a:pt x="3150" y="2274"/>
                    </a:lnTo>
                    <a:lnTo>
                      <a:pt x="3234" y="2274"/>
                    </a:lnTo>
                    <a:lnTo>
                      <a:pt x="3318" y="2274"/>
                    </a:lnTo>
                    <a:lnTo>
                      <a:pt x="3402" y="2274"/>
                    </a:lnTo>
                    <a:lnTo>
                      <a:pt x="3480" y="2274"/>
                    </a:lnTo>
                    <a:lnTo>
                      <a:pt x="3564" y="2274"/>
                    </a:lnTo>
                    <a:lnTo>
                      <a:pt x="3648" y="2274"/>
                    </a:lnTo>
                    <a:lnTo>
                      <a:pt x="3648" y="2274"/>
                    </a:lnTo>
                    <a:lnTo>
                      <a:pt x="3564" y="2274"/>
                    </a:lnTo>
                    <a:lnTo>
                      <a:pt x="3480" y="2274"/>
                    </a:lnTo>
                    <a:lnTo>
                      <a:pt x="3402" y="2274"/>
                    </a:lnTo>
                    <a:lnTo>
                      <a:pt x="3318" y="2274"/>
                    </a:lnTo>
                    <a:lnTo>
                      <a:pt x="3234" y="2274"/>
                    </a:lnTo>
                    <a:lnTo>
                      <a:pt x="3150" y="2274"/>
                    </a:lnTo>
                    <a:lnTo>
                      <a:pt x="3066" y="2274"/>
                    </a:lnTo>
                    <a:lnTo>
                      <a:pt x="2982" y="2274"/>
                    </a:lnTo>
                    <a:lnTo>
                      <a:pt x="2904" y="2274"/>
                    </a:lnTo>
                    <a:lnTo>
                      <a:pt x="2820" y="2274"/>
                    </a:lnTo>
                    <a:lnTo>
                      <a:pt x="2736" y="2268"/>
                    </a:lnTo>
                    <a:lnTo>
                      <a:pt x="2652" y="2268"/>
                    </a:lnTo>
                    <a:lnTo>
                      <a:pt x="2568" y="2268"/>
                    </a:lnTo>
                    <a:lnTo>
                      <a:pt x="2490" y="2268"/>
                    </a:lnTo>
                    <a:lnTo>
                      <a:pt x="2406" y="2262"/>
                    </a:lnTo>
                    <a:lnTo>
                      <a:pt x="2322" y="2256"/>
                    </a:lnTo>
                    <a:lnTo>
                      <a:pt x="2238" y="2250"/>
                    </a:lnTo>
                    <a:lnTo>
                      <a:pt x="2154" y="2238"/>
                    </a:lnTo>
                    <a:lnTo>
                      <a:pt x="2070" y="2226"/>
                    </a:lnTo>
                    <a:lnTo>
                      <a:pt x="1992" y="2208"/>
                    </a:lnTo>
                    <a:lnTo>
                      <a:pt x="1908" y="2184"/>
                    </a:lnTo>
                    <a:lnTo>
                      <a:pt x="1824" y="2148"/>
                    </a:lnTo>
                    <a:lnTo>
                      <a:pt x="1740" y="2112"/>
                    </a:lnTo>
                    <a:lnTo>
                      <a:pt x="1656" y="2070"/>
                    </a:lnTo>
                    <a:lnTo>
                      <a:pt x="1578" y="1998"/>
                    </a:lnTo>
                    <a:lnTo>
                      <a:pt x="1494" y="1878"/>
                    </a:lnTo>
                    <a:lnTo>
                      <a:pt x="1410" y="1806"/>
                    </a:lnTo>
                    <a:lnTo>
                      <a:pt x="1326" y="1644"/>
                    </a:lnTo>
                    <a:lnTo>
                      <a:pt x="1242" y="1476"/>
                    </a:lnTo>
                    <a:lnTo>
                      <a:pt x="1158" y="1248"/>
                    </a:lnTo>
                    <a:lnTo>
                      <a:pt x="1080" y="1014"/>
                    </a:lnTo>
                    <a:lnTo>
                      <a:pt x="996" y="690"/>
                    </a:lnTo>
                    <a:lnTo>
                      <a:pt x="912" y="414"/>
                    </a:lnTo>
                    <a:lnTo>
                      <a:pt x="828" y="312"/>
                    </a:lnTo>
                    <a:lnTo>
                      <a:pt x="744" y="450"/>
                    </a:lnTo>
                    <a:lnTo>
                      <a:pt x="666" y="732"/>
                    </a:lnTo>
                    <a:lnTo>
                      <a:pt x="582" y="732"/>
                    </a:lnTo>
                    <a:lnTo>
                      <a:pt x="498" y="270"/>
                    </a:lnTo>
                    <a:lnTo>
                      <a:pt x="414" y="396"/>
                    </a:lnTo>
                    <a:lnTo>
                      <a:pt x="330" y="0"/>
                    </a:lnTo>
                    <a:lnTo>
                      <a:pt x="246" y="96"/>
                    </a:lnTo>
                    <a:lnTo>
                      <a:pt x="168" y="330"/>
                    </a:lnTo>
                    <a:lnTo>
                      <a:pt x="84" y="852"/>
                    </a:lnTo>
                    <a:lnTo>
                      <a:pt x="0" y="18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00360" y="1952640"/>
                <a:ext cx="5790960" cy="3610080"/>
              </a:xfrm>
              <a:custGeom>
                <a:avLst/>
                <a:gdLst/>
                <a:ahLst/>
                <a:rect l="l" t="t" r="r" b="b"/>
                <a:pathLst>
                  <a:path w="3648" h="2274">
                    <a:moveTo>
                      <a:pt x="0" y="1830"/>
                    </a:moveTo>
                    <a:lnTo>
                      <a:pt x="0" y="1830"/>
                    </a:lnTo>
                    <a:lnTo>
                      <a:pt x="84" y="852"/>
                    </a:lnTo>
                    <a:lnTo>
                      <a:pt x="168" y="330"/>
                    </a:lnTo>
                    <a:lnTo>
                      <a:pt x="246" y="96"/>
                    </a:lnTo>
                    <a:lnTo>
                      <a:pt x="330" y="0"/>
                    </a:lnTo>
                    <a:lnTo>
                      <a:pt x="414" y="396"/>
                    </a:lnTo>
                    <a:lnTo>
                      <a:pt x="498" y="270"/>
                    </a:lnTo>
                    <a:lnTo>
                      <a:pt x="582" y="732"/>
                    </a:lnTo>
                    <a:lnTo>
                      <a:pt x="666" y="732"/>
                    </a:lnTo>
                    <a:lnTo>
                      <a:pt x="744" y="450"/>
                    </a:lnTo>
                    <a:lnTo>
                      <a:pt x="828" y="312"/>
                    </a:lnTo>
                    <a:lnTo>
                      <a:pt x="912" y="414"/>
                    </a:lnTo>
                    <a:lnTo>
                      <a:pt x="996" y="570"/>
                    </a:lnTo>
                    <a:lnTo>
                      <a:pt x="1080" y="498"/>
                    </a:lnTo>
                    <a:lnTo>
                      <a:pt x="1158" y="762"/>
                    </a:lnTo>
                    <a:lnTo>
                      <a:pt x="1242" y="1152"/>
                    </a:lnTo>
                    <a:lnTo>
                      <a:pt x="1326" y="1380"/>
                    </a:lnTo>
                    <a:lnTo>
                      <a:pt x="1410" y="1578"/>
                    </a:lnTo>
                    <a:lnTo>
                      <a:pt x="1494" y="1668"/>
                    </a:lnTo>
                    <a:lnTo>
                      <a:pt x="1578" y="1824"/>
                    </a:lnTo>
                    <a:lnTo>
                      <a:pt x="1656" y="1944"/>
                    </a:lnTo>
                    <a:lnTo>
                      <a:pt x="1740" y="2016"/>
                    </a:lnTo>
                    <a:lnTo>
                      <a:pt x="1824" y="2100"/>
                    </a:lnTo>
                    <a:lnTo>
                      <a:pt x="1908" y="2148"/>
                    </a:lnTo>
                    <a:lnTo>
                      <a:pt x="1992" y="2184"/>
                    </a:lnTo>
                    <a:lnTo>
                      <a:pt x="2070" y="2208"/>
                    </a:lnTo>
                    <a:lnTo>
                      <a:pt x="2154" y="2226"/>
                    </a:lnTo>
                    <a:lnTo>
                      <a:pt x="2238" y="2238"/>
                    </a:lnTo>
                    <a:lnTo>
                      <a:pt x="2322" y="2250"/>
                    </a:lnTo>
                    <a:lnTo>
                      <a:pt x="2406" y="2262"/>
                    </a:lnTo>
                    <a:lnTo>
                      <a:pt x="2490" y="2262"/>
                    </a:lnTo>
                    <a:lnTo>
                      <a:pt x="2568" y="2268"/>
                    </a:lnTo>
                    <a:lnTo>
                      <a:pt x="2652" y="2268"/>
                    </a:lnTo>
                    <a:lnTo>
                      <a:pt x="2736" y="2268"/>
                    </a:lnTo>
                    <a:lnTo>
                      <a:pt x="2820" y="2268"/>
                    </a:lnTo>
                    <a:lnTo>
                      <a:pt x="2904" y="2274"/>
                    </a:lnTo>
                    <a:lnTo>
                      <a:pt x="2982" y="2274"/>
                    </a:lnTo>
                    <a:lnTo>
                      <a:pt x="3066" y="2274"/>
                    </a:lnTo>
                    <a:lnTo>
                      <a:pt x="3150" y="2274"/>
                    </a:lnTo>
                    <a:lnTo>
                      <a:pt x="3234" y="2274"/>
                    </a:lnTo>
                    <a:lnTo>
                      <a:pt x="3318" y="2274"/>
                    </a:lnTo>
                    <a:lnTo>
                      <a:pt x="3402" y="2274"/>
                    </a:lnTo>
                    <a:lnTo>
                      <a:pt x="3480" y="2274"/>
                    </a:lnTo>
                    <a:lnTo>
                      <a:pt x="3564" y="2274"/>
                    </a:lnTo>
                    <a:lnTo>
                      <a:pt x="3648" y="2274"/>
                    </a:lnTo>
                    <a:lnTo>
                      <a:pt x="3648" y="2274"/>
                    </a:lnTo>
                    <a:lnTo>
                      <a:pt x="3564" y="2274"/>
                    </a:lnTo>
                    <a:lnTo>
                      <a:pt x="3480" y="2274"/>
                    </a:lnTo>
                    <a:lnTo>
                      <a:pt x="3402" y="2274"/>
                    </a:lnTo>
                    <a:lnTo>
                      <a:pt x="3318" y="2274"/>
                    </a:lnTo>
                    <a:lnTo>
                      <a:pt x="3234" y="2274"/>
                    </a:lnTo>
                    <a:lnTo>
                      <a:pt x="3150" y="2274"/>
                    </a:lnTo>
                    <a:lnTo>
                      <a:pt x="3066" y="2274"/>
                    </a:lnTo>
                    <a:lnTo>
                      <a:pt x="2982" y="2274"/>
                    </a:lnTo>
                    <a:lnTo>
                      <a:pt x="2904" y="2274"/>
                    </a:lnTo>
                    <a:lnTo>
                      <a:pt x="2820" y="2274"/>
                    </a:lnTo>
                    <a:lnTo>
                      <a:pt x="2736" y="2268"/>
                    </a:lnTo>
                    <a:lnTo>
                      <a:pt x="2652" y="2268"/>
                    </a:lnTo>
                    <a:lnTo>
                      <a:pt x="2568" y="2268"/>
                    </a:lnTo>
                    <a:lnTo>
                      <a:pt x="2490" y="2268"/>
                    </a:lnTo>
                    <a:lnTo>
                      <a:pt x="2406" y="2262"/>
                    </a:lnTo>
                    <a:lnTo>
                      <a:pt x="2322" y="2256"/>
                    </a:lnTo>
                    <a:lnTo>
                      <a:pt x="2238" y="2250"/>
                    </a:lnTo>
                    <a:lnTo>
                      <a:pt x="2154" y="2238"/>
                    </a:lnTo>
                    <a:lnTo>
                      <a:pt x="2070" y="2226"/>
                    </a:lnTo>
                    <a:lnTo>
                      <a:pt x="1992" y="2202"/>
                    </a:lnTo>
                    <a:lnTo>
                      <a:pt x="1908" y="2172"/>
                    </a:lnTo>
                    <a:lnTo>
                      <a:pt x="1824" y="2136"/>
                    </a:lnTo>
                    <a:lnTo>
                      <a:pt x="1740" y="2094"/>
                    </a:lnTo>
                    <a:lnTo>
                      <a:pt x="1656" y="2046"/>
                    </a:lnTo>
                    <a:lnTo>
                      <a:pt x="1578" y="1968"/>
                    </a:lnTo>
                    <a:lnTo>
                      <a:pt x="1494" y="1848"/>
                    </a:lnTo>
                    <a:lnTo>
                      <a:pt x="1410" y="1770"/>
                    </a:lnTo>
                    <a:lnTo>
                      <a:pt x="1326" y="1590"/>
                    </a:lnTo>
                    <a:lnTo>
                      <a:pt x="1242" y="1380"/>
                    </a:lnTo>
                    <a:lnTo>
                      <a:pt x="1158" y="1032"/>
                    </a:lnTo>
                    <a:lnTo>
                      <a:pt x="1080" y="666"/>
                    </a:lnTo>
                    <a:lnTo>
                      <a:pt x="996" y="570"/>
                    </a:lnTo>
                    <a:lnTo>
                      <a:pt x="912" y="414"/>
                    </a:lnTo>
                    <a:lnTo>
                      <a:pt x="828" y="312"/>
                    </a:lnTo>
                    <a:lnTo>
                      <a:pt x="744" y="450"/>
                    </a:lnTo>
                    <a:lnTo>
                      <a:pt x="666" y="732"/>
                    </a:lnTo>
                    <a:lnTo>
                      <a:pt x="582" y="732"/>
                    </a:lnTo>
                    <a:lnTo>
                      <a:pt x="498" y="270"/>
                    </a:lnTo>
                    <a:lnTo>
                      <a:pt x="414" y="396"/>
                    </a:lnTo>
                    <a:lnTo>
                      <a:pt x="330" y="0"/>
                    </a:lnTo>
                    <a:lnTo>
                      <a:pt x="246" y="96"/>
                    </a:lnTo>
                    <a:lnTo>
                      <a:pt x="168" y="330"/>
                    </a:lnTo>
                    <a:lnTo>
                      <a:pt x="84" y="852"/>
                    </a:lnTo>
                    <a:lnTo>
                      <a:pt x="0" y="18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00360" y="1952640"/>
                <a:ext cx="5790960" cy="3610080"/>
              </a:xfrm>
              <a:custGeom>
                <a:avLst/>
                <a:gdLst/>
                <a:ahLst/>
                <a:rect l="l" t="t" r="r" b="b"/>
                <a:pathLst>
                  <a:path w="3648" h="2274">
                    <a:moveTo>
                      <a:pt x="0" y="1830"/>
                    </a:moveTo>
                    <a:lnTo>
                      <a:pt x="0" y="1830"/>
                    </a:lnTo>
                    <a:lnTo>
                      <a:pt x="84" y="852"/>
                    </a:lnTo>
                    <a:lnTo>
                      <a:pt x="168" y="330"/>
                    </a:lnTo>
                    <a:lnTo>
                      <a:pt x="246" y="96"/>
                    </a:lnTo>
                    <a:lnTo>
                      <a:pt x="330" y="0"/>
                    </a:lnTo>
                    <a:lnTo>
                      <a:pt x="414" y="396"/>
                    </a:lnTo>
                    <a:lnTo>
                      <a:pt x="498" y="270"/>
                    </a:lnTo>
                    <a:lnTo>
                      <a:pt x="582" y="732"/>
                    </a:lnTo>
                    <a:lnTo>
                      <a:pt x="666" y="732"/>
                    </a:lnTo>
                    <a:lnTo>
                      <a:pt x="744" y="450"/>
                    </a:lnTo>
                    <a:lnTo>
                      <a:pt x="828" y="312"/>
                    </a:lnTo>
                    <a:lnTo>
                      <a:pt x="912" y="414"/>
                    </a:lnTo>
                    <a:lnTo>
                      <a:pt x="996" y="570"/>
                    </a:lnTo>
                    <a:lnTo>
                      <a:pt x="1080" y="498"/>
                    </a:lnTo>
                    <a:lnTo>
                      <a:pt x="1158" y="696"/>
                    </a:lnTo>
                    <a:lnTo>
                      <a:pt x="1242" y="1098"/>
                    </a:lnTo>
                    <a:lnTo>
                      <a:pt x="1326" y="1344"/>
                    </a:lnTo>
                    <a:lnTo>
                      <a:pt x="1410" y="1560"/>
                    </a:lnTo>
                    <a:lnTo>
                      <a:pt x="1494" y="1656"/>
                    </a:lnTo>
                    <a:lnTo>
                      <a:pt x="1578" y="1818"/>
                    </a:lnTo>
                    <a:lnTo>
                      <a:pt x="1656" y="1938"/>
                    </a:lnTo>
                    <a:lnTo>
                      <a:pt x="1740" y="2010"/>
                    </a:lnTo>
                    <a:lnTo>
                      <a:pt x="1824" y="2100"/>
                    </a:lnTo>
                    <a:lnTo>
                      <a:pt x="1908" y="2148"/>
                    </a:lnTo>
                    <a:lnTo>
                      <a:pt x="1992" y="2184"/>
                    </a:lnTo>
                    <a:lnTo>
                      <a:pt x="2070" y="2208"/>
                    </a:lnTo>
                    <a:lnTo>
                      <a:pt x="2154" y="2226"/>
                    </a:lnTo>
                    <a:lnTo>
                      <a:pt x="2238" y="2238"/>
                    </a:lnTo>
                    <a:lnTo>
                      <a:pt x="2322" y="2250"/>
                    </a:lnTo>
                    <a:lnTo>
                      <a:pt x="2406" y="2262"/>
                    </a:lnTo>
                    <a:lnTo>
                      <a:pt x="2490" y="2262"/>
                    </a:lnTo>
                    <a:lnTo>
                      <a:pt x="2568" y="2268"/>
                    </a:lnTo>
                    <a:lnTo>
                      <a:pt x="2652" y="2268"/>
                    </a:lnTo>
                    <a:lnTo>
                      <a:pt x="2736" y="2268"/>
                    </a:lnTo>
                    <a:lnTo>
                      <a:pt x="2820" y="2268"/>
                    </a:lnTo>
                    <a:lnTo>
                      <a:pt x="2904" y="2274"/>
                    </a:lnTo>
                    <a:lnTo>
                      <a:pt x="2982" y="2274"/>
                    </a:lnTo>
                    <a:lnTo>
                      <a:pt x="3066" y="2274"/>
                    </a:lnTo>
                    <a:lnTo>
                      <a:pt x="3150" y="2274"/>
                    </a:lnTo>
                    <a:lnTo>
                      <a:pt x="3234" y="2274"/>
                    </a:lnTo>
                    <a:lnTo>
                      <a:pt x="3318" y="2274"/>
                    </a:lnTo>
                    <a:lnTo>
                      <a:pt x="3402" y="2274"/>
                    </a:lnTo>
                    <a:lnTo>
                      <a:pt x="3480" y="2274"/>
                    </a:lnTo>
                    <a:lnTo>
                      <a:pt x="3564" y="2274"/>
                    </a:lnTo>
                    <a:lnTo>
                      <a:pt x="3648" y="2274"/>
                    </a:lnTo>
                    <a:lnTo>
                      <a:pt x="3648" y="2274"/>
                    </a:lnTo>
                    <a:lnTo>
                      <a:pt x="3564" y="2274"/>
                    </a:lnTo>
                    <a:lnTo>
                      <a:pt x="3480" y="2274"/>
                    </a:lnTo>
                    <a:lnTo>
                      <a:pt x="3402" y="2274"/>
                    </a:lnTo>
                    <a:lnTo>
                      <a:pt x="3318" y="2274"/>
                    </a:lnTo>
                    <a:lnTo>
                      <a:pt x="3234" y="2274"/>
                    </a:lnTo>
                    <a:lnTo>
                      <a:pt x="3150" y="2274"/>
                    </a:lnTo>
                    <a:lnTo>
                      <a:pt x="3066" y="2274"/>
                    </a:lnTo>
                    <a:lnTo>
                      <a:pt x="2982" y="2274"/>
                    </a:lnTo>
                    <a:lnTo>
                      <a:pt x="2904" y="2274"/>
                    </a:lnTo>
                    <a:lnTo>
                      <a:pt x="2820" y="2268"/>
                    </a:lnTo>
                    <a:lnTo>
                      <a:pt x="2736" y="2268"/>
                    </a:lnTo>
                    <a:lnTo>
                      <a:pt x="2652" y="2268"/>
                    </a:lnTo>
                    <a:lnTo>
                      <a:pt x="2568" y="2268"/>
                    </a:lnTo>
                    <a:lnTo>
                      <a:pt x="2490" y="2262"/>
                    </a:lnTo>
                    <a:lnTo>
                      <a:pt x="2406" y="2262"/>
                    </a:lnTo>
                    <a:lnTo>
                      <a:pt x="2322" y="2250"/>
                    </a:lnTo>
                    <a:lnTo>
                      <a:pt x="2238" y="2238"/>
                    </a:lnTo>
                    <a:lnTo>
                      <a:pt x="2154" y="2226"/>
                    </a:lnTo>
                    <a:lnTo>
                      <a:pt x="2070" y="2208"/>
                    </a:lnTo>
                    <a:lnTo>
                      <a:pt x="1992" y="2184"/>
                    </a:lnTo>
                    <a:lnTo>
                      <a:pt x="1908" y="2148"/>
                    </a:lnTo>
                    <a:lnTo>
                      <a:pt x="1824" y="2100"/>
                    </a:lnTo>
                    <a:lnTo>
                      <a:pt x="1740" y="2016"/>
                    </a:lnTo>
                    <a:lnTo>
                      <a:pt x="1656" y="1944"/>
                    </a:lnTo>
                    <a:lnTo>
                      <a:pt x="1578" y="1824"/>
                    </a:lnTo>
                    <a:lnTo>
                      <a:pt x="1494" y="1668"/>
                    </a:lnTo>
                    <a:lnTo>
                      <a:pt x="1410" y="1578"/>
                    </a:lnTo>
                    <a:lnTo>
                      <a:pt x="1326" y="1380"/>
                    </a:lnTo>
                    <a:lnTo>
                      <a:pt x="1242" y="1152"/>
                    </a:lnTo>
                    <a:lnTo>
                      <a:pt x="1158" y="762"/>
                    </a:lnTo>
                    <a:lnTo>
                      <a:pt x="1080" y="498"/>
                    </a:lnTo>
                    <a:lnTo>
                      <a:pt x="996" y="570"/>
                    </a:lnTo>
                    <a:lnTo>
                      <a:pt x="912" y="414"/>
                    </a:lnTo>
                    <a:lnTo>
                      <a:pt x="828" y="312"/>
                    </a:lnTo>
                    <a:lnTo>
                      <a:pt x="744" y="450"/>
                    </a:lnTo>
                    <a:lnTo>
                      <a:pt x="666" y="732"/>
                    </a:lnTo>
                    <a:lnTo>
                      <a:pt x="582" y="732"/>
                    </a:lnTo>
                    <a:lnTo>
                      <a:pt x="498" y="270"/>
                    </a:lnTo>
                    <a:lnTo>
                      <a:pt x="414" y="396"/>
                    </a:lnTo>
                    <a:lnTo>
                      <a:pt x="330" y="0"/>
                    </a:lnTo>
                    <a:lnTo>
                      <a:pt x="246" y="96"/>
                    </a:lnTo>
                    <a:lnTo>
                      <a:pt x="168" y="330"/>
                    </a:lnTo>
                    <a:lnTo>
                      <a:pt x="84" y="852"/>
                    </a:lnTo>
                    <a:lnTo>
                      <a:pt x="0" y="18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00360" y="1952640"/>
                <a:ext cx="5790960" cy="3610080"/>
              </a:xfrm>
              <a:custGeom>
                <a:avLst/>
                <a:gdLst/>
                <a:ahLst/>
                <a:rect l="l" t="t" r="r" b="b"/>
                <a:pathLst>
                  <a:path w="3648" h="2274">
                    <a:moveTo>
                      <a:pt x="0" y="1830"/>
                    </a:moveTo>
                    <a:lnTo>
                      <a:pt x="0" y="1830"/>
                    </a:lnTo>
                    <a:lnTo>
                      <a:pt x="84" y="852"/>
                    </a:lnTo>
                    <a:lnTo>
                      <a:pt x="168" y="330"/>
                    </a:lnTo>
                    <a:lnTo>
                      <a:pt x="246" y="96"/>
                    </a:lnTo>
                    <a:lnTo>
                      <a:pt x="330" y="0"/>
                    </a:lnTo>
                    <a:lnTo>
                      <a:pt x="414" y="396"/>
                    </a:lnTo>
                    <a:lnTo>
                      <a:pt x="498" y="270"/>
                    </a:lnTo>
                    <a:lnTo>
                      <a:pt x="582" y="732"/>
                    </a:lnTo>
                    <a:lnTo>
                      <a:pt x="666" y="732"/>
                    </a:lnTo>
                    <a:lnTo>
                      <a:pt x="744" y="450"/>
                    </a:lnTo>
                    <a:lnTo>
                      <a:pt x="828" y="312"/>
                    </a:lnTo>
                    <a:lnTo>
                      <a:pt x="912" y="414"/>
                    </a:lnTo>
                    <a:lnTo>
                      <a:pt x="996" y="570"/>
                    </a:lnTo>
                    <a:lnTo>
                      <a:pt x="1080" y="498"/>
                    </a:lnTo>
                    <a:lnTo>
                      <a:pt x="1158" y="696"/>
                    </a:lnTo>
                    <a:lnTo>
                      <a:pt x="1242" y="1002"/>
                    </a:lnTo>
                    <a:lnTo>
                      <a:pt x="1326" y="1188"/>
                    </a:lnTo>
                    <a:lnTo>
                      <a:pt x="1410" y="1464"/>
                    </a:lnTo>
                    <a:lnTo>
                      <a:pt x="1494" y="1584"/>
                    </a:lnTo>
                    <a:lnTo>
                      <a:pt x="1578" y="1770"/>
                    </a:lnTo>
                    <a:lnTo>
                      <a:pt x="1656" y="1908"/>
                    </a:lnTo>
                    <a:lnTo>
                      <a:pt x="1740" y="1992"/>
                    </a:lnTo>
                    <a:lnTo>
                      <a:pt x="1824" y="2088"/>
                    </a:lnTo>
                    <a:lnTo>
                      <a:pt x="1908" y="2136"/>
                    </a:lnTo>
                    <a:lnTo>
                      <a:pt x="1992" y="2172"/>
                    </a:lnTo>
                    <a:lnTo>
                      <a:pt x="2070" y="2202"/>
                    </a:lnTo>
                    <a:lnTo>
                      <a:pt x="2154" y="2220"/>
                    </a:lnTo>
                    <a:lnTo>
                      <a:pt x="2238" y="2238"/>
                    </a:lnTo>
                    <a:lnTo>
                      <a:pt x="2322" y="2244"/>
                    </a:lnTo>
                    <a:lnTo>
                      <a:pt x="2406" y="2256"/>
                    </a:lnTo>
                    <a:lnTo>
                      <a:pt x="2490" y="2262"/>
                    </a:lnTo>
                    <a:lnTo>
                      <a:pt x="2568" y="2268"/>
                    </a:lnTo>
                    <a:lnTo>
                      <a:pt x="2652" y="2268"/>
                    </a:lnTo>
                    <a:lnTo>
                      <a:pt x="2736" y="2268"/>
                    </a:lnTo>
                    <a:lnTo>
                      <a:pt x="2820" y="2268"/>
                    </a:lnTo>
                    <a:lnTo>
                      <a:pt x="2904" y="2274"/>
                    </a:lnTo>
                    <a:lnTo>
                      <a:pt x="2982" y="2274"/>
                    </a:lnTo>
                    <a:lnTo>
                      <a:pt x="3066" y="2274"/>
                    </a:lnTo>
                    <a:lnTo>
                      <a:pt x="3150" y="2274"/>
                    </a:lnTo>
                    <a:lnTo>
                      <a:pt x="3234" y="2274"/>
                    </a:lnTo>
                    <a:lnTo>
                      <a:pt x="3318" y="2274"/>
                    </a:lnTo>
                    <a:lnTo>
                      <a:pt x="3402" y="2274"/>
                    </a:lnTo>
                    <a:lnTo>
                      <a:pt x="3480" y="2274"/>
                    </a:lnTo>
                    <a:lnTo>
                      <a:pt x="3564" y="2274"/>
                    </a:lnTo>
                    <a:lnTo>
                      <a:pt x="3648" y="2274"/>
                    </a:lnTo>
                    <a:lnTo>
                      <a:pt x="3648" y="2274"/>
                    </a:lnTo>
                    <a:lnTo>
                      <a:pt x="3564" y="2274"/>
                    </a:lnTo>
                    <a:lnTo>
                      <a:pt x="3480" y="2274"/>
                    </a:lnTo>
                    <a:lnTo>
                      <a:pt x="3402" y="2274"/>
                    </a:lnTo>
                    <a:lnTo>
                      <a:pt x="3318" y="2274"/>
                    </a:lnTo>
                    <a:lnTo>
                      <a:pt x="3234" y="2274"/>
                    </a:lnTo>
                    <a:lnTo>
                      <a:pt x="3150" y="2274"/>
                    </a:lnTo>
                    <a:lnTo>
                      <a:pt x="3066" y="2274"/>
                    </a:lnTo>
                    <a:lnTo>
                      <a:pt x="2982" y="2274"/>
                    </a:lnTo>
                    <a:lnTo>
                      <a:pt x="2904" y="2274"/>
                    </a:lnTo>
                    <a:lnTo>
                      <a:pt x="2820" y="2268"/>
                    </a:lnTo>
                    <a:lnTo>
                      <a:pt x="2736" y="2268"/>
                    </a:lnTo>
                    <a:lnTo>
                      <a:pt x="2652" y="2268"/>
                    </a:lnTo>
                    <a:lnTo>
                      <a:pt x="2568" y="2268"/>
                    </a:lnTo>
                    <a:lnTo>
                      <a:pt x="2490" y="2262"/>
                    </a:lnTo>
                    <a:lnTo>
                      <a:pt x="2406" y="2262"/>
                    </a:lnTo>
                    <a:lnTo>
                      <a:pt x="2322" y="2250"/>
                    </a:lnTo>
                    <a:lnTo>
                      <a:pt x="2238" y="2238"/>
                    </a:lnTo>
                    <a:lnTo>
                      <a:pt x="2154" y="2226"/>
                    </a:lnTo>
                    <a:lnTo>
                      <a:pt x="2070" y="2208"/>
                    </a:lnTo>
                    <a:lnTo>
                      <a:pt x="1992" y="2184"/>
                    </a:lnTo>
                    <a:lnTo>
                      <a:pt x="1908" y="2148"/>
                    </a:lnTo>
                    <a:lnTo>
                      <a:pt x="1824" y="2100"/>
                    </a:lnTo>
                    <a:lnTo>
                      <a:pt x="1740" y="2010"/>
                    </a:lnTo>
                    <a:lnTo>
                      <a:pt x="1656" y="1938"/>
                    </a:lnTo>
                    <a:lnTo>
                      <a:pt x="1578" y="1818"/>
                    </a:lnTo>
                    <a:lnTo>
                      <a:pt x="1494" y="1656"/>
                    </a:lnTo>
                    <a:lnTo>
                      <a:pt x="1410" y="1560"/>
                    </a:lnTo>
                    <a:lnTo>
                      <a:pt x="1326" y="1344"/>
                    </a:lnTo>
                    <a:lnTo>
                      <a:pt x="1242" y="1098"/>
                    </a:lnTo>
                    <a:lnTo>
                      <a:pt x="1158" y="696"/>
                    </a:lnTo>
                    <a:lnTo>
                      <a:pt x="1080" y="498"/>
                    </a:lnTo>
                    <a:lnTo>
                      <a:pt x="996" y="570"/>
                    </a:lnTo>
                    <a:lnTo>
                      <a:pt x="912" y="414"/>
                    </a:lnTo>
                    <a:lnTo>
                      <a:pt x="828" y="312"/>
                    </a:lnTo>
                    <a:lnTo>
                      <a:pt x="744" y="450"/>
                    </a:lnTo>
                    <a:lnTo>
                      <a:pt x="666" y="732"/>
                    </a:lnTo>
                    <a:lnTo>
                      <a:pt x="582" y="732"/>
                    </a:lnTo>
                    <a:lnTo>
                      <a:pt x="498" y="270"/>
                    </a:lnTo>
                    <a:lnTo>
                      <a:pt x="414" y="396"/>
                    </a:lnTo>
                    <a:lnTo>
                      <a:pt x="330" y="0"/>
                    </a:lnTo>
                    <a:lnTo>
                      <a:pt x="246" y="96"/>
                    </a:lnTo>
                    <a:lnTo>
                      <a:pt x="168" y="330"/>
                    </a:lnTo>
                    <a:lnTo>
                      <a:pt x="84" y="852"/>
                    </a:lnTo>
                    <a:lnTo>
                      <a:pt x="0" y="18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00360" y="1952640"/>
                <a:ext cx="5790960" cy="3610080"/>
              </a:xfrm>
              <a:custGeom>
                <a:avLst/>
                <a:gdLst/>
                <a:ahLst/>
                <a:rect l="l" t="t" r="r" b="b"/>
                <a:pathLst>
                  <a:path w="3648" h="2274">
                    <a:moveTo>
                      <a:pt x="0" y="1830"/>
                    </a:moveTo>
                    <a:lnTo>
                      <a:pt x="0" y="1830"/>
                    </a:lnTo>
                    <a:lnTo>
                      <a:pt x="84" y="852"/>
                    </a:lnTo>
                    <a:lnTo>
                      <a:pt x="168" y="330"/>
                    </a:lnTo>
                    <a:lnTo>
                      <a:pt x="246" y="96"/>
                    </a:lnTo>
                    <a:lnTo>
                      <a:pt x="330" y="0"/>
                    </a:lnTo>
                    <a:lnTo>
                      <a:pt x="414" y="396"/>
                    </a:lnTo>
                    <a:lnTo>
                      <a:pt x="498" y="270"/>
                    </a:lnTo>
                    <a:lnTo>
                      <a:pt x="582" y="732"/>
                    </a:lnTo>
                    <a:lnTo>
                      <a:pt x="666" y="732"/>
                    </a:lnTo>
                    <a:lnTo>
                      <a:pt x="744" y="450"/>
                    </a:lnTo>
                    <a:lnTo>
                      <a:pt x="828" y="312"/>
                    </a:lnTo>
                    <a:lnTo>
                      <a:pt x="912" y="414"/>
                    </a:lnTo>
                    <a:lnTo>
                      <a:pt x="996" y="570"/>
                    </a:lnTo>
                    <a:lnTo>
                      <a:pt x="1080" y="498"/>
                    </a:lnTo>
                    <a:lnTo>
                      <a:pt x="1158" y="696"/>
                    </a:lnTo>
                    <a:lnTo>
                      <a:pt x="1242" y="1002"/>
                    </a:lnTo>
                    <a:lnTo>
                      <a:pt x="1326" y="1014"/>
                    </a:lnTo>
                    <a:lnTo>
                      <a:pt x="1410" y="1230"/>
                    </a:lnTo>
                    <a:lnTo>
                      <a:pt x="1494" y="1470"/>
                    </a:lnTo>
                    <a:lnTo>
                      <a:pt x="1578" y="1728"/>
                    </a:lnTo>
                    <a:lnTo>
                      <a:pt x="1656" y="1884"/>
                    </a:lnTo>
                    <a:lnTo>
                      <a:pt x="1740" y="1980"/>
                    </a:lnTo>
                    <a:lnTo>
                      <a:pt x="1824" y="2076"/>
                    </a:lnTo>
                    <a:lnTo>
                      <a:pt x="1908" y="2130"/>
                    </a:lnTo>
                    <a:lnTo>
                      <a:pt x="1992" y="2172"/>
                    </a:lnTo>
                    <a:lnTo>
                      <a:pt x="2070" y="2196"/>
                    </a:lnTo>
                    <a:lnTo>
                      <a:pt x="2154" y="2220"/>
                    </a:lnTo>
                    <a:lnTo>
                      <a:pt x="2238" y="2232"/>
                    </a:lnTo>
                    <a:lnTo>
                      <a:pt x="2322" y="2244"/>
                    </a:lnTo>
                    <a:lnTo>
                      <a:pt x="2406" y="2256"/>
                    </a:lnTo>
                    <a:lnTo>
                      <a:pt x="2490" y="2262"/>
                    </a:lnTo>
                    <a:lnTo>
                      <a:pt x="2568" y="2268"/>
                    </a:lnTo>
                    <a:lnTo>
                      <a:pt x="2652" y="2268"/>
                    </a:lnTo>
                    <a:lnTo>
                      <a:pt x="2736" y="2268"/>
                    </a:lnTo>
                    <a:lnTo>
                      <a:pt x="2820" y="2268"/>
                    </a:lnTo>
                    <a:lnTo>
                      <a:pt x="2904" y="2274"/>
                    </a:lnTo>
                    <a:lnTo>
                      <a:pt x="2982" y="2274"/>
                    </a:lnTo>
                    <a:lnTo>
                      <a:pt x="3066" y="2274"/>
                    </a:lnTo>
                    <a:lnTo>
                      <a:pt x="3150" y="2274"/>
                    </a:lnTo>
                    <a:lnTo>
                      <a:pt x="3234" y="2274"/>
                    </a:lnTo>
                    <a:lnTo>
                      <a:pt x="3318" y="2274"/>
                    </a:lnTo>
                    <a:lnTo>
                      <a:pt x="3402" y="2274"/>
                    </a:lnTo>
                    <a:lnTo>
                      <a:pt x="3480" y="2274"/>
                    </a:lnTo>
                    <a:lnTo>
                      <a:pt x="3564" y="2274"/>
                    </a:lnTo>
                    <a:lnTo>
                      <a:pt x="3648" y="2274"/>
                    </a:lnTo>
                    <a:lnTo>
                      <a:pt x="3648" y="2274"/>
                    </a:lnTo>
                    <a:lnTo>
                      <a:pt x="3564" y="2274"/>
                    </a:lnTo>
                    <a:lnTo>
                      <a:pt x="3480" y="2274"/>
                    </a:lnTo>
                    <a:lnTo>
                      <a:pt x="3402" y="2274"/>
                    </a:lnTo>
                    <a:lnTo>
                      <a:pt x="3318" y="2274"/>
                    </a:lnTo>
                    <a:lnTo>
                      <a:pt x="3234" y="2274"/>
                    </a:lnTo>
                    <a:lnTo>
                      <a:pt x="3150" y="2274"/>
                    </a:lnTo>
                    <a:lnTo>
                      <a:pt x="3066" y="2274"/>
                    </a:lnTo>
                    <a:lnTo>
                      <a:pt x="2982" y="2274"/>
                    </a:lnTo>
                    <a:lnTo>
                      <a:pt x="2904" y="2274"/>
                    </a:lnTo>
                    <a:lnTo>
                      <a:pt x="2820" y="2268"/>
                    </a:lnTo>
                    <a:lnTo>
                      <a:pt x="2736" y="2268"/>
                    </a:lnTo>
                    <a:lnTo>
                      <a:pt x="2652" y="2268"/>
                    </a:lnTo>
                    <a:lnTo>
                      <a:pt x="2568" y="2268"/>
                    </a:lnTo>
                    <a:lnTo>
                      <a:pt x="2490" y="2262"/>
                    </a:lnTo>
                    <a:lnTo>
                      <a:pt x="2406" y="2256"/>
                    </a:lnTo>
                    <a:lnTo>
                      <a:pt x="2322" y="2244"/>
                    </a:lnTo>
                    <a:lnTo>
                      <a:pt x="2238" y="2238"/>
                    </a:lnTo>
                    <a:lnTo>
                      <a:pt x="2154" y="2220"/>
                    </a:lnTo>
                    <a:lnTo>
                      <a:pt x="2070" y="2202"/>
                    </a:lnTo>
                    <a:lnTo>
                      <a:pt x="1992" y="2172"/>
                    </a:lnTo>
                    <a:lnTo>
                      <a:pt x="1908" y="2136"/>
                    </a:lnTo>
                    <a:lnTo>
                      <a:pt x="1824" y="2088"/>
                    </a:lnTo>
                    <a:lnTo>
                      <a:pt x="1740" y="1992"/>
                    </a:lnTo>
                    <a:lnTo>
                      <a:pt x="1656" y="1908"/>
                    </a:lnTo>
                    <a:lnTo>
                      <a:pt x="1578" y="1770"/>
                    </a:lnTo>
                    <a:lnTo>
                      <a:pt x="1494" y="1584"/>
                    </a:lnTo>
                    <a:lnTo>
                      <a:pt x="1410" y="1464"/>
                    </a:lnTo>
                    <a:lnTo>
                      <a:pt x="1326" y="1188"/>
                    </a:lnTo>
                    <a:lnTo>
                      <a:pt x="1242" y="1002"/>
                    </a:lnTo>
                    <a:lnTo>
                      <a:pt x="1158" y="696"/>
                    </a:lnTo>
                    <a:lnTo>
                      <a:pt x="1080" y="498"/>
                    </a:lnTo>
                    <a:lnTo>
                      <a:pt x="996" y="570"/>
                    </a:lnTo>
                    <a:lnTo>
                      <a:pt x="912" y="414"/>
                    </a:lnTo>
                    <a:lnTo>
                      <a:pt x="828" y="312"/>
                    </a:lnTo>
                    <a:lnTo>
                      <a:pt x="744" y="450"/>
                    </a:lnTo>
                    <a:lnTo>
                      <a:pt x="666" y="732"/>
                    </a:lnTo>
                    <a:lnTo>
                      <a:pt x="582" y="732"/>
                    </a:lnTo>
                    <a:lnTo>
                      <a:pt x="498" y="270"/>
                    </a:lnTo>
                    <a:lnTo>
                      <a:pt x="414" y="396"/>
                    </a:lnTo>
                    <a:lnTo>
                      <a:pt x="330" y="0"/>
                    </a:lnTo>
                    <a:lnTo>
                      <a:pt x="246" y="96"/>
                    </a:lnTo>
                    <a:lnTo>
                      <a:pt x="168" y="330"/>
                    </a:lnTo>
                    <a:lnTo>
                      <a:pt x="84" y="852"/>
                    </a:lnTo>
                    <a:lnTo>
                      <a:pt x="0" y="18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00360" y="1952640"/>
                <a:ext cx="5790960" cy="3610080"/>
              </a:xfrm>
              <a:custGeom>
                <a:avLst/>
                <a:gdLst/>
                <a:ahLst/>
                <a:rect l="l" t="t" r="r" b="b"/>
                <a:pathLst>
                  <a:path w="3648" h="2274">
                    <a:moveTo>
                      <a:pt x="0" y="1830"/>
                    </a:moveTo>
                    <a:lnTo>
                      <a:pt x="0" y="1830"/>
                    </a:lnTo>
                    <a:lnTo>
                      <a:pt x="84" y="852"/>
                    </a:lnTo>
                    <a:lnTo>
                      <a:pt x="168" y="330"/>
                    </a:lnTo>
                    <a:lnTo>
                      <a:pt x="246" y="96"/>
                    </a:lnTo>
                    <a:lnTo>
                      <a:pt x="330" y="0"/>
                    </a:lnTo>
                    <a:lnTo>
                      <a:pt x="414" y="396"/>
                    </a:lnTo>
                    <a:lnTo>
                      <a:pt x="498" y="270"/>
                    </a:lnTo>
                    <a:lnTo>
                      <a:pt x="582" y="732"/>
                    </a:lnTo>
                    <a:lnTo>
                      <a:pt x="666" y="732"/>
                    </a:lnTo>
                    <a:lnTo>
                      <a:pt x="744" y="450"/>
                    </a:lnTo>
                    <a:lnTo>
                      <a:pt x="828" y="312"/>
                    </a:lnTo>
                    <a:lnTo>
                      <a:pt x="912" y="414"/>
                    </a:lnTo>
                    <a:lnTo>
                      <a:pt x="996" y="570"/>
                    </a:lnTo>
                    <a:lnTo>
                      <a:pt x="1080" y="498"/>
                    </a:lnTo>
                    <a:lnTo>
                      <a:pt x="1158" y="696"/>
                    </a:lnTo>
                    <a:lnTo>
                      <a:pt x="1242" y="1002"/>
                    </a:lnTo>
                    <a:lnTo>
                      <a:pt x="1326" y="1014"/>
                    </a:lnTo>
                    <a:lnTo>
                      <a:pt x="1410" y="1002"/>
                    </a:lnTo>
                    <a:lnTo>
                      <a:pt x="1494" y="1146"/>
                    </a:lnTo>
                    <a:lnTo>
                      <a:pt x="1578" y="1548"/>
                    </a:lnTo>
                    <a:lnTo>
                      <a:pt x="1656" y="1800"/>
                    </a:lnTo>
                    <a:lnTo>
                      <a:pt x="1740" y="1920"/>
                    </a:lnTo>
                    <a:lnTo>
                      <a:pt x="1824" y="2040"/>
                    </a:lnTo>
                    <a:lnTo>
                      <a:pt x="1908" y="2112"/>
                    </a:lnTo>
                    <a:lnTo>
                      <a:pt x="1992" y="2160"/>
                    </a:lnTo>
                    <a:lnTo>
                      <a:pt x="2070" y="2190"/>
                    </a:lnTo>
                    <a:lnTo>
                      <a:pt x="2154" y="2214"/>
                    </a:lnTo>
                    <a:lnTo>
                      <a:pt x="2238" y="2232"/>
                    </a:lnTo>
                    <a:lnTo>
                      <a:pt x="2322" y="2244"/>
                    </a:lnTo>
                    <a:lnTo>
                      <a:pt x="2406" y="2256"/>
                    </a:lnTo>
                    <a:lnTo>
                      <a:pt x="2490" y="2262"/>
                    </a:lnTo>
                    <a:lnTo>
                      <a:pt x="2568" y="2268"/>
                    </a:lnTo>
                    <a:lnTo>
                      <a:pt x="2652" y="2268"/>
                    </a:lnTo>
                    <a:lnTo>
                      <a:pt x="2736" y="2268"/>
                    </a:lnTo>
                    <a:lnTo>
                      <a:pt x="2820" y="2268"/>
                    </a:lnTo>
                    <a:lnTo>
                      <a:pt x="2904" y="2274"/>
                    </a:lnTo>
                    <a:lnTo>
                      <a:pt x="2982" y="2274"/>
                    </a:lnTo>
                    <a:lnTo>
                      <a:pt x="3066" y="2274"/>
                    </a:lnTo>
                    <a:lnTo>
                      <a:pt x="3150" y="2274"/>
                    </a:lnTo>
                    <a:lnTo>
                      <a:pt x="3234" y="2274"/>
                    </a:lnTo>
                    <a:lnTo>
                      <a:pt x="3318" y="2274"/>
                    </a:lnTo>
                    <a:lnTo>
                      <a:pt x="3402" y="2274"/>
                    </a:lnTo>
                    <a:lnTo>
                      <a:pt x="3480" y="2274"/>
                    </a:lnTo>
                    <a:lnTo>
                      <a:pt x="3564" y="2274"/>
                    </a:lnTo>
                    <a:lnTo>
                      <a:pt x="3648" y="2274"/>
                    </a:lnTo>
                    <a:lnTo>
                      <a:pt x="3648" y="2274"/>
                    </a:lnTo>
                    <a:lnTo>
                      <a:pt x="3564" y="2274"/>
                    </a:lnTo>
                    <a:lnTo>
                      <a:pt x="3480" y="2274"/>
                    </a:lnTo>
                    <a:lnTo>
                      <a:pt x="3402" y="2274"/>
                    </a:lnTo>
                    <a:lnTo>
                      <a:pt x="3318" y="2274"/>
                    </a:lnTo>
                    <a:lnTo>
                      <a:pt x="3234" y="2274"/>
                    </a:lnTo>
                    <a:lnTo>
                      <a:pt x="3150" y="2274"/>
                    </a:lnTo>
                    <a:lnTo>
                      <a:pt x="3066" y="2274"/>
                    </a:lnTo>
                    <a:lnTo>
                      <a:pt x="2982" y="2274"/>
                    </a:lnTo>
                    <a:lnTo>
                      <a:pt x="2904" y="2274"/>
                    </a:lnTo>
                    <a:lnTo>
                      <a:pt x="2820" y="2268"/>
                    </a:lnTo>
                    <a:lnTo>
                      <a:pt x="2736" y="2268"/>
                    </a:lnTo>
                    <a:lnTo>
                      <a:pt x="2652" y="2268"/>
                    </a:lnTo>
                    <a:lnTo>
                      <a:pt x="2568" y="2268"/>
                    </a:lnTo>
                    <a:lnTo>
                      <a:pt x="2490" y="2262"/>
                    </a:lnTo>
                    <a:lnTo>
                      <a:pt x="2406" y="2256"/>
                    </a:lnTo>
                    <a:lnTo>
                      <a:pt x="2322" y="2244"/>
                    </a:lnTo>
                    <a:lnTo>
                      <a:pt x="2238" y="2232"/>
                    </a:lnTo>
                    <a:lnTo>
                      <a:pt x="2154" y="2220"/>
                    </a:lnTo>
                    <a:lnTo>
                      <a:pt x="2070" y="2196"/>
                    </a:lnTo>
                    <a:lnTo>
                      <a:pt x="1992" y="2172"/>
                    </a:lnTo>
                    <a:lnTo>
                      <a:pt x="1908" y="2130"/>
                    </a:lnTo>
                    <a:lnTo>
                      <a:pt x="1824" y="2076"/>
                    </a:lnTo>
                    <a:lnTo>
                      <a:pt x="1740" y="1980"/>
                    </a:lnTo>
                    <a:lnTo>
                      <a:pt x="1656" y="1884"/>
                    </a:lnTo>
                    <a:lnTo>
                      <a:pt x="1578" y="1728"/>
                    </a:lnTo>
                    <a:lnTo>
                      <a:pt x="1494" y="1470"/>
                    </a:lnTo>
                    <a:lnTo>
                      <a:pt x="1410" y="1230"/>
                    </a:lnTo>
                    <a:lnTo>
                      <a:pt x="1326" y="1014"/>
                    </a:lnTo>
                    <a:lnTo>
                      <a:pt x="1242" y="1002"/>
                    </a:lnTo>
                    <a:lnTo>
                      <a:pt x="1158" y="696"/>
                    </a:lnTo>
                    <a:lnTo>
                      <a:pt x="1080" y="498"/>
                    </a:lnTo>
                    <a:lnTo>
                      <a:pt x="996" y="570"/>
                    </a:lnTo>
                    <a:lnTo>
                      <a:pt x="912" y="414"/>
                    </a:lnTo>
                    <a:lnTo>
                      <a:pt x="828" y="312"/>
                    </a:lnTo>
                    <a:lnTo>
                      <a:pt x="744" y="450"/>
                    </a:lnTo>
                    <a:lnTo>
                      <a:pt x="666" y="732"/>
                    </a:lnTo>
                    <a:lnTo>
                      <a:pt x="582" y="732"/>
                    </a:lnTo>
                    <a:lnTo>
                      <a:pt x="498" y="270"/>
                    </a:lnTo>
                    <a:lnTo>
                      <a:pt x="414" y="396"/>
                    </a:lnTo>
                    <a:lnTo>
                      <a:pt x="330" y="0"/>
                    </a:lnTo>
                    <a:lnTo>
                      <a:pt x="246" y="96"/>
                    </a:lnTo>
                    <a:lnTo>
                      <a:pt x="168" y="330"/>
                    </a:lnTo>
                    <a:lnTo>
                      <a:pt x="84" y="852"/>
                    </a:lnTo>
                    <a:lnTo>
                      <a:pt x="0" y="18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800360" y="1952640"/>
                <a:ext cx="5790960" cy="3610080"/>
              </a:xfrm>
              <a:custGeom>
                <a:avLst/>
                <a:gdLst/>
                <a:ahLst/>
                <a:rect l="l" t="t" r="r" b="b"/>
                <a:pathLst>
                  <a:path w="3648" h="2274">
                    <a:moveTo>
                      <a:pt x="0" y="1830"/>
                    </a:moveTo>
                    <a:lnTo>
                      <a:pt x="0" y="1830"/>
                    </a:lnTo>
                    <a:lnTo>
                      <a:pt x="84" y="852"/>
                    </a:lnTo>
                    <a:lnTo>
                      <a:pt x="168" y="330"/>
                    </a:lnTo>
                    <a:lnTo>
                      <a:pt x="246" y="96"/>
                    </a:lnTo>
                    <a:lnTo>
                      <a:pt x="330" y="0"/>
                    </a:lnTo>
                    <a:lnTo>
                      <a:pt x="414" y="396"/>
                    </a:lnTo>
                    <a:lnTo>
                      <a:pt x="498" y="270"/>
                    </a:lnTo>
                    <a:lnTo>
                      <a:pt x="582" y="732"/>
                    </a:lnTo>
                    <a:lnTo>
                      <a:pt x="666" y="732"/>
                    </a:lnTo>
                    <a:lnTo>
                      <a:pt x="744" y="450"/>
                    </a:lnTo>
                    <a:lnTo>
                      <a:pt x="828" y="312"/>
                    </a:lnTo>
                    <a:lnTo>
                      <a:pt x="912" y="414"/>
                    </a:lnTo>
                    <a:lnTo>
                      <a:pt x="996" y="570"/>
                    </a:lnTo>
                    <a:lnTo>
                      <a:pt x="1080" y="498"/>
                    </a:lnTo>
                    <a:lnTo>
                      <a:pt x="1158" y="696"/>
                    </a:lnTo>
                    <a:lnTo>
                      <a:pt x="1242" y="1002"/>
                    </a:lnTo>
                    <a:lnTo>
                      <a:pt x="1326" y="1014"/>
                    </a:lnTo>
                    <a:lnTo>
                      <a:pt x="1410" y="1002"/>
                    </a:lnTo>
                    <a:lnTo>
                      <a:pt x="1494" y="792"/>
                    </a:lnTo>
                    <a:lnTo>
                      <a:pt x="1578" y="1068"/>
                    </a:lnTo>
                    <a:lnTo>
                      <a:pt x="1656" y="1602"/>
                    </a:lnTo>
                    <a:lnTo>
                      <a:pt x="1740" y="1812"/>
                    </a:lnTo>
                    <a:lnTo>
                      <a:pt x="1824" y="1980"/>
                    </a:lnTo>
                    <a:lnTo>
                      <a:pt x="1908" y="2076"/>
                    </a:lnTo>
                    <a:lnTo>
                      <a:pt x="1992" y="2136"/>
                    </a:lnTo>
                    <a:lnTo>
                      <a:pt x="2070" y="2178"/>
                    </a:lnTo>
                    <a:lnTo>
                      <a:pt x="2154" y="2208"/>
                    </a:lnTo>
                    <a:lnTo>
                      <a:pt x="2238" y="2226"/>
                    </a:lnTo>
                    <a:lnTo>
                      <a:pt x="2322" y="2244"/>
                    </a:lnTo>
                    <a:lnTo>
                      <a:pt x="2406" y="2256"/>
                    </a:lnTo>
                    <a:lnTo>
                      <a:pt x="2490" y="2262"/>
                    </a:lnTo>
                    <a:lnTo>
                      <a:pt x="2568" y="2268"/>
                    </a:lnTo>
                    <a:lnTo>
                      <a:pt x="2652" y="2268"/>
                    </a:lnTo>
                    <a:lnTo>
                      <a:pt x="2736" y="2268"/>
                    </a:lnTo>
                    <a:lnTo>
                      <a:pt x="2820" y="2268"/>
                    </a:lnTo>
                    <a:lnTo>
                      <a:pt x="2904" y="2274"/>
                    </a:lnTo>
                    <a:lnTo>
                      <a:pt x="2982" y="2274"/>
                    </a:lnTo>
                    <a:lnTo>
                      <a:pt x="3066" y="2274"/>
                    </a:lnTo>
                    <a:lnTo>
                      <a:pt x="3150" y="2274"/>
                    </a:lnTo>
                    <a:lnTo>
                      <a:pt x="3234" y="2274"/>
                    </a:lnTo>
                    <a:lnTo>
                      <a:pt x="3318" y="2274"/>
                    </a:lnTo>
                    <a:lnTo>
                      <a:pt x="3402" y="2274"/>
                    </a:lnTo>
                    <a:lnTo>
                      <a:pt x="3480" y="2274"/>
                    </a:lnTo>
                    <a:lnTo>
                      <a:pt x="3564" y="2274"/>
                    </a:lnTo>
                    <a:lnTo>
                      <a:pt x="3648" y="2274"/>
                    </a:lnTo>
                    <a:lnTo>
                      <a:pt x="3648" y="2274"/>
                    </a:lnTo>
                    <a:lnTo>
                      <a:pt x="3564" y="2274"/>
                    </a:lnTo>
                    <a:lnTo>
                      <a:pt x="3480" y="2274"/>
                    </a:lnTo>
                    <a:lnTo>
                      <a:pt x="3402" y="2274"/>
                    </a:lnTo>
                    <a:lnTo>
                      <a:pt x="3318" y="2274"/>
                    </a:lnTo>
                    <a:lnTo>
                      <a:pt x="3234" y="2274"/>
                    </a:lnTo>
                    <a:lnTo>
                      <a:pt x="3150" y="2274"/>
                    </a:lnTo>
                    <a:lnTo>
                      <a:pt x="3066" y="2274"/>
                    </a:lnTo>
                    <a:lnTo>
                      <a:pt x="2982" y="2274"/>
                    </a:lnTo>
                    <a:lnTo>
                      <a:pt x="2904" y="2274"/>
                    </a:lnTo>
                    <a:lnTo>
                      <a:pt x="2820" y="2268"/>
                    </a:lnTo>
                    <a:lnTo>
                      <a:pt x="2736" y="2268"/>
                    </a:lnTo>
                    <a:lnTo>
                      <a:pt x="2652" y="2268"/>
                    </a:lnTo>
                    <a:lnTo>
                      <a:pt x="2568" y="2268"/>
                    </a:lnTo>
                    <a:lnTo>
                      <a:pt x="2490" y="2262"/>
                    </a:lnTo>
                    <a:lnTo>
                      <a:pt x="2406" y="2256"/>
                    </a:lnTo>
                    <a:lnTo>
                      <a:pt x="2322" y="2244"/>
                    </a:lnTo>
                    <a:lnTo>
                      <a:pt x="2238" y="2232"/>
                    </a:lnTo>
                    <a:lnTo>
                      <a:pt x="2154" y="2214"/>
                    </a:lnTo>
                    <a:lnTo>
                      <a:pt x="2070" y="2190"/>
                    </a:lnTo>
                    <a:lnTo>
                      <a:pt x="1992" y="2160"/>
                    </a:lnTo>
                    <a:lnTo>
                      <a:pt x="1908" y="2112"/>
                    </a:lnTo>
                    <a:lnTo>
                      <a:pt x="1824" y="2040"/>
                    </a:lnTo>
                    <a:lnTo>
                      <a:pt x="1740" y="1920"/>
                    </a:lnTo>
                    <a:lnTo>
                      <a:pt x="1656" y="1800"/>
                    </a:lnTo>
                    <a:lnTo>
                      <a:pt x="1578" y="1548"/>
                    </a:lnTo>
                    <a:lnTo>
                      <a:pt x="1494" y="1146"/>
                    </a:lnTo>
                    <a:lnTo>
                      <a:pt x="1410" y="1002"/>
                    </a:lnTo>
                    <a:lnTo>
                      <a:pt x="1326" y="1014"/>
                    </a:lnTo>
                    <a:lnTo>
                      <a:pt x="1242" y="1002"/>
                    </a:lnTo>
                    <a:lnTo>
                      <a:pt x="1158" y="696"/>
                    </a:lnTo>
                    <a:lnTo>
                      <a:pt x="1080" y="498"/>
                    </a:lnTo>
                    <a:lnTo>
                      <a:pt x="996" y="570"/>
                    </a:lnTo>
                    <a:lnTo>
                      <a:pt x="912" y="414"/>
                    </a:lnTo>
                    <a:lnTo>
                      <a:pt x="828" y="312"/>
                    </a:lnTo>
                    <a:lnTo>
                      <a:pt x="744" y="450"/>
                    </a:lnTo>
                    <a:lnTo>
                      <a:pt x="666" y="732"/>
                    </a:lnTo>
                    <a:lnTo>
                      <a:pt x="582" y="732"/>
                    </a:lnTo>
                    <a:lnTo>
                      <a:pt x="498" y="270"/>
                    </a:lnTo>
                    <a:lnTo>
                      <a:pt x="414" y="396"/>
                    </a:lnTo>
                    <a:lnTo>
                      <a:pt x="330" y="0"/>
                    </a:lnTo>
                    <a:lnTo>
                      <a:pt x="246" y="96"/>
                    </a:lnTo>
                    <a:lnTo>
                      <a:pt x="168" y="330"/>
                    </a:lnTo>
                    <a:lnTo>
                      <a:pt x="84" y="852"/>
                    </a:lnTo>
                    <a:lnTo>
                      <a:pt x="0" y="18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800360" y="1952640"/>
                <a:ext cx="5790960" cy="3610080"/>
              </a:xfrm>
              <a:custGeom>
                <a:avLst/>
                <a:gdLst/>
                <a:ahLst/>
                <a:rect l="l" t="t" r="r" b="b"/>
                <a:pathLst>
                  <a:path w="3648" h="2274">
                    <a:moveTo>
                      <a:pt x="0" y="1830"/>
                    </a:moveTo>
                    <a:lnTo>
                      <a:pt x="0" y="1830"/>
                    </a:lnTo>
                    <a:lnTo>
                      <a:pt x="84" y="852"/>
                    </a:lnTo>
                    <a:lnTo>
                      <a:pt x="168" y="330"/>
                    </a:lnTo>
                    <a:lnTo>
                      <a:pt x="246" y="96"/>
                    </a:lnTo>
                    <a:lnTo>
                      <a:pt x="330" y="0"/>
                    </a:lnTo>
                    <a:lnTo>
                      <a:pt x="414" y="396"/>
                    </a:lnTo>
                    <a:lnTo>
                      <a:pt x="498" y="270"/>
                    </a:lnTo>
                    <a:lnTo>
                      <a:pt x="582" y="732"/>
                    </a:lnTo>
                    <a:lnTo>
                      <a:pt x="666" y="732"/>
                    </a:lnTo>
                    <a:lnTo>
                      <a:pt x="744" y="450"/>
                    </a:lnTo>
                    <a:lnTo>
                      <a:pt x="828" y="312"/>
                    </a:lnTo>
                    <a:lnTo>
                      <a:pt x="912" y="414"/>
                    </a:lnTo>
                    <a:lnTo>
                      <a:pt x="996" y="570"/>
                    </a:lnTo>
                    <a:lnTo>
                      <a:pt x="1080" y="498"/>
                    </a:lnTo>
                    <a:lnTo>
                      <a:pt x="1158" y="696"/>
                    </a:lnTo>
                    <a:lnTo>
                      <a:pt x="1242" y="1002"/>
                    </a:lnTo>
                    <a:lnTo>
                      <a:pt x="1326" y="1014"/>
                    </a:lnTo>
                    <a:lnTo>
                      <a:pt x="1410" y="1002"/>
                    </a:lnTo>
                    <a:lnTo>
                      <a:pt x="1494" y="792"/>
                    </a:lnTo>
                    <a:lnTo>
                      <a:pt x="1578" y="768"/>
                    </a:lnTo>
                    <a:lnTo>
                      <a:pt x="1656" y="1164"/>
                    </a:lnTo>
                    <a:lnTo>
                      <a:pt x="1740" y="1590"/>
                    </a:lnTo>
                    <a:lnTo>
                      <a:pt x="1824" y="1866"/>
                    </a:lnTo>
                    <a:lnTo>
                      <a:pt x="1908" y="2010"/>
                    </a:lnTo>
                    <a:lnTo>
                      <a:pt x="1992" y="2100"/>
                    </a:lnTo>
                    <a:lnTo>
                      <a:pt x="2070" y="2154"/>
                    </a:lnTo>
                    <a:lnTo>
                      <a:pt x="2154" y="2196"/>
                    </a:lnTo>
                    <a:lnTo>
                      <a:pt x="2238" y="2220"/>
                    </a:lnTo>
                    <a:lnTo>
                      <a:pt x="2322" y="2238"/>
                    </a:lnTo>
                    <a:lnTo>
                      <a:pt x="2406" y="2256"/>
                    </a:lnTo>
                    <a:lnTo>
                      <a:pt x="2490" y="2262"/>
                    </a:lnTo>
                    <a:lnTo>
                      <a:pt x="2568" y="2268"/>
                    </a:lnTo>
                    <a:lnTo>
                      <a:pt x="2652" y="2268"/>
                    </a:lnTo>
                    <a:lnTo>
                      <a:pt x="2736" y="2268"/>
                    </a:lnTo>
                    <a:lnTo>
                      <a:pt x="2820" y="2268"/>
                    </a:lnTo>
                    <a:lnTo>
                      <a:pt x="2904" y="2274"/>
                    </a:lnTo>
                    <a:lnTo>
                      <a:pt x="2982" y="2274"/>
                    </a:lnTo>
                    <a:lnTo>
                      <a:pt x="3066" y="2274"/>
                    </a:lnTo>
                    <a:lnTo>
                      <a:pt x="3150" y="2274"/>
                    </a:lnTo>
                    <a:lnTo>
                      <a:pt x="3234" y="2274"/>
                    </a:lnTo>
                    <a:lnTo>
                      <a:pt x="3318" y="2274"/>
                    </a:lnTo>
                    <a:lnTo>
                      <a:pt x="3402" y="2274"/>
                    </a:lnTo>
                    <a:lnTo>
                      <a:pt x="3480" y="2274"/>
                    </a:lnTo>
                    <a:lnTo>
                      <a:pt x="3564" y="2274"/>
                    </a:lnTo>
                    <a:lnTo>
                      <a:pt x="3648" y="2274"/>
                    </a:lnTo>
                    <a:lnTo>
                      <a:pt x="3648" y="2274"/>
                    </a:lnTo>
                    <a:lnTo>
                      <a:pt x="3564" y="2274"/>
                    </a:lnTo>
                    <a:lnTo>
                      <a:pt x="3480" y="2274"/>
                    </a:lnTo>
                    <a:lnTo>
                      <a:pt x="3402" y="2274"/>
                    </a:lnTo>
                    <a:lnTo>
                      <a:pt x="3318" y="2274"/>
                    </a:lnTo>
                    <a:lnTo>
                      <a:pt x="3234" y="2274"/>
                    </a:lnTo>
                    <a:lnTo>
                      <a:pt x="3150" y="2274"/>
                    </a:lnTo>
                    <a:lnTo>
                      <a:pt x="3066" y="2274"/>
                    </a:lnTo>
                    <a:lnTo>
                      <a:pt x="2982" y="2274"/>
                    </a:lnTo>
                    <a:lnTo>
                      <a:pt x="2904" y="2274"/>
                    </a:lnTo>
                    <a:lnTo>
                      <a:pt x="2820" y="2268"/>
                    </a:lnTo>
                    <a:lnTo>
                      <a:pt x="2736" y="2268"/>
                    </a:lnTo>
                    <a:lnTo>
                      <a:pt x="2652" y="2268"/>
                    </a:lnTo>
                    <a:lnTo>
                      <a:pt x="2568" y="2268"/>
                    </a:lnTo>
                    <a:lnTo>
                      <a:pt x="2490" y="2262"/>
                    </a:lnTo>
                    <a:lnTo>
                      <a:pt x="2406" y="2256"/>
                    </a:lnTo>
                    <a:lnTo>
                      <a:pt x="2322" y="2244"/>
                    </a:lnTo>
                    <a:lnTo>
                      <a:pt x="2238" y="2226"/>
                    </a:lnTo>
                    <a:lnTo>
                      <a:pt x="2154" y="2208"/>
                    </a:lnTo>
                    <a:lnTo>
                      <a:pt x="2070" y="2178"/>
                    </a:lnTo>
                    <a:lnTo>
                      <a:pt x="1992" y="2136"/>
                    </a:lnTo>
                    <a:lnTo>
                      <a:pt x="1908" y="2076"/>
                    </a:lnTo>
                    <a:lnTo>
                      <a:pt x="1824" y="1980"/>
                    </a:lnTo>
                    <a:lnTo>
                      <a:pt x="1740" y="1812"/>
                    </a:lnTo>
                    <a:lnTo>
                      <a:pt x="1656" y="1602"/>
                    </a:lnTo>
                    <a:lnTo>
                      <a:pt x="1578" y="1068"/>
                    </a:lnTo>
                    <a:lnTo>
                      <a:pt x="1494" y="792"/>
                    </a:lnTo>
                    <a:lnTo>
                      <a:pt x="1410" y="1002"/>
                    </a:lnTo>
                    <a:lnTo>
                      <a:pt x="1326" y="1014"/>
                    </a:lnTo>
                    <a:lnTo>
                      <a:pt x="1242" y="1002"/>
                    </a:lnTo>
                    <a:lnTo>
                      <a:pt x="1158" y="696"/>
                    </a:lnTo>
                    <a:lnTo>
                      <a:pt x="1080" y="498"/>
                    </a:lnTo>
                    <a:lnTo>
                      <a:pt x="996" y="570"/>
                    </a:lnTo>
                    <a:lnTo>
                      <a:pt x="912" y="414"/>
                    </a:lnTo>
                    <a:lnTo>
                      <a:pt x="828" y="312"/>
                    </a:lnTo>
                    <a:lnTo>
                      <a:pt x="744" y="450"/>
                    </a:lnTo>
                    <a:lnTo>
                      <a:pt x="666" y="732"/>
                    </a:lnTo>
                    <a:lnTo>
                      <a:pt x="582" y="732"/>
                    </a:lnTo>
                    <a:lnTo>
                      <a:pt x="498" y="270"/>
                    </a:lnTo>
                    <a:lnTo>
                      <a:pt x="414" y="396"/>
                    </a:lnTo>
                    <a:lnTo>
                      <a:pt x="330" y="0"/>
                    </a:lnTo>
                    <a:lnTo>
                      <a:pt x="246" y="96"/>
                    </a:lnTo>
                    <a:lnTo>
                      <a:pt x="168" y="330"/>
                    </a:lnTo>
                    <a:lnTo>
                      <a:pt x="84" y="852"/>
                    </a:lnTo>
                    <a:lnTo>
                      <a:pt x="0" y="18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800360" y="1952640"/>
                <a:ext cx="5790960" cy="3610080"/>
              </a:xfrm>
              <a:custGeom>
                <a:avLst/>
                <a:gdLst/>
                <a:ahLst/>
                <a:rect l="l" t="t" r="r" b="b"/>
                <a:pathLst>
                  <a:path w="3648" h="2274">
                    <a:moveTo>
                      <a:pt x="0" y="1830"/>
                    </a:moveTo>
                    <a:lnTo>
                      <a:pt x="0" y="1830"/>
                    </a:lnTo>
                    <a:lnTo>
                      <a:pt x="84" y="852"/>
                    </a:lnTo>
                    <a:lnTo>
                      <a:pt x="168" y="330"/>
                    </a:lnTo>
                    <a:lnTo>
                      <a:pt x="246" y="96"/>
                    </a:lnTo>
                    <a:lnTo>
                      <a:pt x="330" y="0"/>
                    </a:lnTo>
                    <a:lnTo>
                      <a:pt x="414" y="396"/>
                    </a:lnTo>
                    <a:lnTo>
                      <a:pt x="498" y="270"/>
                    </a:lnTo>
                    <a:lnTo>
                      <a:pt x="582" y="732"/>
                    </a:lnTo>
                    <a:lnTo>
                      <a:pt x="666" y="732"/>
                    </a:lnTo>
                    <a:lnTo>
                      <a:pt x="744" y="450"/>
                    </a:lnTo>
                    <a:lnTo>
                      <a:pt x="828" y="312"/>
                    </a:lnTo>
                    <a:lnTo>
                      <a:pt x="912" y="414"/>
                    </a:lnTo>
                    <a:lnTo>
                      <a:pt x="996" y="570"/>
                    </a:lnTo>
                    <a:lnTo>
                      <a:pt x="1080" y="498"/>
                    </a:lnTo>
                    <a:lnTo>
                      <a:pt x="1158" y="696"/>
                    </a:lnTo>
                    <a:lnTo>
                      <a:pt x="1242" y="1002"/>
                    </a:lnTo>
                    <a:lnTo>
                      <a:pt x="1326" y="1014"/>
                    </a:lnTo>
                    <a:lnTo>
                      <a:pt x="1410" y="1002"/>
                    </a:lnTo>
                    <a:lnTo>
                      <a:pt x="1494" y="792"/>
                    </a:lnTo>
                    <a:lnTo>
                      <a:pt x="1578" y="768"/>
                    </a:lnTo>
                    <a:lnTo>
                      <a:pt x="1656" y="864"/>
                    </a:lnTo>
                    <a:lnTo>
                      <a:pt x="1740" y="1212"/>
                    </a:lnTo>
                    <a:lnTo>
                      <a:pt x="1824" y="1668"/>
                    </a:lnTo>
                    <a:lnTo>
                      <a:pt x="1908" y="1914"/>
                    </a:lnTo>
                    <a:lnTo>
                      <a:pt x="1992" y="2052"/>
                    </a:lnTo>
                    <a:lnTo>
                      <a:pt x="2070" y="2130"/>
                    </a:lnTo>
                    <a:lnTo>
                      <a:pt x="2154" y="2184"/>
                    </a:lnTo>
                    <a:lnTo>
                      <a:pt x="2238" y="2214"/>
                    </a:lnTo>
                    <a:lnTo>
                      <a:pt x="2322" y="2238"/>
                    </a:lnTo>
                    <a:lnTo>
                      <a:pt x="2406" y="2250"/>
                    </a:lnTo>
                    <a:lnTo>
                      <a:pt x="2490" y="2262"/>
                    </a:lnTo>
                    <a:lnTo>
                      <a:pt x="2568" y="2268"/>
                    </a:lnTo>
                    <a:lnTo>
                      <a:pt x="2652" y="2268"/>
                    </a:lnTo>
                    <a:lnTo>
                      <a:pt x="2736" y="2268"/>
                    </a:lnTo>
                    <a:lnTo>
                      <a:pt x="2820" y="2268"/>
                    </a:lnTo>
                    <a:lnTo>
                      <a:pt x="2904" y="2274"/>
                    </a:lnTo>
                    <a:lnTo>
                      <a:pt x="2982" y="2274"/>
                    </a:lnTo>
                    <a:lnTo>
                      <a:pt x="3066" y="2274"/>
                    </a:lnTo>
                    <a:lnTo>
                      <a:pt x="3150" y="2274"/>
                    </a:lnTo>
                    <a:lnTo>
                      <a:pt x="3234" y="2274"/>
                    </a:lnTo>
                    <a:lnTo>
                      <a:pt x="3318" y="2274"/>
                    </a:lnTo>
                    <a:lnTo>
                      <a:pt x="3402" y="2274"/>
                    </a:lnTo>
                    <a:lnTo>
                      <a:pt x="3480" y="2274"/>
                    </a:lnTo>
                    <a:lnTo>
                      <a:pt x="3564" y="2274"/>
                    </a:lnTo>
                    <a:lnTo>
                      <a:pt x="3648" y="2274"/>
                    </a:lnTo>
                    <a:lnTo>
                      <a:pt x="3648" y="2274"/>
                    </a:lnTo>
                    <a:lnTo>
                      <a:pt x="3564" y="2274"/>
                    </a:lnTo>
                    <a:lnTo>
                      <a:pt x="3480" y="2274"/>
                    </a:lnTo>
                    <a:lnTo>
                      <a:pt x="3402" y="2274"/>
                    </a:lnTo>
                    <a:lnTo>
                      <a:pt x="3318" y="2274"/>
                    </a:lnTo>
                    <a:lnTo>
                      <a:pt x="3234" y="2274"/>
                    </a:lnTo>
                    <a:lnTo>
                      <a:pt x="3150" y="2274"/>
                    </a:lnTo>
                    <a:lnTo>
                      <a:pt x="3066" y="2274"/>
                    </a:lnTo>
                    <a:lnTo>
                      <a:pt x="2982" y="2274"/>
                    </a:lnTo>
                    <a:lnTo>
                      <a:pt x="2904" y="2274"/>
                    </a:lnTo>
                    <a:lnTo>
                      <a:pt x="2820" y="2268"/>
                    </a:lnTo>
                    <a:lnTo>
                      <a:pt x="2736" y="2268"/>
                    </a:lnTo>
                    <a:lnTo>
                      <a:pt x="2652" y="2268"/>
                    </a:lnTo>
                    <a:lnTo>
                      <a:pt x="2568" y="2268"/>
                    </a:lnTo>
                    <a:lnTo>
                      <a:pt x="2490" y="2262"/>
                    </a:lnTo>
                    <a:lnTo>
                      <a:pt x="2406" y="2256"/>
                    </a:lnTo>
                    <a:lnTo>
                      <a:pt x="2322" y="2238"/>
                    </a:lnTo>
                    <a:lnTo>
                      <a:pt x="2238" y="2220"/>
                    </a:lnTo>
                    <a:lnTo>
                      <a:pt x="2154" y="2196"/>
                    </a:lnTo>
                    <a:lnTo>
                      <a:pt x="2070" y="2154"/>
                    </a:lnTo>
                    <a:lnTo>
                      <a:pt x="1992" y="2100"/>
                    </a:lnTo>
                    <a:lnTo>
                      <a:pt x="1908" y="2010"/>
                    </a:lnTo>
                    <a:lnTo>
                      <a:pt x="1824" y="1866"/>
                    </a:lnTo>
                    <a:lnTo>
                      <a:pt x="1740" y="1590"/>
                    </a:lnTo>
                    <a:lnTo>
                      <a:pt x="1656" y="1164"/>
                    </a:lnTo>
                    <a:lnTo>
                      <a:pt x="1578" y="768"/>
                    </a:lnTo>
                    <a:lnTo>
                      <a:pt x="1494" y="792"/>
                    </a:lnTo>
                    <a:lnTo>
                      <a:pt x="1410" y="1002"/>
                    </a:lnTo>
                    <a:lnTo>
                      <a:pt x="1326" y="1014"/>
                    </a:lnTo>
                    <a:lnTo>
                      <a:pt x="1242" y="1002"/>
                    </a:lnTo>
                    <a:lnTo>
                      <a:pt x="1158" y="696"/>
                    </a:lnTo>
                    <a:lnTo>
                      <a:pt x="1080" y="498"/>
                    </a:lnTo>
                    <a:lnTo>
                      <a:pt x="996" y="570"/>
                    </a:lnTo>
                    <a:lnTo>
                      <a:pt x="912" y="414"/>
                    </a:lnTo>
                    <a:lnTo>
                      <a:pt x="828" y="312"/>
                    </a:lnTo>
                    <a:lnTo>
                      <a:pt x="744" y="450"/>
                    </a:lnTo>
                    <a:lnTo>
                      <a:pt x="666" y="732"/>
                    </a:lnTo>
                    <a:lnTo>
                      <a:pt x="582" y="732"/>
                    </a:lnTo>
                    <a:lnTo>
                      <a:pt x="498" y="270"/>
                    </a:lnTo>
                    <a:lnTo>
                      <a:pt x="414" y="396"/>
                    </a:lnTo>
                    <a:lnTo>
                      <a:pt x="330" y="0"/>
                    </a:lnTo>
                    <a:lnTo>
                      <a:pt x="246" y="96"/>
                    </a:lnTo>
                    <a:lnTo>
                      <a:pt x="168" y="330"/>
                    </a:lnTo>
                    <a:lnTo>
                      <a:pt x="84" y="852"/>
                    </a:lnTo>
                    <a:lnTo>
                      <a:pt x="0" y="18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800360" y="1952640"/>
                <a:ext cx="5790960" cy="3610080"/>
              </a:xfrm>
              <a:custGeom>
                <a:avLst/>
                <a:gdLst/>
                <a:ahLst/>
                <a:rect l="l" t="t" r="r" b="b"/>
                <a:pathLst>
                  <a:path w="3648" h="2274">
                    <a:moveTo>
                      <a:pt x="0" y="1830"/>
                    </a:moveTo>
                    <a:lnTo>
                      <a:pt x="0" y="1830"/>
                    </a:lnTo>
                    <a:lnTo>
                      <a:pt x="84" y="852"/>
                    </a:lnTo>
                    <a:lnTo>
                      <a:pt x="168" y="330"/>
                    </a:lnTo>
                    <a:lnTo>
                      <a:pt x="246" y="96"/>
                    </a:lnTo>
                    <a:lnTo>
                      <a:pt x="330" y="0"/>
                    </a:lnTo>
                    <a:lnTo>
                      <a:pt x="414" y="396"/>
                    </a:lnTo>
                    <a:lnTo>
                      <a:pt x="498" y="270"/>
                    </a:lnTo>
                    <a:lnTo>
                      <a:pt x="582" y="732"/>
                    </a:lnTo>
                    <a:lnTo>
                      <a:pt x="666" y="732"/>
                    </a:lnTo>
                    <a:lnTo>
                      <a:pt x="744" y="450"/>
                    </a:lnTo>
                    <a:lnTo>
                      <a:pt x="828" y="312"/>
                    </a:lnTo>
                    <a:lnTo>
                      <a:pt x="912" y="414"/>
                    </a:lnTo>
                    <a:lnTo>
                      <a:pt x="996" y="570"/>
                    </a:lnTo>
                    <a:lnTo>
                      <a:pt x="1080" y="498"/>
                    </a:lnTo>
                    <a:lnTo>
                      <a:pt x="1158" y="696"/>
                    </a:lnTo>
                    <a:lnTo>
                      <a:pt x="1242" y="1002"/>
                    </a:lnTo>
                    <a:lnTo>
                      <a:pt x="1326" y="1014"/>
                    </a:lnTo>
                    <a:lnTo>
                      <a:pt x="1410" y="1002"/>
                    </a:lnTo>
                    <a:lnTo>
                      <a:pt x="1494" y="792"/>
                    </a:lnTo>
                    <a:lnTo>
                      <a:pt x="1578" y="768"/>
                    </a:lnTo>
                    <a:lnTo>
                      <a:pt x="1656" y="864"/>
                    </a:lnTo>
                    <a:lnTo>
                      <a:pt x="1740" y="1038"/>
                    </a:lnTo>
                    <a:lnTo>
                      <a:pt x="1824" y="1422"/>
                    </a:lnTo>
                    <a:lnTo>
                      <a:pt x="1908" y="1866"/>
                    </a:lnTo>
                    <a:lnTo>
                      <a:pt x="1992" y="2040"/>
                    </a:lnTo>
                    <a:lnTo>
                      <a:pt x="2070" y="2130"/>
                    </a:lnTo>
                    <a:lnTo>
                      <a:pt x="2154" y="2184"/>
                    </a:lnTo>
                    <a:lnTo>
                      <a:pt x="2238" y="2214"/>
                    </a:lnTo>
                    <a:lnTo>
                      <a:pt x="2322" y="2238"/>
                    </a:lnTo>
                    <a:lnTo>
                      <a:pt x="2406" y="2250"/>
                    </a:lnTo>
                    <a:lnTo>
                      <a:pt x="2490" y="2262"/>
                    </a:lnTo>
                    <a:lnTo>
                      <a:pt x="2568" y="2268"/>
                    </a:lnTo>
                    <a:lnTo>
                      <a:pt x="2652" y="2268"/>
                    </a:lnTo>
                    <a:lnTo>
                      <a:pt x="2736" y="2268"/>
                    </a:lnTo>
                    <a:lnTo>
                      <a:pt x="2820" y="2268"/>
                    </a:lnTo>
                    <a:lnTo>
                      <a:pt x="2904" y="2274"/>
                    </a:lnTo>
                    <a:lnTo>
                      <a:pt x="2982" y="2274"/>
                    </a:lnTo>
                    <a:lnTo>
                      <a:pt x="3066" y="2274"/>
                    </a:lnTo>
                    <a:lnTo>
                      <a:pt x="3150" y="2274"/>
                    </a:lnTo>
                    <a:lnTo>
                      <a:pt x="3234" y="2274"/>
                    </a:lnTo>
                    <a:lnTo>
                      <a:pt x="3318" y="2274"/>
                    </a:lnTo>
                    <a:lnTo>
                      <a:pt x="3402" y="2274"/>
                    </a:lnTo>
                    <a:lnTo>
                      <a:pt x="3480" y="2274"/>
                    </a:lnTo>
                    <a:lnTo>
                      <a:pt x="3564" y="2274"/>
                    </a:lnTo>
                    <a:lnTo>
                      <a:pt x="3648" y="2274"/>
                    </a:lnTo>
                    <a:lnTo>
                      <a:pt x="3648" y="2274"/>
                    </a:lnTo>
                    <a:lnTo>
                      <a:pt x="3564" y="2274"/>
                    </a:lnTo>
                    <a:lnTo>
                      <a:pt x="3480" y="2274"/>
                    </a:lnTo>
                    <a:lnTo>
                      <a:pt x="3402" y="2274"/>
                    </a:lnTo>
                    <a:lnTo>
                      <a:pt x="3318" y="2274"/>
                    </a:lnTo>
                    <a:lnTo>
                      <a:pt x="3234" y="2274"/>
                    </a:lnTo>
                    <a:lnTo>
                      <a:pt x="3150" y="2274"/>
                    </a:lnTo>
                    <a:lnTo>
                      <a:pt x="3066" y="2274"/>
                    </a:lnTo>
                    <a:lnTo>
                      <a:pt x="2982" y="2274"/>
                    </a:lnTo>
                    <a:lnTo>
                      <a:pt x="2904" y="2274"/>
                    </a:lnTo>
                    <a:lnTo>
                      <a:pt x="2820" y="2268"/>
                    </a:lnTo>
                    <a:lnTo>
                      <a:pt x="2736" y="2268"/>
                    </a:lnTo>
                    <a:lnTo>
                      <a:pt x="2652" y="2268"/>
                    </a:lnTo>
                    <a:lnTo>
                      <a:pt x="2568" y="2268"/>
                    </a:lnTo>
                    <a:lnTo>
                      <a:pt x="2490" y="2262"/>
                    </a:lnTo>
                    <a:lnTo>
                      <a:pt x="2406" y="2250"/>
                    </a:lnTo>
                    <a:lnTo>
                      <a:pt x="2322" y="2238"/>
                    </a:lnTo>
                    <a:lnTo>
                      <a:pt x="2238" y="2214"/>
                    </a:lnTo>
                    <a:lnTo>
                      <a:pt x="2154" y="2184"/>
                    </a:lnTo>
                    <a:lnTo>
                      <a:pt x="2070" y="2130"/>
                    </a:lnTo>
                    <a:lnTo>
                      <a:pt x="1992" y="2052"/>
                    </a:lnTo>
                    <a:lnTo>
                      <a:pt x="1908" y="1914"/>
                    </a:lnTo>
                    <a:lnTo>
                      <a:pt x="1824" y="1668"/>
                    </a:lnTo>
                    <a:lnTo>
                      <a:pt x="1740" y="1212"/>
                    </a:lnTo>
                    <a:lnTo>
                      <a:pt x="1656" y="864"/>
                    </a:lnTo>
                    <a:lnTo>
                      <a:pt x="1578" y="768"/>
                    </a:lnTo>
                    <a:lnTo>
                      <a:pt x="1494" y="792"/>
                    </a:lnTo>
                    <a:lnTo>
                      <a:pt x="1410" y="1002"/>
                    </a:lnTo>
                    <a:lnTo>
                      <a:pt x="1326" y="1014"/>
                    </a:lnTo>
                    <a:lnTo>
                      <a:pt x="1242" y="1002"/>
                    </a:lnTo>
                    <a:lnTo>
                      <a:pt x="1158" y="696"/>
                    </a:lnTo>
                    <a:lnTo>
                      <a:pt x="1080" y="498"/>
                    </a:lnTo>
                    <a:lnTo>
                      <a:pt x="996" y="570"/>
                    </a:lnTo>
                    <a:lnTo>
                      <a:pt x="912" y="414"/>
                    </a:lnTo>
                    <a:lnTo>
                      <a:pt x="828" y="312"/>
                    </a:lnTo>
                    <a:lnTo>
                      <a:pt x="744" y="450"/>
                    </a:lnTo>
                    <a:lnTo>
                      <a:pt x="666" y="732"/>
                    </a:lnTo>
                    <a:lnTo>
                      <a:pt x="582" y="732"/>
                    </a:lnTo>
                    <a:lnTo>
                      <a:pt x="498" y="270"/>
                    </a:lnTo>
                    <a:lnTo>
                      <a:pt x="414" y="396"/>
                    </a:lnTo>
                    <a:lnTo>
                      <a:pt x="330" y="0"/>
                    </a:lnTo>
                    <a:lnTo>
                      <a:pt x="246" y="96"/>
                    </a:lnTo>
                    <a:lnTo>
                      <a:pt x="168" y="330"/>
                    </a:lnTo>
                    <a:lnTo>
                      <a:pt x="84" y="852"/>
                    </a:lnTo>
                    <a:lnTo>
                      <a:pt x="0" y="18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800360" y="1952640"/>
                <a:ext cx="5790960" cy="3610080"/>
              </a:xfrm>
              <a:custGeom>
                <a:avLst/>
                <a:gdLst/>
                <a:ahLst/>
                <a:rect l="l" t="t" r="r" b="b"/>
                <a:pathLst>
                  <a:path w="3648" h="2274">
                    <a:moveTo>
                      <a:pt x="0" y="1830"/>
                    </a:moveTo>
                    <a:lnTo>
                      <a:pt x="0" y="1830"/>
                    </a:lnTo>
                    <a:lnTo>
                      <a:pt x="84" y="852"/>
                    </a:lnTo>
                    <a:lnTo>
                      <a:pt x="168" y="330"/>
                    </a:lnTo>
                    <a:lnTo>
                      <a:pt x="246" y="96"/>
                    </a:lnTo>
                    <a:lnTo>
                      <a:pt x="330" y="0"/>
                    </a:lnTo>
                    <a:lnTo>
                      <a:pt x="414" y="396"/>
                    </a:lnTo>
                    <a:lnTo>
                      <a:pt x="498" y="270"/>
                    </a:lnTo>
                    <a:lnTo>
                      <a:pt x="582" y="732"/>
                    </a:lnTo>
                    <a:lnTo>
                      <a:pt x="666" y="732"/>
                    </a:lnTo>
                    <a:lnTo>
                      <a:pt x="744" y="450"/>
                    </a:lnTo>
                    <a:lnTo>
                      <a:pt x="828" y="312"/>
                    </a:lnTo>
                    <a:lnTo>
                      <a:pt x="912" y="414"/>
                    </a:lnTo>
                    <a:lnTo>
                      <a:pt x="996" y="570"/>
                    </a:lnTo>
                    <a:lnTo>
                      <a:pt x="1080" y="498"/>
                    </a:lnTo>
                    <a:lnTo>
                      <a:pt x="1158" y="696"/>
                    </a:lnTo>
                    <a:lnTo>
                      <a:pt x="1242" y="1002"/>
                    </a:lnTo>
                    <a:lnTo>
                      <a:pt x="1326" y="1014"/>
                    </a:lnTo>
                    <a:lnTo>
                      <a:pt x="1410" y="1002"/>
                    </a:lnTo>
                    <a:lnTo>
                      <a:pt x="1494" y="792"/>
                    </a:lnTo>
                    <a:lnTo>
                      <a:pt x="1578" y="768"/>
                    </a:lnTo>
                    <a:lnTo>
                      <a:pt x="1656" y="864"/>
                    </a:lnTo>
                    <a:lnTo>
                      <a:pt x="1740" y="1038"/>
                    </a:lnTo>
                    <a:lnTo>
                      <a:pt x="1824" y="1146"/>
                    </a:lnTo>
                    <a:lnTo>
                      <a:pt x="1908" y="1608"/>
                    </a:lnTo>
                    <a:lnTo>
                      <a:pt x="1992" y="1974"/>
                    </a:lnTo>
                    <a:lnTo>
                      <a:pt x="2070" y="2112"/>
                    </a:lnTo>
                    <a:lnTo>
                      <a:pt x="2154" y="2178"/>
                    </a:lnTo>
                    <a:lnTo>
                      <a:pt x="2238" y="2214"/>
                    </a:lnTo>
                    <a:lnTo>
                      <a:pt x="2322" y="2238"/>
                    </a:lnTo>
                    <a:lnTo>
                      <a:pt x="2406" y="2250"/>
                    </a:lnTo>
                    <a:lnTo>
                      <a:pt x="2490" y="2262"/>
                    </a:lnTo>
                    <a:lnTo>
                      <a:pt x="2568" y="2268"/>
                    </a:lnTo>
                    <a:lnTo>
                      <a:pt x="2652" y="2268"/>
                    </a:lnTo>
                    <a:lnTo>
                      <a:pt x="2736" y="2268"/>
                    </a:lnTo>
                    <a:lnTo>
                      <a:pt x="2820" y="2268"/>
                    </a:lnTo>
                    <a:lnTo>
                      <a:pt x="2904" y="2274"/>
                    </a:lnTo>
                    <a:lnTo>
                      <a:pt x="2982" y="2274"/>
                    </a:lnTo>
                    <a:lnTo>
                      <a:pt x="3066" y="2274"/>
                    </a:lnTo>
                    <a:lnTo>
                      <a:pt x="3150" y="2274"/>
                    </a:lnTo>
                    <a:lnTo>
                      <a:pt x="3234" y="2274"/>
                    </a:lnTo>
                    <a:lnTo>
                      <a:pt x="3318" y="2274"/>
                    </a:lnTo>
                    <a:lnTo>
                      <a:pt x="3402" y="2274"/>
                    </a:lnTo>
                    <a:lnTo>
                      <a:pt x="3480" y="2274"/>
                    </a:lnTo>
                    <a:lnTo>
                      <a:pt x="3564" y="2274"/>
                    </a:lnTo>
                    <a:lnTo>
                      <a:pt x="3648" y="2274"/>
                    </a:lnTo>
                    <a:lnTo>
                      <a:pt x="3648" y="2274"/>
                    </a:lnTo>
                    <a:lnTo>
                      <a:pt x="3564" y="2274"/>
                    </a:lnTo>
                    <a:lnTo>
                      <a:pt x="3480" y="2274"/>
                    </a:lnTo>
                    <a:lnTo>
                      <a:pt x="3402" y="2274"/>
                    </a:lnTo>
                    <a:lnTo>
                      <a:pt x="3318" y="2274"/>
                    </a:lnTo>
                    <a:lnTo>
                      <a:pt x="3234" y="2274"/>
                    </a:lnTo>
                    <a:lnTo>
                      <a:pt x="3150" y="2274"/>
                    </a:lnTo>
                    <a:lnTo>
                      <a:pt x="3066" y="2274"/>
                    </a:lnTo>
                    <a:lnTo>
                      <a:pt x="2982" y="2274"/>
                    </a:lnTo>
                    <a:lnTo>
                      <a:pt x="2904" y="2274"/>
                    </a:lnTo>
                    <a:lnTo>
                      <a:pt x="2820" y="2268"/>
                    </a:lnTo>
                    <a:lnTo>
                      <a:pt x="2736" y="2268"/>
                    </a:lnTo>
                    <a:lnTo>
                      <a:pt x="2652" y="2268"/>
                    </a:lnTo>
                    <a:lnTo>
                      <a:pt x="2568" y="2268"/>
                    </a:lnTo>
                    <a:lnTo>
                      <a:pt x="2490" y="2262"/>
                    </a:lnTo>
                    <a:lnTo>
                      <a:pt x="2406" y="2250"/>
                    </a:lnTo>
                    <a:lnTo>
                      <a:pt x="2322" y="2238"/>
                    </a:lnTo>
                    <a:lnTo>
                      <a:pt x="2238" y="2214"/>
                    </a:lnTo>
                    <a:lnTo>
                      <a:pt x="2154" y="2184"/>
                    </a:lnTo>
                    <a:lnTo>
                      <a:pt x="2070" y="2130"/>
                    </a:lnTo>
                    <a:lnTo>
                      <a:pt x="1992" y="2040"/>
                    </a:lnTo>
                    <a:lnTo>
                      <a:pt x="1908" y="1866"/>
                    </a:lnTo>
                    <a:lnTo>
                      <a:pt x="1824" y="1422"/>
                    </a:lnTo>
                    <a:lnTo>
                      <a:pt x="1740" y="1038"/>
                    </a:lnTo>
                    <a:lnTo>
                      <a:pt x="1656" y="864"/>
                    </a:lnTo>
                    <a:lnTo>
                      <a:pt x="1578" y="768"/>
                    </a:lnTo>
                    <a:lnTo>
                      <a:pt x="1494" y="792"/>
                    </a:lnTo>
                    <a:lnTo>
                      <a:pt x="1410" y="1002"/>
                    </a:lnTo>
                    <a:lnTo>
                      <a:pt x="1326" y="1014"/>
                    </a:lnTo>
                    <a:lnTo>
                      <a:pt x="1242" y="1002"/>
                    </a:lnTo>
                    <a:lnTo>
                      <a:pt x="1158" y="696"/>
                    </a:lnTo>
                    <a:lnTo>
                      <a:pt x="1080" y="498"/>
                    </a:lnTo>
                    <a:lnTo>
                      <a:pt x="996" y="570"/>
                    </a:lnTo>
                    <a:lnTo>
                      <a:pt x="912" y="414"/>
                    </a:lnTo>
                    <a:lnTo>
                      <a:pt x="828" y="312"/>
                    </a:lnTo>
                    <a:lnTo>
                      <a:pt x="744" y="450"/>
                    </a:lnTo>
                    <a:lnTo>
                      <a:pt x="666" y="732"/>
                    </a:lnTo>
                    <a:lnTo>
                      <a:pt x="582" y="732"/>
                    </a:lnTo>
                    <a:lnTo>
                      <a:pt x="498" y="270"/>
                    </a:lnTo>
                    <a:lnTo>
                      <a:pt x="414" y="396"/>
                    </a:lnTo>
                    <a:lnTo>
                      <a:pt x="330" y="0"/>
                    </a:lnTo>
                    <a:lnTo>
                      <a:pt x="246" y="96"/>
                    </a:lnTo>
                    <a:lnTo>
                      <a:pt x="168" y="330"/>
                    </a:lnTo>
                    <a:lnTo>
                      <a:pt x="84" y="852"/>
                    </a:lnTo>
                    <a:lnTo>
                      <a:pt x="0" y="18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800360" y="1952640"/>
                <a:ext cx="5790960" cy="3610080"/>
              </a:xfrm>
              <a:custGeom>
                <a:avLst/>
                <a:gdLst/>
                <a:ahLst/>
                <a:rect l="l" t="t" r="r" b="b"/>
                <a:pathLst>
                  <a:path w="3648" h="2274">
                    <a:moveTo>
                      <a:pt x="0" y="1830"/>
                    </a:moveTo>
                    <a:lnTo>
                      <a:pt x="0" y="1830"/>
                    </a:lnTo>
                    <a:lnTo>
                      <a:pt x="84" y="852"/>
                    </a:lnTo>
                    <a:lnTo>
                      <a:pt x="168" y="330"/>
                    </a:lnTo>
                    <a:lnTo>
                      <a:pt x="246" y="96"/>
                    </a:lnTo>
                    <a:lnTo>
                      <a:pt x="330" y="0"/>
                    </a:lnTo>
                    <a:lnTo>
                      <a:pt x="414" y="396"/>
                    </a:lnTo>
                    <a:lnTo>
                      <a:pt x="498" y="270"/>
                    </a:lnTo>
                    <a:lnTo>
                      <a:pt x="582" y="732"/>
                    </a:lnTo>
                    <a:lnTo>
                      <a:pt x="666" y="732"/>
                    </a:lnTo>
                    <a:lnTo>
                      <a:pt x="744" y="450"/>
                    </a:lnTo>
                    <a:lnTo>
                      <a:pt x="828" y="312"/>
                    </a:lnTo>
                    <a:lnTo>
                      <a:pt x="912" y="414"/>
                    </a:lnTo>
                    <a:lnTo>
                      <a:pt x="996" y="570"/>
                    </a:lnTo>
                    <a:lnTo>
                      <a:pt x="1080" y="498"/>
                    </a:lnTo>
                    <a:lnTo>
                      <a:pt x="1158" y="696"/>
                    </a:lnTo>
                    <a:lnTo>
                      <a:pt x="1242" y="1002"/>
                    </a:lnTo>
                    <a:lnTo>
                      <a:pt x="1326" y="1014"/>
                    </a:lnTo>
                    <a:lnTo>
                      <a:pt x="1410" y="1002"/>
                    </a:lnTo>
                    <a:lnTo>
                      <a:pt x="1494" y="792"/>
                    </a:lnTo>
                    <a:lnTo>
                      <a:pt x="1578" y="768"/>
                    </a:lnTo>
                    <a:lnTo>
                      <a:pt x="1656" y="864"/>
                    </a:lnTo>
                    <a:lnTo>
                      <a:pt x="1740" y="1038"/>
                    </a:lnTo>
                    <a:lnTo>
                      <a:pt x="1824" y="1146"/>
                    </a:lnTo>
                    <a:lnTo>
                      <a:pt x="1908" y="1320"/>
                    </a:lnTo>
                    <a:lnTo>
                      <a:pt x="1992" y="1710"/>
                    </a:lnTo>
                    <a:lnTo>
                      <a:pt x="2070" y="2028"/>
                    </a:lnTo>
                    <a:lnTo>
                      <a:pt x="2154" y="2148"/>
                    </a:lnTo>
                    <a:lnTo>
                      <a:pt x="2238" y="2202"/>
                    </a:lnTo>
                    <a:lnTo>
                      <a:pt x="2322" y="2232"/>
                    </a:lnTo>
                    <a:lnTo>
                      <a:pt x="2406" y="2250"/>
                    </a:lnTo>
                    <a:lnTo>
                      <a:pt x="2490" y="2262"/>
                    </a:lnTo>
                    <a:lnTo>
                      <a:pt x="2568" y="2268"/>
                    </a:lnTo>
                    <a:lnTo>
                      <a:pt x="2652" y="2268"/>
                    </a:lnTo>
                    <a:lnTo>
                      <a:pt x="2736" y="2268"/>
                    </a:lnTo>
                    <a:lnTo>
                      <a:pt x="2820" y="2268"/>
                    </a:lnTo>
                    <a:lnTo>
                      <a:pt x="2904" y="2274"/>
                    </a:lnTo>
                    <a:lnTo>
                      <a:pt x="2982" y="2274"/>
                    </a:lnTo>
                    <a:lnTo>
                      <a:pt x="3066" y="2274"/>
                    </a:lnTo>
                    <a:lnTo>
                      <a:pt x="3150" y="2274"/>
                    </a:lnTo>
                    <a:lnTo>
                      <a:pt x="3234" y="2274"/>
                    </a:lnTo>
                    <a:lnTo>
                      <a:pt x="3318" y="2274"/>
                    </a:lnTo>
                    <a:lnTo>
                      <a:pt x="3402" y="2274"/>
                    </a:lnTo>
                    <a:lnTo>
                      <a:pt x="3480" y="2274"/>
                    </a:lnTo>
                    <a:lnTo>
                      <a:pt x="3564" y="2274"/>
                    </a:lnTo>
                    <a:lnTo>
                      <a:pt x="3648" y="2274"/>
                    </a:lnTo>
                    <a:lnTo>
                      <a:pt x="3648" y="2274"/>
                    </a:lnTo>
                    <a:lnTo>
                      <a:pt x="3564" y="2274"/>
                    </a:lnTo>
                    <a:lnTo>
                      <a:pt x="3480" y="2274"/>
                    </a:lnTo>
                    <a:lnTo>
                      <a:pt x="3402" y="2274"/>
                    </a:lnTo>
                    <a:lnTo>
                      <a:pt x="3318" y="2274"/>
                    </a:lnTo>
                    <a:lnTo>
                      <a:pt x="3234" y="2274"/>
                    </a:lnTo>
                    <a:lnTo>
                      <a:pt x="3150" y="2274"/>
                    </a:lnTo>
                    <a:lnTo>
                      <a:pt x="3066" y="2274"/>
                    </a:lnTo>
                    <a:lnTo>
                      <a:pt x="2982" y="2274"/>
                    </a:lnTo>
                    <a:lnTo>
                      <a:pt x="2904" y="2274"/>
                    </a:lnTo>
                    <a:lnTo>
                      <a:pt x="2820" y="2268"/>
                    </a:lnTo>
                    <a:lnTo>
                      <a:pt x="2736" y="2268"/>
                    </a:lnTo>
                    <a:lnTo>
                      <a:pt x="2652" y="2268"/>
                    </a:lnTo>
                    <a:lnTo>
                      <a:pt x="2568" y="2268"/>
                    </a:lnTo>
                    <a:lnTo>
                      <a:pt x="2490" y="2262"/>
                    </a:lnTo>
                    <a:lnTo>
                      <a:pt x="2406" y="2250"/>
                    </a:lnTo>
                    <a:lnTo>
                      <a:pt x="2322" y="2238"/>
                    </a:lnTo>
                    <a:lnTo>
                      <a:pt x="2238" y="2214"/>
                    </a:lnTo>
                    <a:lnTo>
                      <a:pt x="2154" y="2178"/>
                    </a:lnTo>
                    <a:lnTo>
                      <a:pt x="2070" y="2112"/>
                    </a:lnTo>
                    <a:lnTo>
                      <a:pt x="1992" y="1974"/>
                    </a:lnTo>
                    <a:lnTo>
                      <a:pt x="1908" y="1608"/>
                    </a:lnTo>
                    <a:lnTo>
                      <a:pt x="1824" y="1146"/>
                    </a:lnTo>
                    <a:lnTo>
                      <a:pt x="1740" y="1038"/>
                    </a:lnTo>
                    <a:lnTo>
                      <a:pt x="1656" y="864"/>
                    </a:lnTo>
                    <a:lnTo>
                      <a:pt x="1578" y="768"/>
                    </a:lnTo>
                    <a:lnTo>
                      <a:pt x="1494" y="792"/>
                    </a:lnTo>
                    <a:lnTo>
                      <a:pt x="1410" y="1002"/>
                    </a:lnTo>
                    <a:lnTo>
                      <a:pt x="1326" y="1014"/>
                    </a:lnTo>
                    <a:lnTo>
                      <a:pt x="1242" y="1002"/>
                    </a:lnTo>
                    <a:lnTo>
                      <a:pt x="1158" y="696"/>
                    </a:lnTo>
                    <a:lnTo>
                      <a:pt x="1080" y="498"/>
                    </a:lnTo>
                    <a:lnTo>
                      <a:pt x="996" y="570"/>
                    </a:lnTo>
                    <a:lnTo>
                      <a:pt x="912" y="414"/>
                    </a:lnTo>
                    <a:lnTo>
                      <a:pt x="828" y="312"/>
                    </a:lnTo>
                    <a:lnTo>
                      <a:pt x="744" y="450"/>
                    </a:lnTo>
                    <a:lnTo>
                      <a:pt x="666" y="732"/>
                    </a:lnTo>
                    <a:lnTo>
                      <a:pt x="582" y="732"/>
                    </a:lnTo>
                    <a:lnTo>
                      <a:pt x="498" y="270"/>
                    </a:lnTo>
                    <a:lnTo>
                      <a:pt x="414" y="396"/>
                    </a:lnTo>
                    <a:lnTo>
                      <a:pt x="330" y="0"/>
                    </a:lnTo>
                    <a:lnTo>
                      <a:pt x="246" y="96"/>
                    </a:lnTo>
                    <a:lnTo>
                      <a:pt x="168" y="330"/>
                    </a:lnTo>
                    <a:lnTo>
                      <a:pt x="84" y="852"/>
                    </a:lnTo>
                    <a:lnTo>
                      <a:pt x="0" y="18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800360" y="1952640"/>
                <a:ext cx="5790960" cy="3610080"/>
              </a:xfrm>
              <a:custGeom>
                <a:avLst/>
                <a:gdLst/>
                <a:ahLst/>
                <a:rect l="l" t="t" r="r" b="b"/>
                <a:pathLst>
                  <a:path w="3648" h="2274">
                    <a:moveTo>
                      <a:pt x="0" y="1830"/>
                    </a:moveTo>
                    <a:lnTo>
                      <a:pt x="0" y="1830"/>
                    </a:lnTo>
                    <a:lnTo>
                      <a:pt x="84" y="852"/>
                    </a:lnTo>
                    <a:lnTo>
                      <a:pt x="168" y="330"/>
                    </a:lnTo>
                    <a:lnTo>
                      <a:pt x="246" y="96"/>
                    </a:lnTo>
                    <a:lnTo>
                      <a:pt x="330" y="0"/>
                    </a:lnTo>
                    <a:lnTo>
                      <a:pt x="414" y="396"/>
                    </a:lnTo>
                    <a:lnTo>
                      <a:pt x="498" y="270"/>
                    </a:lnTo>
                    <a:lnTo>
                      <a:pt x="582" y="732"/>
                    </a:lnTo>
                    <a:lnTo>
                      <a:pt x="666" y="732"/>
                    </a:lnTo>
                    <a:lnTo>
                      <a:pt x="744" y="450"/>
                    </a:lnTo>
                    <a:lnTo>
                      <a:pt x="828" y="312"/>
                    </a:lnTo>
                    <a:lnTo>
                      <a:pt x="912" y="414"/>
                    </a:lnTo>
                    <a:lnTo>
                      <a:pt x="996" y="570"/>
                    </a:lnTo>
                    <a:lnTo>
                      <a:pt x="1080" y="498"/>
                    </a:lnTo>
                    <a:lnTo>
                      <a:pt x="1158" y="696"/>
                    </a:lnTo>
                    <a:lnTo>
                      <a:pt x="1242" y="1002"/>
                    </a:lnTo>
                    <a:lnTo>
                      <a:pt x="1326" y="1014"/>
                    </a:lnTo>
                    <a:lnTo>
                      <a:pt x="1410" y="1002"/>
                    </a:lnTo>
                    <a:lnTo>
                      <a:pt x="1494" y="792"/>
                    </a:lnTo>
                    <a:lnTo>
                      <a:pt x="1578" y="768"/>
                    </a:lnTo>
                    <a:lnTo>
                      <a:pt x="1656" y="864"/>
                    </a:lnTo>
                    <a:lnTo>
                      <a:pt x="1740" y="1038"/>
                    </a:lnTo>
                    <a:lnTo>
                      <a:pt x="1824" y="1146"/>
                    </a:lnTo>
                    <a:lnTo>
                      <a:pt x="1908" y="1320"/>
                    </a:lnTo>
                    <a:lnTo>
                      <a:pt x="1992" y="1446"/>
                    </a:lnTo>
                    <a:lnTo>
                      <a:pt x="2070" y="1800"/>
                    </a:lnTo>
                    <a:lnTo>
                      <a:pt x="2154" y="2082"/>
                    </a:lnTo>
                    <a:lnTo>
                      <a:pt x="2238" y="2184"/>
                    </a:lnTo>
                    <a:lnTo>
                      <a:pt x="2322" y="2226"/>
                    </a:lnTo>
                    <a:lnTo>
                      <a:pt x="2406" y="2250"/>
                    </a:lnTo>
                    <a:lnTo>
                      <a:pt x="2490" y="2262"/>
                    </a:lnTo>
                    <a:lnTo>
                      <a:pt x="2568" y="2268"/>
                    </a:lnTo>
                    <a:lnTo>
                      <a:pt x="2652" y="2268"/>
                    </a:lnTo>
                    <a:lnTo>
                      <a:pt x="2736" y="2268"/>
                    </a:lnTo>
                    <a:lnTo>
                      <a:pt x="2820" y="2268"/>
                    </a:lnTo>
                    <a:lnTo>
                      <a:pt x="2904" y="2274"/>
                    </a:lnTo>
                    <a:lnTo>
                      <a:pt x="2982" y="2274"/>
                    </a:lnTo>
                    <a:lnTo>
                      <a:pt x="3066" y="2274"/>
                    </a:lnTo>
                    <a:lnTo>
                      <a:pt x="3150" y="2274"/>
                    </a:lnTo>
                    <a:lnTo>
                      <a:pt x="3234" y="2274"/>
                    </a:lnTo>
                    <a:lnTo>
                      <a:pt x="3318" y="2274"/>
                    </a:lnTo>
                    <a:lnTo>
                      <a:pt x="3402" y="2274"/>
                    </a:lnTo>
                    <a:lnTo>
                      <a:pt x="3480" y="2274"/>
                    </a:lnTo>
                    <a:lnTo>
                      <a:pt x="3564" y="2274"/>
                    </a:lnTo>
                    <a:lnTo>
                      <a:pt x="3648" y="2274"/>
                    </a:lnTo>
                    <a:lnTo>
                      <a:pt x="3648" y="2274"/>
                    </a:lnTo>
                    <a:lnTo>
                      <a:pt x="3564" y="2274"/>
                    </a:lnTo>
                    <a:lnTo>
                      <a:pt x="3480" y="2274"/>
                    </a:lnTo>
                    <a:lnTo>
                      <a:pt x="3402" y="2274"/>
                    </a:lnTo>
                    <a:lnTo>
                      <a:pt x="3318" y="2274"/>
                    </a:lnTo>
                    <a:lnTo>
                      <a:pt x="3234" y="2274"/>
                    </a:lnTo>
                    <a:lnTo>
                      <a:pt x="3150" y="2274"/>
                    </a:lnTo>
                    <a:lnTo>
                      <a:pt x="3066" y="2274"/>
                    </a:lnTo>
                    <a:lnTo>
                      <a:pt x="2982" y="2274"/>
                    </a:lnTo>
                    <a:lnTo>
                      <a:pt x="2904" y="2274"/>
                    </a:lnTo>
                    <a:lnTo>
                      <a:pt x="2820" y="2268"/>
                    </a:lnTo>
                    <a:lnTo>
                      <a:pt x="2736" y="2268"/>
                    </a:lnTo>
                    <a:lnTo>
                      <a:pt x="2652" y="2268"/>
                    </a:lnTo>
                    <a:lnTo>
                      <a:pt x="2568" y="2268"/>
                    </a:lnTo>
                    <a:lnTo>
                      <a:pt x="2490" y="2262"/>
                    </a:lnTo>
                    <a:lnTo>
                      <a:pt x="2406" y="2250"/>
                    </a:lnTo>
                    <a:lnTo>
                      <a:pt x="2322" y="2232"/>
                    </a:lnTo>
                    <a:lnTo>
                      <a:pt x="2238" y="2202"/>
                    </a:lnTo>
                    <a:lnTo>
                      <a:pt x="2154" y="2148"/>
                    </a:lnTo>
                    <a:lnTo>
                      <a:pt x="2070" y="2028"/>
                    </a:lnTo>
                    <a:lnTo>
                      <a:pt x="1992" y="1710"/>
                    </a:lnTo>
                    <a:lnTo>
                      <a:pt x="1908" y="1320"/>
                    </a:lnTo>
                    <a:lnTo>
                      <a:pt x="1824" y="1146"/>
                    </a:lnTo>
                    <a:lnTo>
                      <a:pt x="1740" y="1038"/>
                    </a:lnTo>
                    <a:lnTo>
                      <a:pt x="1656" y="864"/>
                    </a:lnTo>
                    <a:lnTo>
                      <a:pt x="1578" y="768"/>
                    </a:lnTo>
                    <a:lnTo>
                      <a:pt x="1494" y="792"/>
                    </a:lnTo>
                    <a:lnTo>
                      <a:pt x="1410" y="1002"/>
                    </a:lnTo>
                    <a:lnTo>
                      <a:pt x="1326" y="1014"/>
                    </a:lnTo>
                    <a:lnTo>
                      <a:pt x="1242" y="1002"/>
                    </a:lnTo>
                    <a:lnTo>
                      <a:pt x="1158" y="696"/>
                    </a:lnTo>
                    <a:lnTo>
                      <a:pt x="1080" y="498"/>
                    </a:lnTo>
                    <a:lnTo>
                      <a:pt x="996" y="570"/>
                    </a:lnTo>
                    <a:lnTo>
                      <a:pt x="912" y="414"/>
                    </a:lnTo>
                    <a:lnTo>
                      <a:pt x="828" y="312"/>
                    </a:lnTo>
                    <a:lnTo>
                      <a:pt x="744" y="450"/>
                    </a:lnTo>
                    <a:lnTo>
                      <a:pt x="666" y="732"/>
                    </a:lnTo>
                    <a:lnTo>
                      <a:pt x="582" y="732"/>
                    </a:lnTo>
                    <a:lnTo>
                      <a:pt x="498" y="270"/>
                    </a:lnTo>
                    <a:lnTo>
                      <a:pt x="414" y="396"/>
                    </a:lnTo>
                    <a:lnTo>
                      <a:pt x="330" y="0"/>
                    </a:lnTo>
                    <a:lnTo>
                      <a:pt x="246" y="96"/>
                    </a:lnTo>
                    <a:lnTo>
                      <a:pt x="168" y="330"/>
                    </a:lnTo>
                    <a:lnTo>
                      <a:pt x="84" y="852"/>
                    </a:lnTo>
                    <a:lnTo>
                      <a:pt x="0" y="18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800360" y="1619280"/>
                <a:ext cx="1440" cy="394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762200" y="55627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762200" y="506736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762200" y="458136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762200" y="408636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762200" y="35910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762200" y="30956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762200" y="26100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762200" y="21146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762200" y="16192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800360" y="5562720"/>
                <a:ext cx="57909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1800360" y="55627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1933560" y="55627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2066760" y="55627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2190600" y="55627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2324160" y="55627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2457360" y="55627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>
                <a:off x="2590920" y="55627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2724120" y="55627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2857680" y="55627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2981160" y="55627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3114720" y="55627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3247920" y="55627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3381480" y="55627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3514680" y="55627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3638520" y="55627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3772080" y="55627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3905280" y="55627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4038480" y="55627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4172040" y="55627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4305240" y="55627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4429080" y="55627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4562640" y="55627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4695840" y="55627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4829040" y="55627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4962600" y="55627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5086440" y="55627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5219640" y="55627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V="1">
                <a:off x="5353200" y="55627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5486400" y="55627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5619600" y="55627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5753160" y="55627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5877000" y="55627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>
                <a:off x="6010200" y="55627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6143760" y="55627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6276960" y="55627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6410160" y="55627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6534000" y="55627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6667560" y="55627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6800760" y="55627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6934320" y="55627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7067520" y="55627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7201080" y="55627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7324560" y="55627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7458120" y="55627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7591320" y="55627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071160" y="942840"/>
                <a:ext cx="31921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HIOS Shelf Gas Production From Existing Well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572000" y="1114560"/>
                <a:ext cx="66600" cy="2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662840" y="5486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296360" y="4991040"/>
                <a:ext cx="416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0,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296360" y="4505400"/>
                <a:ext cx="416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400,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296360" y="4010040"/>
                <a:ext cx="416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600,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296360" y="3514680"/>
                <a:ext cx="416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800,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200960" y="3019320"/>
                <a:ext cx="512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,000,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200960" y="2533680"/>
                <a:ext cx="512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,200,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200960" y="2038320"/>
                <a:ext cx="512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,400,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200960" y="1542960"/>
                <a:ext cx="512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,600,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6200000">
                <a:off x="1662840" y="57027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97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6200000">
                <a:off x="1931040" y="57027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9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6200000">
                <a:off x="2188080" y="57027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98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16200000">
                <a:off x="2454840" y="57027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98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16200000">
                <a:off x="2721600" y="57027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98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16200000">
                <a:off x="2978640" y="57027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98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16200000">
                <a:off x="3245400" y="57027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9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16200000">
                <a:off x="3502440" y="57027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99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16200000">
                <a:off x="3769200" y="57027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99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16200000">
                <a:off x="4035960" y="57027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99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16200000">
                <a:off x="4293000" y="57027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99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16200000">
                <a:off x="4559760" y="57027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16200000">
                <a:off x="4826520" y="57027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0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16200000">
                <a:off x="5083920" y="57027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0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16200000">
                <a:off x="5350320" y="57027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0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6200000">
                <a:off x="5617080" y="57027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0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16200000">
                <a:off x="5874480" y="57027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1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16200000">
                <a:off x="6140880" y="57027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1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16200000">
                <a:off x="6398280" y="57027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1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16200000">
                <a:off x="6665040" y="57027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1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16200000">
                <a:off x="6931440" y="57027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1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16200000">
                <a:off x="7188840" y="570132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2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16200000">
                <a:off x="7455600" y="570132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2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16200000">
                <a:off x="898560" y="3498120"/>
                <a:ext cx="29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Mcf/d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810560" y="914400"/>
                <a:ext cx="447480" cy="5143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7858080" y="981000"/>
              <a:ext cx="66600" cy="666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986960" y="94284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858080" y="1171440"/>
              <a:ext cx="66600" cy="669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986960" y="113364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858080" y="1362240"/>
              <a:ext cx="66600" cy="666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86960" y="132408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858080" y="1552680"/>
              <a:ext cx="66600" cy="666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986960" y="15145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858080" y="1743120"/>
              <a:ext cx="66600" cy="66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986960" y="170496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858080" y="1933560"/>
              <a:ext cx="66600" cy="666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986960" y="189540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858080" y="2124000"/>
              <a:ext cx="66600" cy="66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986960" y="208584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858080" y="2314440"/>
              <a:ext cx="66600" cy="66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986960" y="227664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858080" y="2505240"/>
              <a:ext cx="66600" cy="66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986960" y="246708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858080" y="2695680"/>
              <a:ext cx="66600" cy="66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986960" y="26575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9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858080" y="2886120"/>
              <a:ext cx="66600" cy="66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986960" y="284796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9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858080" y="3076560"/>
              <a:ext cx="66600" cy="66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986960" y="303840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9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858080" y="3267000"/>
              <a:ext cx="66600" cy="6660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986960" y="322884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858080" y="3457440"/>
              <a:ext cx="66600" cy="669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986960" y="341964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8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858080" y="3648240"/>
              <a:ext cx="66600" cy="666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86960" y="361008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8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858080" y="3838680"/>
              <a:ext cx="66600" cy="666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986960" y="38005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8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858080" y="4029120"/>
              <a:ext cx="66600" cy="66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986960" y="399096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8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858080" y="4219560"/>
              <a:ext cx="66600" cy="666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986960" y="418140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8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858080" y="4410000"/>
              <a:ext cx="66600" cy="6660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986960" y="437184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8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858080" y="4600440"/>
              <a:ext cx="66600" cy="66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986960" y="456264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8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858080" y="4791240"/>
              <a:ext cx="66600" cy="6660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86960" y="475308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8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858080" y="4981680"/>
              <a:ext cx="66600" cy="66600"/>
            </a:xfrm>
            <a:prstGeom prst="rect">
              <a:avLst/>
            </a:prstGeom>
            <a:solidFill>
              <a:srgbClr val="ff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986960" y="49435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8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858080" y="5172120"/>
              <a:ext cx="66600" cy="66600"/>
            </a:xfrm>
            <a:prstGeom prst="rect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986960" y="513396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8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858080" y="5362560"/>
              <a:ext cx="66600" cy="66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986960" y="532440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7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858080" y="5553000"/>
              <a:ext cx="66600" cy="66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986960" y="551484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7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858080" y="5743440"/>
              <a:ext cx="66600" cy="6696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986960" y="570564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7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858080" y="5934240"/>
              <a:ext cx="66600" cy="666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986960" y="589608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7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"/>
          <p:cNvSpPr/>
          <p:nvPr/>
        </p:nvSpPr>
        <p:spPr>
          <a:xfrm flipH="1">
            <a:off x="6780960" y="15228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cket No. RP03-          Exhibit No. HIO-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"/>
          <p:cNvGrpSpPr/>
          <p:nvPr/>
        </p:nvGrpSpPr>
        <p:grpSpPr>
          <a:xfrm>
            <a:off x="960480" y="952560"/>
            <a:ext cx="7212240" cy="5067360"/>
            <a:chOff x="960480" y="952560"/>
            <a:chExt cx="7212240" cy="5067360"/>
          </a:xfrm>
        </p:grpSpPr>
        <p:sp>
          <p:nvSpPr>
            <p:cNvPr id="485" name=""/>
            <p:cNvSpPr/>
            <p:nvPr/>
          </p:nvSpPr>
          <p:spPr>
            <a:xfrm>
              <a:off x="1876320" y="1486080"/>
              <a:ext cx="5629320" cy="382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876320" y="4162320"/>
              <a:ext cx="562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876320" y="3486240"/>
              <a:ext cx="562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876320" y="3009960"/>
              <a:ext cx="562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876320" y="2638440"/>
              <a:ext cx="562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876320" y="2333520"/>
              <a:ext cx="562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876320" y="2076480"/>
              <a:ext cx="562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876320" y="1857240"/>
              <a:ext cx="562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876320" y="1657440"/>
              <a:ext cx="562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876320" y="1486080"/>
              <a:ext cx="562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819520" y="1486080"/>
              <a:ext cx="1440" cy="382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753000" y="1486080"/>
              <a:ext cx="1440" cy="382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695840" y="1486080"/>
              <a:ext cx="1440" cy="382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629320" y="1486080"/>
              <a:ext cx="1440" cy="382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572160" y="1486080"/>
              <a:ext cx="1800" cy="382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505640" y="1486080"/>
              <a:ext cx="1800" cy="382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876320" y="1486080"/>
              <a:ext cx="5629320" cy="3828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76320" y="1486080"/>
              <a:ext cx="1800" cy="382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838160" y="5315040"/>
              <a:ext cx="76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838160" y="1486080"/>
              <a:ext cx="76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876320" y="5315040"/>
              <a:ext cx="562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1876320" y="5276880"/>
              <a:ext cx="180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2819520" y="527688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3753000" y="527688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4695840" y="527688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5629320" y="527688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6572160" y="5276880"/>
              <a:ext cx="180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7505640" y="5276880"/>
              <a:ext cx="180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343240" y="3438360"/>
              <a:ext cx="4695840" cy="1209960"/>
            </a:xfrm>
            <a:custGeom>
              <a:avLst/>
              <a:gdLst/>
              <a:ahLst/>
              <a:rect l="l" t="t" r="r" b="b"/>
              <a:pathLst>
                <a:path w="493" h="127">
                  <a:moveTo>
                    <a:pt x="0" y="51"/>
                  </a:moveTo>
                  <a:lnTo>
                    <a:pt x="99" y="0"/>
                  </a:lnTo>
                  <a:lnTo>
                    <a:pt x="197" y="49"/>
                  </a:lnTo>
                  <a:lnTo>
                    <a:pt x="296" y="7"/>
                  </a:lnTo>
                  <a:lnTo>
                    <a:pt x="394" y="127"/>
                  </a:lnTo>
                  <a:lnTo>
                    <a:pt x="493" y="10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295360" y="3876840"/>
              <a:ext cx="86040" cy="8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38560" y="3390840"/>
              <a:ext cx="85680" cy="8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172040" y="3857760"/>
              <a:ext cx="85680" cy="8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114880" y="3457440"/>
              <a:ext cx="85680" cy="8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48360" y="4600440"/>
              <a:ext cx="85680" cy="8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991200" y="4419720"/>
              <a:ext cx="86040" cy="8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505640" y="1486080"/>
              <a:ext cx="1800" cy="382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467480" y="5315040"/>
              <a:ext cx="76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467480" y="3400560"/>
              <a:ext cx="76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467480" y="1486080"/>
              <a:ext cx="76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343240" y="1714680"/>
              <a:ext cx="4695840" cy="323640"/>
            </a:xfrm>
            <a:custGeom>
              <a:avLst/>
              <a:gdLst/>
              <a:ahLst/>
              <a:rect l="l" t="t" r="r" b="b"/>
              <a:pathLst>
                <a:path w="493" h="34">
                  <a:moveTo>
                    <a:pt x="0" y="34"/>
                  </a:moveTo>
                  <a:lnTo>
                    <a:pt x="99" y="0"/>
                  </a:lnTo>
                  <a:lnTo>
                    <a:pt x="197" y="23"/>
                  </a:lnTo>
                  <a:lnTo>
                    <a:pt x="296" y="16"/>
                  </a:lnTo>
                  <a:lnTo>
                    <a:pt x="394" y="12"/>
                  </a:lnTo>
                  <a:lnTo>
                    <a:pt x="493" y="14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295360" y="1990800"/>
              <a:ext cx="95400" cy="950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238560" y="166680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172040" y="1886040"/>
              <a:ext cx="95040" cy="950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114880" y="1819440"/>
              <a:ext cx="95400" cy="950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048360" y="1781280"/>
              <a:ext cx="95400" cy="950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991200" y="1800360"/>
              <a:ext cx="95400" cy="950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343240" y="3552840"/>
              <a:ext cx="4695840" cy="857160"/>
            </a:xfrm>
            <a:custGeom>
              <a:avLst/>
              <a:gdLst/>
              <a:ahLst/>
              <a:rect l="l" t="t" r="r" b="b"/>
              <a:pathLst>
                <a:path w="493" h="90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6" y="5"/>
                  </a:lnTo>
                  <a:lnTo>
                    <a:pt x="29" y="6"/>
                  </a:lnTo>
                  <a:lnTo>
                    <a:pt x="32" y="6"/>
                  </a:lnTo>
                  <a:lnTo>
                    <a:pt x="35" y="7"/>
                  </a:lnTo>
                  <a:lnTo>
                    <a:pt x="38" y="7"/>
                  </a:lnTo>
                  <a:lnTo>
                    <a:pt x="41" y="8"/>
                  </a:lnTo>
                  <a:lnTo>
                    <a:pt x="44" y="9"/>
                  </a:lnTo>
                  <a:lnTo>
                    <a:pt x="48" y="9"/>
                  </a:lnTo>
                  <a:lnTo>
                    <a:pt x="51" y="10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0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3"/>
                  </a:lnTo>
                  <a:lnTo>
                    <a:pt x="73" y="14"/>
                  </a:lnTo>
                  <a:lnTo>
                    <a:pt x="76" y="14"/>
                  </a:lnTo>
                  <a:lnTo>
                    <a:pt x="79" y="15"/>
                  </a:lnTo>
                  <a:lnTo>
                    <a:pt x="82" y="15"/>
                  </a:lnTo>
                  <a:lnTo>
                    <a:pt x="85" y="16"/>
                  </a:lnTo>
                  <a:lnTo>
                    <a:pt x="89" y="17"/>
                  </a:lnTo>
                  <a:lnTo>
                    <a:pt x="92" y="17"/>
                  </a:lnTo>
                  <a:lnTo>
                    <a:pt x="95" y="18"/>
                  </a:lnTo>
                  <a:lnTo>
                    <a:pt x="98" y="18"/>
                  </a:lnTo>
                  <a:lnTo>
                    <a:pt x="101" y="19"/>
                  </a:lnTo>
                  <a:lnTo>
                    <a:pt x="104" y="19"/>
                  </a:lnTo>
                  <a:lnTo>
                    <a:pt x="108" y="20"/>
                  </a:lnTo>
                  <a:lnTo>
                    <a:pt x="111" y="21"/>
                  </a:lnTo>
                  <a:lnTo>
                    <a:pt x="114" y="21"/>
                  </a:lnTo>
                  <a:lnTo>
                    <a:pt x="117" y="22"/>
                  </a:lnTo>
                  <a:lnTo>
                    <a:pt x="120" y="22"/>
                  </a:lnTo>
                  <a:lnTo>
                    <a:pt x="123" y="23"/>
                  </a:lnTo>
                  <a:lnTo>
                    <a:pt x="127" y="23"/>
                  </a:lnTo>
                  <a:lnTo>
                    <a:pt x="130" y="24"/>
                  </a:lnTo>
                  <a:lnTo>
                    <a:pt x="133" y="25"/>
                  </a:lnTo>
                  <a:lnTo>
                    <a:pt x="136" y="25"/>
                  </a:lnTo>
                  <a:lnTo>
                    <a:pt x="139" y="26"/>
                  </a:lnTo>
                  <a:lnTo>
                    <a:pt x="142" y="26"/>
                  </a:lnTo>
                  <a:lnTo>
                    <a:pt x="145" y="27"/>
                  </a:lnTo>
                  <a:lnTo>
                    <a:pt x="149" y="27"/>
                  </a:lnTo>
                  <a:lnTo>
                    <a:pt x="152" y="28"/>
                  </a:lnTo>
                  <a:lnTo>
                    <a:pt x="155" y="29"/>
                  </a:lnTo>
                  <a:lnTo>
                    <a:pt x="158" y="29"/>
                  </a:lnTo>
                  <a:lnTo>
                    <a:pt x="161" y="30"/>
                  </a:lnTo>
                  <a:lnTo>
                    <a:pt x="164" y="30"/>
                  </a:lnTo>
                  <a:lnTo>
                    <a:pt x="168" y="31"/>
                  </a:lnTo>
                  <a:lnTo>
                    <a:pt x="171" y="31"/>
                  </a:lnTo>
                  <a:lnTo>
                    <a:pt x="174" y="32"/>
                  </a:lnTo>
                  <a:lnTo>
                    <a:pt x="177" y="33"/>
                  </a:lnTo>
                  <a:lnTo>
                    <a:pt x="180" y="33"/>
                  </a:lnTo>
                  <a:lnTo>
                    <a:pt x="183" y="34"/>
                  </a:lnTo>
                  <a:lnTo>
                    <a:pt x="187" y="34"/>
                  </a:lnTo>
                  <a:lnTo>
                    <a:pt x="190" y="35"/>
                  </a:lnTo>
                  <a:lnTo>
                    <a:pt x="193" y="35"/>
                  </a:lnTo>
                  <a:lnTo>
                    <a:pt x="196" y="36"/>
                  </a:lnTo>
                  <a:lnTo>
                    <a:pt x="199" y="37"/>
                  </a:lnTo>
                  <a:lnTo>
                    <a:pt x="202" y="37"/>
                  </a:lnTo>
                  <a:lnTo>
                    <a:pt x="205" y="38"/>
                  </a:lnTo>
                  <a:lnTo>
                    <a:pt x="209" y="38"/>
                  </a:lnTo>
                  <a:lnTo>
                    <a:pt x="212" y="39"/>
                  </a:lnTo>
                  <a:lnTo>
                    <a:pt x="215" y="39"/>
                  </a:lnTo>
                  <a:lnTo>
                    <a:pt x="218" y="40"/>
                  </a:lnTo>
                  <a:lnTo>
                    <a:pt x="221" y="41"/>
                  </a:lnTo>
                  <a:lnTo>
                    <a:pt x="224" y="41"/>
                  </a:lnTo>
                  <a:lnTo>
                    <a:pt x="228" y="42"/>
                  </a:lnTo>
                  <a:lnTo>
                    <a:pt x="231" y="42"/>
                  </a:lnTo>
                  <a:lnTo>
                    <a:pt x="234" y="43"/>
                  </a:lnTo>
                  <a:lnTo>
                    <a:pt x="237" y="43"/>
                  </a:lnTo>
                  <a:lnTo>
                    <a:pt x="240" y="44"/>
                  </a:lnTo>
                  <a:lnTo>
                    <a:pt x="243" y="45"/>
                  </a:lnTo>
                  <a:lnTo>
                    <a:pt x="247" y="45"/>
                  </a:lnTo>
                  <a:lnTo>
                    <a:pt x="250" y="46"/>
                  </a:lnTo>
                  <a:lnTo>
                    <a:pt x="253" y="46"/>
                  </a:lnTo>
                  <a:lnTo>
                    <a:pt x="256" y="47"/>
                  </a:lnTo>
                  <a:lnTo>
                    <a:pt x="259" y="47"/>
                  </a:lnTo>
                  <a:lnTo>
                    <a:pt x="262" y="48"/>
                  </a:lnTo>
                  <a:lnTo>
                    <a:pt x="265" y="49"/>
                  </a:lnTo>
                  <a:lnTo>
                    <a:pt x="269" y="49"/>
                  </a:lnTo>
                  <a:lnTo>
                    <a:pt x="272" y="50"/>
                  </a:lnTo>
                  <a:lnTo>
                    <a:pt x="275" y="50"/>
                  </a:lnTo>
                  <a:lnTo>
                    <a:pt x="278" y="51"/>
                  </a:lnTo>
                  <a:lnTo>
                    <a:pt x="281" y="51"/>
                  </a:lnTo>
                  <a:lnTo>
                    <a:pt x="284" y="52"/>
                  </a:lnTo>
                  <a:lnTo>
                    <a:pt x="288" y="53"/>
                  </a:lnTo>
                  <a:lnTo>
                    <a:pt x="291" y="53"/>
                  </a:lnTo>
                  <a:lnTo>
                    <a:pt x="294" y="54"/>
                  </a:lnTo>
                  <a:lnTo>
                    <a:pt x="297" y="54"/>
                  </a:lnTo>
                  <a:lnTo>
                    <a:pt x="300" y="55"/>
                  </a:lnTo>
                  <a:lnTo>
                    <a:pt x="303" y="55"/>
                  </a:lnTo>
                  <a:lnTo>
                    <a:pt x="306" y="56"/>
                  </a:lnTo>
                  <a:lnTo>
                    <a:pt x="310" y="57"/>
                  </a:lnTo>
                  <a:lnTo>
                    <a:pt x="313" y="57"/>
                  </a:lnTo>
                  <a:lnTo>
                    <a:pt x="316" y="58"/>
                  </a:lnTo>
                  <a:lnTo>
                    <a:pt x="319" y="58"/>
                  </a:lnTo>
                  <a:lnTo>
                    <a:pt x="322" y="59"/>
                  </a:lnTo>
                  <a:lnTo>
                    <a:pt x="325" y="59"/>
                  </a:lnTo>
                  <a:lnTo>
                    <a:pt x="329" y="60"/>
                  </a:lnTo>
                  <a:lnTo>
                    <a:pt x="332" y="61"/>
                  </a:lnTo>
                  <a:lnTo>
                    <a:pt x="335" y="61"/>
                  </a:lnTo>
                  <a:lnTo>
                    <a:pt x="338" y="62"/>
                  </a:lnTo>
                  <a:lnTo>
                    <a:pt x="341" y="62"/>
                  </a:lnTo>
                  <a:lnTo>
                    <a:pt x="344" y="63"/>
                  </a:lnTo>
                  <a:lnTo>
                    <a:pt x="348" y="63"/>
                  </a:lnTo>
                  <a:lnTo>
                    <a:pt x="351" y="64"/>
                  </a:lnTo>
                  <a:lnTo>
                    <a:pt x="354" y="65"/>
                  </a:lnTo>
                  <a:lnTo>
                    <a:pt x="357" y="65"/>
                  </a:lnTo>
                  <a:lnTo>
                    <a:pt x="360" y="66"/>
                  </a:lnTo>
                  <a:lnTo>
                    <a:pt x="363" y="66"/>
                  </a:lnTo>
                  <a:lnTo>
                    <a:pt x="366" y="67"/>
                  </a:lnTo>
                  <a:lnTo>
                    <a:pt x="370" y="67"/>
                  </a:lnTo>
                  <a:lnTo>
                    <a:pt x="373" y="68"/>
                  </a:lnTo>
                  <a:lnTo>
                    <a:pt x="376" y="69"/>
                  </a:lnTo>
                  <a:lnTo>
                    <a:pt x="379" y="69"/>
                  </a:lnTo>
                  <a:lnTo>
                    <a:pt x="382" y="70"/>
                  </a:lnTo>
                  <a:lnTo>
                    <a:pt x="385" y="70"/>
                  </a:lnTo>
                  <a:lnTo>
                    <a:pt x="389" y="71"/>
                  </a:lnTo>
                  <a:lnTo>
                    <a:pt x="392" y="71"/>
                  </a:lnTo>
                  <a:lnTo>
                    <a:pt x="395" y="72"/>
                  </a:lnTo>
                  <a:lnTo>
                    <a:pt x="398" y="73"/>
                  </a:lnTo>
                  <a:lnTo>
                    <a:pt x="401" y="73"/>
                  </a:lnTo>
                  <a:lnTo>
                    <a:pt x="404" y="74"/>
                  </a:lnTo>
                  <a:lnTo>
                    <a:pt x="408" y="74"/>
                  </a:lnTo>
                  <a:lnTo>
                    <a:pt x="411" y="75"/>
                  </a:lnTo>
                  <a:lnTo>
                    <a:pt x="414" y="76"/>
                  </a:lnTo>
                  <a:lnTo>
                    <a:pt x="417" y="76"/>
                  </a:lnTo>
                  <a:lnTo>
                    <a:pt x="420" y="77"/>
                  </a:lnTo>
                  <a:lnTo>
                    <a:pt x="423" y="77"/>
                  </a:lnTo>
                  <a:lnTo>
                    <a:pt x="426" y="78"/>
                  </a:lnTo>
                  <a:lnTo>
                    <a:pt x="430" y="78"/>
                  </a:lnTo>
                  <a:lnTo>
                    <a:pt x="433" y="79"/>
                  </a:lnTo>
                  <a:lnTo>
                    <a:pt x="436" y="80"/>
                  </a:lnTo>
                  <a:lnTo>
                    <a:pt x="439" y="80"/>
                  </a:lnTo>
                  <a:lnTo>
                    <a:pt x="442" y="81"/>
                  </a:lnTo>
                  <a:lnTo>
                    <a:pt x="445" y="81"/>
                  </a:lnTo>
                  <a:lnTo>
                    <a:pt x="449" y="82"/>
                  </a:lnTo>
                  <a:lnTo>
                    <a:pt x="452" y="82"/>
                  </a:lnTo>
                  <a:lnTo>
                    <a:pt x="455" y="83"/>
                  </a:lnTo>
                  <a:lnTo>
                    <a:pt x="458" y="84"/>
                  </a:lnTo>
                  <a:lnTo>
                    <a:pt x="461" y="84"/>
                  </a:lnTo>
                  <a:lnTo>
                    <a:pt x="464" y="85"/>
                  </a:lnTo>
                  <a:lnTo>
                    <a:pt x="467" y="85"/>
                  </a:lnTo>
                  <a:lnTo>
                    <a:pt x="471" y="86"/>
                  </a:lnTo>
                  <a:lnTo>
                    <a:pt x="474" y="86"/>
                  </a:lnTo>
                  <a:lnTo>
                    <a:pt x="477" y="87"/>
                  </a:lnTo>
                  <a:lnTo>
                    <a:pt x="480" y="88"/>
                  </a:lnTo>
                  <a:lnTo>
                    <a:pt x="483" y="88"/>
                  </a:lnTo>
                  <a:lnTo>
                    <a:pt x="486" y="89"/>
                  </a:lnTo>
                  <a:lnTo>
                    <a:pt x="490" y="89"/>
                  </a:lnTo>
                  <a:lnTo>
                    <a:pt x="493" y="9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902400" y="952560"/>
              <a:ext cx="145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IOS Well Statis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20360" y="3686040"/>
              <a:ext cx="922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 = 3E+06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117840" y="3648240"/>
              <a:ext cx="49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0.1023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57480" y="523872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000,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193760" y="140976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,000,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16200000">
              <a:off x="2202480" y="54338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16200000">
              <a:off x="3145320" y="54338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16200000">
              <a:off x="4078800" y="54324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16200000">
              <a:off x="5022000" y="54324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16200000">
              <a:off x="5955480" y="54324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16200000">
              <a:off x="6898320" y="54338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16200000">
              <a:off x="927360" y="329508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c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624080" y="52387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623720" y="33242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621920" y="140976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16200000">
              <a:off x="7930440" y="3294000"/>
              <a:ext cx="331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cf/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695680" y="5800680"/>
              <a:ext cx="3981240" cy="219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743200" y="5915160"/>
              <a:ext cx="266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838600" y="5877000"/>
              <a:ext cx="66600" cy="6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062880" y="5829480"/>
              <a:ext cx="66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lt Per Wel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762360" y="5915160"/>
              <a:ext cx="26676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857760" y="587700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79160" y="5829480"/>
              <a:ext cx="1052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x Rate Per Wel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62400" y="5905440"/>
              <a:ext cx="26676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478120" y="5829480"/>
              <a:ext cx="1178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xpon. (Ult Per Well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"/>
          <p:cNvSpPr/>
          <p:nvPr/>
        </p:nvSpPr>
        <p:spPr>
          <a:xfrm flipH="1">
            <a:off x="6019200" y="2286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cket No RP03-Exhibit No. HIO-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"/>
          <p:cNvGrpSpPr/>
          <p:nvPr/>
        </p:nvGrpSpPr>
        <p:grpSpPr>
          <a:xfrm>
            <a:off x="960480" y="952560"/>
            <a:ext cx="7212240" cy="5067360"/>
            <a:chOff x="960480" y="952560"/>
            <a:chExt cx="7212240" cy="5067360"/>
          </a:xfrm>
        </p:grpSpPr>
        <p:sp>
          <p:nvSpPr>
            <p:cNvPr id="559" name=""/>
            <p:cNvSpPr/>
            <p:nvPr/>
          </p:nvSpPr>
          <p:spPr>
            <a:xfrm>
              <a:off x="2048040" y="1486080"/>
              <a:ext cx="5457600" cy="382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048040" y="3400560"/>
              <a:ext cx="5457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048040" y="1486080"/>
              <a:ext cx="5457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962440" y="1486080"/>
              <a:ext cx="1440" cy="382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867120" y="1486080"/>
              <a:ext cx="1440" cy="382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781520" y="1486080"/>
              <a:ext cx="1440" cy="382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686560" y="1486080"/>
              <a:ext cx="1440" cy="382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600960" y="1486080"/>
              <a:ext cx="1440" cy="382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05640" y="1486080"/>
              <a:ext cx="1800" cy="382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48040" y="1486080"/>
              <a:ext cx="5457600" cy="3828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048040" y="1486080"/>
              <a:ext cx="1440" cy="382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009880" y="5315040"/>
              <a:ext cx="75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009880" y="3400560"/>
              <a:ext cx="75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009880" y="1486080"/>
              <a:ext cx="75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048040" y="5315040"/>
              <a:ext cx="5457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2048040" y="527688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2962440" y="527688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3867120" y="527688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4781520" y="527688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5686560" y="527688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6600960" y="527688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505640" y="5276880"/>
              <a:ext cx="180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505240" y="2476440"/>
              <a:ext cx="4543200" cy="809640"/>
            </a:xfrm>
            <a:custGeom>
              <a:avLst/>
              <a:gdLst/>
              <a:ahLst/>
              <a:rect l="l" t="t" r="r" b="b"/>
              <a:pathLst>
                <a:path w="477" h="85">
                  <a:moveTo>
                    <a:pt x="0" y="26"/>
                  </a:moveTo>
                  <a:lnTo>
                    <a:pt x="95" y="0"/>
                  </a:lnTo>
                  <a:lnTo>
                    <a:pt x="191" y="5"/>
                  </a:lnTo>
                  <a:lnTo>
                    <a:pt x="286" y="16"/>
                  </a:lnTo>
                  <a:lnTo>
                    <a:pt x="382" y="85"/>
                  </a:lnTo>
                  <a:lnTo>
                    <a:pt x="477" y="6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457360" y="2676600"/>
              <a:ext cx="85680" cy="8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362400" y="2428920"/>
              <a:ext cx="85680" cy="8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276800" y="2476440"/>
              <a:ext cx="85680" cy="8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81480" y="2581200"/>
              <a:ext cx="85680" cy="8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095880" y="3238560"/>
              <a:ext cx="85680" cy="8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000920" y="3048120"/>
              <a:ext cx="85680" cy="8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505640" y="1486080"/>
              <a:ext cx="1800" cy="382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467480" y="5315040"/>
              <a:ext cx="76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467480" y="3400560"/>
              <a:ext cx="76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467480" y="1486080"/>
              <a:ext cx="76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505240" y="3228840"/>
              <a:ext cx="4543200" cy="390600"/>
            </a:xfrm>
            <a:custGeom>
              <a:avLst/>
              <a:gdLst/>
              <a:ahLst/>
              <a:rect l="l" t="t" r="r" b="b"/>
              <a:pathLst>
                <a:path w="477" h="41">
                  <a:moveTo>
                    <a:pt x="0" y="21"/>
                  </a:moveTo>
                  <a:lnTo>
                    <a:pt x="95" y="20"/>
                  </a:lnTo>
                  <a:lnTo>
                    <a:pt x="191" y="0"/>
                  </a:lnTo>
                  <a:lnTo>
                    <a:pt x="286" y="32"/>
                  </a:lnTo>
                  <a:lnTo>
                    <a:pt x="382" y="41"/>
                  </a:lnTo>
                  <a:lnTo>
                    <a:pt x="477" y="3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457360" y="3381480"/>
              <a:ext cx="95400" cy="950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362400" y="337176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76800" y="318132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181480" y="3486240"/>
              <a:ext cx="95400" cy="950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095880" y="3571920"/>
              <a:ext cx="95400" cy="950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00920" y="3467160"/>
              <a:ext cx="95040" cy="950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505240" y="3362400"/>
              <a:ext cx="4543200" cy="190440"/>
            </a:xfrm>
            <a:custGeom>
              <a:avLst/>
              <a:gdLst/>
              <a:ahLst/>
              <a:rect l="l" t="t" r="r" b="b"/>
              <a:pathLst>
                <a:path w="477" h="2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40" y="1"/>
                  </a:lnTo>
                  <a:lnTo>
                    <a:pt x="43" y="2"/>
                  </a:lnTo>
                  <a:lnTo>
                    <a:pt x="46" y="2"/>
                  </a:lnTo>
                  <a:lnTo>
                    <a:pt x="49" y="2"/>
                  </a:lnTo>
                  <a:lnTo>
                    <a:pt x="52" y="2"/>
                  </a:lnTo>
                  <a:lnTo>
                    <a:pt x="55" y="2"/>
                  </a:lnTo>
                  <a:lnTo>
                    <a:pt x="58" y="2"/>
                  </a:lnTo>
                  <a:lnTo>
                    <a:pt x="61" y="2"/>
                  </a:lnTo>
                  <a:lnTo>
                    <a:pt x="64" y="2"/>
                  </a:lnTo>
                  <a:lnTo>
                    <a:pt x="67" y="3"/>
                  </a:lnTo>
                  <a:lnTo>
                    <a:pt x="70" y="3"/>
                  </a:lnTo>
                  <a:lnTo>
                    <a:pt x="73" y="3"/>
                  </a:lnTo>
                  <a:lnTo>
                    <a:pt x="76" y="3"/>
                  </a:lnTo>
                  <a:lnTo>
                    <a:pt x="79" y="3"/>
                  </a:lnTo>
                  <a:lnTo>
                    <a:pt x="82" y="3"/>
                  </a:lnTo>
                  <a:lnTo>
                    <a:pt x="85" y="3"/>
                  </a:lnTo>
                  <a:lnTo>
                    <a:pt x="89" y="4"/>
                  </a:lnTo>
                  <a:lnTo>
                    <a:pt x="92" y="4"/>
                  </a:lnTo>
                  <a:lnTo>
                    <a:pt x="95" y="4"/>
                  </a:lnTo>
                  <a:lnTo>
                    <a:pt x="98" y="4"/>
                  </a:lnTo>
                  <a:lnTo>
                    <a:pt x="101" y="4"/>
                  </a:lnTo>
                  <a:lnTo>
                    <a:pt x="104" y="4"/>
                  </a:lnTo>
                  <a:lnTo>
                    <a:pt x="107" y="4"/>
                  </a:lnTo>
                  <a:lnTo>
                    <a:pt x="110" y="4"/>
                  </a:lnTo>
                  <a:lnTo>
                    <a:pt x="113" y="5"/>
                  </a:lnTo>
                  <a:lnTo>
                    <a:pt x="116" y="5"/>
                  </a:lnTo>
                  <a:lnTo>
                    <a:pt x="119" y="5"/>
                  </a:lnTo>
                  <a:lnTo>
                    <a:pt x="122" y="5"/>
                  </a:lnTo>
                  <a:lnTo>
                    <a:pt x="125" y="5"/>
                  </a:lnTo>
                  <a:lnTo>
                    <a:pt x="128" y="5"/>
                  </a:lnTo>
                  <a:lnTo>
                    <a:pt x="131" y="5"/>
                  </a:lnTo>
                  <a:lnTo>
                    <a:pt x="134" y="5"/>
                  </a:lnTo>
                  <a:lnTo>
                    <a:pt x="137" y="6"/>
                  </a:lnTo>
                  <a:lnTo>
                    <a:pt x="141" y="6"/>
                  </a:lnTo>
                  <a:lnTo>
                    <a:pt x="144" y="6"/>
                  </a:lnTo>
                  <a:lnTo>
                    <a:pt x="147" y="6"/>
                  </a:lnTo>
                  <a:lnTo>
                    <a:pt x="150" y="6"/>
                  </a:lnTo>
                  <a:lnTo>
                    <a:pt x="153" y="6"/>
                  </a:lnTo>
                  <a:lnTo>
                    <a:pt x="156" y="6"/>
                  </a:lnTo>
                  <a:lnTo>
                    <a:pt x="159" y="7"/>
                  </a:lnTo>
                  <a:lnTo>
                    <a:pt x="162" y="7"/>
                  </a:lnTo>
                  <a:lnTo>
                    <a:pt x="165" y="7"/>
                  </a:lnTo>
                  <a:lnTo>
                    <a:pt x="168" y="7"/>
                  </a:lnTo>
                  <a:lnTo>
                    <a:pt x="171" y="7"/>
                  </a:lnTo>
                  <a:lnTo>
                    <a:pt x="174" y="7"/>
                  </a:lnTo>
                  <a:lnTo>
                    <a:pt x="177" y="7"/>
                  </a:lnTo>
                  <a:lnTo>
                    <a:pt x="180" y="7"/>
                  </a:lnTo>
                  <a:lnTo>
                    <a:pt x="183" y="8"/>
                  </a:lnTo>
                  <a:lnTo>
                    <a:pt x="186" y="8"/>
                  </a:lnTo>
                  <a:lnTo>
                    <a:pt x="190" y="8"/>
                  </a:lnTo>
                  <a:lnTo>
                    <a:pt x="193" y="8"/>
                  </a:lnTo>
                  <a:lnTo>
                    <a:pt x="196" y="8"/>
                  </a:lnTo>
                  <a:lnTo>
                    <a:pt x="199" y="8"/>
                  </a:lnTo>
                  <a:lnTo>
                    <a:pt x="202" y="8"/>
                  </a:lnTo>
                  <a:lnTo>
                    <a:pt x="205" y="8"/>
                  </a:lnTo>
                  <a:lnTo>
                    <a:pt x="208" y="9"/>
                  </a:lnTo>
                  <a:lnTo>
                    <a:pt x="211" y="9"/>
                  </a:lnTo>
                  <a:lnTo>
                    <a:pt x="214" y="9"/>
                  </a:lnTo>
                  <a:lnTo>
                    <a:pt x="217" y="9"/>
                  </a:lnTo>
                  <a:lnTo>
                    <a:pt x="220" y="9"/>
                  </a:lnTo>
                  <a:lnTo>
                    <a:pt x="223" y="9"/>
                  </a:lnTo>
                  <a:lnTo>
                    <a:pt x="226" y="9"/>
                  </a:lnTo>
                  <a:lnTo>
                    <a:pt x="229" y="10"/>
                  </a:lnTo>
                  <a:lnTo>
                    <a:pt x="232" y="10"/>
                  </a:lnTo>
                  <a:lnTo>
                    <a:pt x="235" y="10"/>
                  </a:lnTo>
                  <a:lnTo>
                    <a:pt x="239" y="10"/>
                  </a:lnTo>
                  <a:lnTo>
                    <a:pt x="242" y="10"/>
                  </a:lnTo>
                  <a:lnTo>
                    <a:pt x="245" y="10"/>
                  </a:lnTo>
                  <a:lnTo>
                    <a:pt x="248" y="10"/>
                  </a:lnTo>
                  <a:lnTo>
                    <a:pt x="251" y="10"/>
                  </a:lnTo>
                  <a:lnTo>
                    <a:pt x="254" y="11"/>
                  </a:lnTo>
                  <a:lnTo>
                    <a:pt x="257" y="11"/>
                  </a:lnTo>
                  <a:lnTo>
                    <a:pt x="260" y="11"/>
                  </a:lnTo>
                  <a:lnTo>
                    <a:pt x="263" y="11"/>
                  </a:lnTo>
                  <a:lnTo>
                    <a:pt x="266" y="11"/>
                  </a:lnTo>
                  <a:lnTo>
                    <a:pt x="269" y="11"/>
                  </a:lnTo>
                  <a:lnTo>
                    <a:pt x="272" y="11"/>
                  </a:lnTo>
                  <a:lnTo>
                    <a:pt x="275" y="11"/>
                  </a:lnTo>
                  <a:lnTo>
                    <a:pt x="278" y="12"/>
                  </a:lnTo>
                  <a:lnTo>
                    <a:pt x="281" y="12"/>
                  </a:lnTo>
                  <a:lnTo>
                    <a:pt x="284" y="12"/>
                  </a:lnTo>
                  <a:lnTo>
                    <a:pt x="287" y="12"/>
                  </a:lnTo>
                  <a:lnTo>
                    <a:pt x="291" y="12"/>
                  </a:lnTo>
                  <a:lnTo>
                    <a:pt x="294" y="12"/>
                  </a:lnTo>
                  <a:lnTo>
                    <a:pt x="297" y="12"/>
                  </a:lnTo>
                  <a:lnTo>
                    <a:pt x="300" y="13"/>
                  </a:lnTo>
                  <a:lnTo>
                    <a:pt x="303" y="13"/>
                  </a:lnTo>
                  <a:lnTo>
                    <a:pt x="306" y="13"/>
                  </a:lnTo>
                  <a:lnTo>
                    <a:pt x="309" y="13"/>
                  </a:lnTo>
                  <a:lnTo>
                    <a:pt x="312" y="13"/>
                  </a:lnTo>
                  <a:lnTo>
                    <a:pt x="315" y="13"/>
                  </a:lnTo>
                  <a:lnTo>
                    <a:pt x="318" y="13"/>
                  </a:lnTo>
                  <a:lnTo>
                    <a:pt x="321" y="13"/>
                  </a:lnTo>
                  <a:lnTo>
                    <a:pt x="324" y="14"/>
                  </a:lnTo>
                  <a:lnTo>
                    <a:pt x="327" y="14"/>
                  </a:lnTo>
                  <a:lnTo>
                    <a:pt x="330" y="14"/>
                  </a:lnTo>
                  <a:lnTo>
                    <a:pt x="333" y="14"/>
                  </a:lnTo>
                  <a:lnTo>
                    <a:pt x="336" y="14"/>
                  </a:lnTo>
                  <a:lnTo>
                    <a:pt x="340" y="14"/>
                  </a:lnTo>
                  <a:lnTo>
                    <a:pt x="343" y="14"/>
                  </a:lnTo>
                  <a:lnTo>
                    <a:pt x="346" y="14"/>
                  </a:lnTo>
                  <a:lnTo>
                    <a:pt x="349" y="15"/>
                  </a:lnTo>
                  <a:lnTo>
                    <a:pt x="352" y="15"/>
                  </a:lnTo>
                  <a:lnTo>
                    <a:pt x="355" y="15"/>
                  </a:lnTo>
                  <a:lnTo>
                    <a:pt x="358" y="15"/>
                  </a:lnTo>
                  <a:lnTo>
                    <a:pt x="361" y="15"/>
                  </a:lnTo>
                  <a:lnTo>
                    <a:pt x="364" y="15"/>
                  </a:lnTo>
                  <a:lnTo>
                    <a:pt x="367" y="15"/>
                  </a:lnTo>
                  <a:lnTo>
                    <a:pt x="370" y="16"/>
                  </a:lnTo>
                  <a:lnTo>
                    <a:pt x="373" y="16"/>
                  </a:lnTo>
                  <a:lnTo>
                    <a:pt x="376" y="16"/>
                  </a:lnTo>
                  <a:lnTo>
                    <a:pt x="379" y="16"/>
                  </a:lnTo>
                  <a:lnTo>
                    <a:pt x="382" y="16"/>
                  </a:lnTo>
                  <a:lnTo>
                    <a:pt x="385" y="16"/>
                  </a:lnTo>
                  <a:lnTo>
                    <a:pt x="388" y="16"/>
                  </a:lnTo>
                  <a:lnTo>
                    <a:pt x="392" y="16"/>
                  </a:lnTo>
                  <a:lnTo>
                    <a:pt x="395" y="17"/>
                  </a:lnTo>
                  <a:lnTo>
                    <a:pt x="398" y="17"/>
                  </a:lnTo>
                  <a:lnTo>
                    <a:pt x="401" y="17"/>
                  </a:lnTo>
                  <a:lnTo>
                    <a:pt x="404" y="17"/>
                  </a:lnTo>
                  <a:lnTo>
                    <a:pt x="407" y="17"/>
                  </a:lnTo>
                  <a:lnTo>
                    <a:pt x="410" y="17"/>
                  </a:lnTo>
                  <a:lnTo>
                    <a:pt x="413" y="17"/>
                  </a:lnTo>
                  <a:lnTo>
                    <a:pt x="416" y="18"/>
                  </a:lnTo>
                  <a:lnTo>
                    <a:pt x="419" y="18"/>
                  </a:lnTo>
                  <a:lnTo>
                    <a:pt x="422" y="18"/>
                  </a:lnTo>
                  <a:lnTo>
                    <a:pt x="425" y="18"/>
                  </a:lnTo>
                  <a:lnTo>
                    <a:pt x="428" y="18"/>
                  </a:lnTo>
                  <a:lnTo>
                    <a:pt x="431" y="18"/>
                  </a:lnTo>
                  <a:lnTo>
                    <a:pt x="434" y="18"/>
                  </a:lnTo>
                  <a:lnTo>
                    <a:pt x="437" y="18"/>
                  </a:lnTo>
                  <a:lnTo>
                    <a:pt x="441" y="19"/>
                  </a:lnTo>
                  <a:lnTo>
                    <a:pt x="444" y="19"/>
                  </a:lnTo>
                  <a:lnTo>
                    <a:pt x="447" y="19"/>
                  </a:lnTo>
                  <a:lnTo>
                    <a:pt x="450" y="19"/>
                  </a:lnTo>
                  <a:lnTo>
                    <a:pt x="453" y="19"/>
                  </a:lnTo>
                  <a:lnTo>
                    <a:pt x="456" y="19"/>
                  </a:lnTo>
                  <a:lnTo>
                    <a:pt x="459" y="19"/>
                  </a:lnTo>
                  <a:lnTo>
                    <a:pt x="462" y="19"/>
                  </a:lnTo>
                  <a:lnTo>
                    <a:pt x="465" y="20"/>
                  </a:lnTo>
                  <a:lnTo>
                    <a:pt x="468" y="20"/>
                  </a:lnTo>
                  <a:lnTo>
                    <a:pt x="471" y="20"/>
                  </a:lnTo>
                  <a:lnTo>
                    <a:pt x="474" y="20"/>
                  </a:lnTo>
                  <a:lnTo>
                    <a:pt x="477" y="2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505240" y="2476440"/>
              <a:ext cx="4543200" cy="628560"/>
            </a:xfrm>
            <a:custGeom>
              <a:avLst/>
              <a:gdLst/>
              <a:ahLst/>
              <a:rect l="l" t="t" r="r" b="b"/>
              <a:pathLst>
                <a:path w="477" h="66">
                  <a:moveTo>
                    <a:pt x="0" y="0"/>
                  </a:moveTo>
                  <a:lnTo>
                    <a:pt x="3" y="1"/>
                  </a:lnTo>
                  <a:lnTo>
                    <a:pt x="6" y="1"/>
                  </a:lnTo>
                  <a:lnTo>
                    <a:pt x="9" y="2"/>
                  </a:lnTo>
                  <a:lnTo>
                    <a:pt x="12" y="2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27" y="4"/>
                  </a:lnTo>
                  <a:lnTo>
                    <a:pt x="30" y="5"/>
                  </a:lnTo>
                  <a:lnTo>
                    <a:pt x="33" y="5"/>
                  </a:lnTo>
                  <a:lnTo>
                    <a:pt x="36" y="5"/>
                  </a:lnTo>
                  <a:lnTo>
                    <a:pt x="40" y="6"/>
                  </a:lnTo>
                  <a:lnTo>
                    <a:pt x="43" y="6"/>
                  </a:lnTo>
                  <a:lnTo>
                    <a:pt x="46" y="7"/>
                  </a:lnTo>
                  <a:lnTo>
                    <a:pt x="49" y="7"/>
                  </a:lnTo>
                  <a:lnTo>
                    <a:pt x="52" y="8"/>
                  </a:lnTo>
                  <a:lnTo>
                    <a:pt x="55" y="8"/>
                  </a:lnTo>
                  <a:lnTo>
                    <a:pt x="58" y="8"/>
                  </a:lnTo>
                  <a:lnTo>
                    <a:pt x="61" y="9"/>
                  </a:lnTo>
                  <a:lnTo>
                    <a:pt x="64" y="9"/>
                  </a:lnTo>
                  <a:lnTo>
                    <a:pt x="67" y="10"/>
                  </a:lnTo>
                  <a:lnTo>
                    <a:pt x="70" y="10"/>
                  </a:lnTo>
                  <a:lnTo>
                    <a:pt x="73" y="10"/>
                  </a:lnTo>
                  <a:lnTo>
                    <a:pt x="76" y="11"/>
                  </a:lnTo>
                  <a:lnTo>
                    <a:pt x="79" y="11"/>
                  </a:lnTo>
                  <a:lnTo>
                    <a:pt x="82" y="12"/>
                  </a:lnTo>
                  <a:lnTo>
                    <a:pt x="85" y="12"/>
                  </a:lnTo>
                  <a:lnTo>
                    <a:pt x="89" y="13"/>
                  </a:lnTo>
                  <a:lnTo>
                    <a:pt x="92" y="13"/>
                  </a:lnTo>
                  <a:lnTo>
                    <a:pt x="95" y="13"/>
                  </a:lnTo>
                  <a:lnTo>
                    <a:pt x="98" y="14"/>
                  </a:lnTo>
                  <a:lnTo>
                    <a:pt x="101" y="14"/>
                  </a:lnTo>
                  <a:lnTo>
                    <a:pt x="104" y="15"/>
                  </a:lnTo>
                  <a:lnTo>
                    <a:pt x="107" y="15"/>
                  </a:lnTo>
                  <a:lnTo>
                    <a:pt x="110" y="15"/>
                  </a:lnTo>
                  <a:lnTo>
                    <a:pt x="113" y="16"/>
                  </a:lnTo>
                  <a:lnTo>
                    <a:pt x="116" y="16"/>
                  </a:lnTo>
                  <a:lnTo>
                    <a:pt x="119" y="17"/>
                  </a:lnTo>
                  <a:lnTo>
                    <a:pt x="122" y="17"/>
                  </a:lnTo>
                  <a:lnTo>
                    <a:pt x="125" y="18"/>
                  </a:lnTo>
                  <a:lnTo>
                    <a:pt x="128" y="18"/>
                  </a:lnTo>
                  <a:lnTo>
                    <a:pt x="131" y="18"/>
                  </a:lnTo>
                  <a:lnTo>
                    <a:pt x="134" y="19"/>
                  </a:lnTo>
                  <a:lnTo>
                    <a:pt x="137" y="19"/>
                  </a:lnTo>
                  <a:lnTo>
                    <a:pt x="141" y="20"/>
                  </a:lnTo>
                  <a:lnTo>
                    <a:pt x="144" y="20"/>
                  </a:lnTo>
                  <a:lnTo>
                    <a:pt x="147" y="20"/>
                  </a:lnTo>
                  <a:lnTo>
                    <a:pt x="150" y="21"/>
                  </a:lnTo>
                  <a:lnTo>
                    <a:pt x="153" y="21"/>
                  </a:lnTo>
                  <a:lnTo>
                    <a:pt x="156" y="22"/>
                  </a:lnTo>
                  <a:lnTo>
                    <a:pt x="159" y="22"/>
                  </a:lnTo>
                  <a:lnTo>
                    <a:pt x="162" y="23"/>
                  </a:lnTo>
                  <a:lnTo>
                    <a:pt x="165" y="23"/>
                  </a:lnTo>
                  <a:lnTo>
                    <a:pt x="168" y="23"/>
                  </a:lnTo>
                  <a:lnTo>
                    <a:pt x="171" y="24"/>
                  </a:lnTo>
                  <a:lnTo>
                    <a:pt x="174" y="24"/>
                  </a:lnTo>
                  <a:lnTo>
                    <a:pt x="177" y="25"/>
                  </a:lnTo>
                  <a:lnTo>
                    <a:pt x="180" y="25"/>
                  </a:lnTo>
                  <a:lnTo>
                    <a:pt x="183" y="25"/>
                  </a:lnTo>
                  <a:lnTo>
                    <a:pt x="186" y="26"/>
                  </a:lnTo>
                  <a:lnTo>
                    <a:pt x="190" y="26"/>
                  </a:lnTo>
                  <a:lnTo>
                    <a:pt x="193" y="27"/>
                  </a:lnTo>
                  <a:lnTo>
                    <a:pt x="196" y="27"/>
                  </a:lnTo>
                  <a:lnTo>
                    <a:pt x="199" y="28"/>
                  </a:lnTo>
                  <a:lnTo>
                    <a:pt x="202" y="28"/>
                  </a:lnTo>
                  <a:lnTo>
                    <a:pt x="205" y="28"/>
                  </a:lnTo>
                  <a:lnTo>
                    <a:pt x="208" y="29"/>
                  </a:lnTo>
                  <a:lnTo>
                    <a:pt x="211" y="29"/>
                  </a:lnTo>
                  <a:lnTo>
                    <a:pt x="214" y="30"/>
                  </a:lnTo>
                  <a:lnTo>
                    <a:pt x="217" y="30"/>
                  </a:lnTo>
                  <a:lnTo>
                    <a:pt x="220" y="30"/>
                  </a:lnTo>
                  <a:lnTo>
                    <a:pt x="223" y="31"/>
                  </a:lnTo>
                  <a:lnTo>
                    <a:pt x="226" y="31"/>
                  </a:lnTo>
                  <a:lnTo>
                    <a:pt x="229" y="32"/>
                  </a:lnTo>
                  <a:lnTo>
                    <a:pt x="232" y="32"/>
                  </a:lnTo>
                  <a:lnTo>
                    <a:pt x="235" y="33"/>
                  </a:lnTo>
                  <a:lnTo>
                    <a:pt x="239" y="33"/>
                  </a:lnTo>
                  <a:lnTo>
                    <a:pt x="242" y="33"/>
                  </a:lnTo>
                  <a:lnTo>
                    <a:pt x="245" y="34"/>
                  </a:lnTo>
                  <a:lnTo>
                    <a:pt x="248" y="34"/>
                  </a:lnTo>
                  <a:lnTo>
                    <a:pt x="251" y="35"/>
                  </a:lnTo>
                  <a:lnTo>
                    <a:pt x="254" y="35"/>
                  </a:lnTo>
                  <a:lnTo>
                    <a:pt x="257" y="36"/>
                  </a:lnTo>
                  <a:lnTo>
                    <a:pt x="260" y="36"/>
                  </a:lnTo>
                  <a:lnTo>
                    <a:pt x="263" y="36"/>
                  </a:lnTo>
                  <a:lnTo>
                    <a:pt x="266" y="37"/>
                  </a:lnTo>
                  <a:lnTo>
                    <a:pt x="269" y="37"/>
                  </a:lnTo>
                  <a:lnTo>
                    <a:pt x="272" y="38"/>
                  </a:lnTo>
                  <a:lnTo>
                    <a:pt x="275" y="38"/>
                  </a:lnTo>
                  <a:lnTo>
                    <a:pt x="278" y="38"/>
                  </a:lnTo>
                  <a:lnTo>
                    <a:pt x="281" y="39"/>
                  </a:lnTo>
                  <a:lnTo>
                    <a:pt x="284" y="39"/>
                  </a:lnTo>
                  <a:lnTo>
                    <a:pt x="287" y="40"/>
                  </a:lnTo>
                  <a:lnTo>
                    <a:pt x="291" y="40"/>
                  </a:lnTo>
                  <a:lnTo>
                    <a:pt x="294" y="41"/>
                  </a:lnTo>
                  <a:lnTo>
                    <a:pt x="297" y="41"/>
                  </a:lnTo>
                  <a:lnTo>
                    <a:pt x="300" y="41"/>
                  </a:lnTo>
                  <a:lnTo>
                    <a:pt x="303" y="42"/>
                  </a:lnTo>
                  <a:lnTo>
                    <a:pt x="306" y="42"/>
                  </a:lnTo>
                  <a:lnTo>
                    <a:pt x="309" y="43"/>
                  </a:lnTo>
                  <a:lnTo>
                    <a:pt x="312" y="43"/>
                  </a:lnTo>
                  <a:lnTo>
                    <a:pt x="315" y="43"/>
                  </a:lnTo>
                  <a:lnTo>
                    <a:pt x="318" y="44"/>
                  </a:lnTo>
                  <a:lnTo>
                    <a:pt x="321" y="44"/>
                  </a:lnTo>
                  <a:lnTo>
                    <a:pt x="324" y="45"/>
                  </a:lnTo>
                  <a:lnTo>
                    <a:pt x="327" y="45"/>
                  </a:lnTo>
                  <a:lnTo>
                    <a:pt x="330" y="46"/>
                  </a:lnTo>
                  <a:lnTo>
                    <a:pt x="333" y="46"/>
                  </a:lnTo>
                  <a:lnTo>
                    <a:pt x="336" y="46"/>
                  </a:lnTo>
                  <a:lnTo>
                    <a:pt x="340" y="47"/>
                  </a:lnTo>
                  <a:lnTo>
                    <a:pt x="343" y="47"/>
                  </a:lnTo>
                  <a:lnTo>
                    <a:pt x="346" y="48"/>
                  </a:lnTo>
                  <a:lnTo>
                    <a:pt x="349" y="48"/>
                  </a:lnTo>
                  <a:lnTo>
                    <a:pt x="352" y="48"/>
                  </a:lnTo>
                  <a:lnTo>
                    <a:pt x="355" y="49"/>
                  </a:lnTo>
                  <a:lnTo>
                    <a:pt x="358" y="49"/>
                  </a:lnTo>
                  <a:lnTo>
                    <a:pt x="361" y="50"/>
                  </a:lnTo>
                  <a:lnTo>
                    <a:pt x="364" y="50"/>
                  </a:lnTo>
                  <a:lnTo>
                    <a:pt x="367" y="51"/>
                  </a:lnTo>
                  <a:lnTo>
                    <a:pt x="370" y="51"/>
                  </a:lnTo>
                  <a:lnTo>
                    <a:pt x="373" y="51"/>
                  </a:lnTo>
                  <a:lnTo>
                    <a:pt x="376" y="52"/>
                  </a:lnTo>
                  <a:lnTo>
                    <a:pt x="379" y="52"/>
                  </a:lnTo>
                  <a:lnTo>
                    <a:pt x="382" y="53"/>
                  </a:lnTo>
                  <a:lnTo>
                    <a:pt x="385" y="53"/>
                  </a:lnTo>
                  <a:lnTo>
                    <a:pt x="388" y="53"/>
                  </a:lnTo>
                  <a:lnTo>
                    <a:pt x="392" y="54"/>
                  </a:lnTo>
                  <a:lnTo>
                    <a:pt x="395" y="54"/>
                  </a:lnTo>
                  <a:lnTo>
                    <a:pt x="398" y="55"/>
                  </a:lnTo>
                  <a:lnTo>
                    <a:pt x="401" y="55"/>
                  </a:lnTo>
                  <a:lnTo>
                    <a:pt x="404" y="56"/>
                  </a:lnTo>
                  <a:lnTo>
                    <a:pt x="407" y="56"/>
                  </a:lnTo>
                  <a:lnTo>
                    <a:pt x="410" y="56"/>
                  </a:lnTo>
                  <a:lnTo>
                    <a:pt x="413" y="57"/>
                  </a:lnTo>
                  <a:lnTo>
                    <a:pt x="416" y="57"/>
                  </a:lnTo>
                  <a:lnTo>
                    <a:pt x="419" y="58"/>
                  </a:lnTo>
                  <a:lnTo>
                    <a:pt x="422" y="58"/>
                  </a:lnTo>
                  <a:lnTo>
                    <a:pt x="425" y="58"/>
                  </a:lnTo>
                  <a:lnTo>
                    <a:pt x="428" y="59"/>
                  </a:lnTo>
                  <a:lnTo>
                    <a:pt x="431" y="59"/>
                  </a:lnTo>
                  <a:lnTo>
                    <a:pt x="434" y="60"/>
                  </a:lnTo>
                  <a:lnTo>
                    <a:pt x="437" y="60"/>
                  </a:lnTo>
                  <a:lnTo>
                    <a:pt x="441" y="61"/>
                  </a:lnTo>
                  <a:lnTo>
                    <a:pt x="444" y="61"/>
                  </a:lnTo>
                  <a:lnTo>
                    <a:pt x="447" y="61"/>
                  </a:lnTo>
                  <a:lnTo>
                    <a:pt x="450" y="62"/>
                  </a:lnTo>
                  <a:lnTo>
                    <a:pt x="453" y="62"/>
                  </a:lnTo>
                  <a:lnTo>
                    <a:pt x="456" y="63"/>
                  </a:lnTo>
                  <a:lnTo>
                    <a:pt x="459" y="63"/>
                  </a:lnTo>
                  <a:lnTo>
                    <a:pt x="462" y="63"/>
                  </a:lnTo>
                  <a:lnTo>
                    <a:pt x="465" y="64"/>
                  </a:lnTo>
                  <a:lnTo>
                    <a:pt x="468" y="64"/>
                  </a:lnTo>
                  <a:lnTo>
                    <a:pt x="471" y="65"/>
                  </a:lnTo>
                  <a:lnTo>
                    <a:pt x="474" y="65"/>
                  </a:lnTo>
                  <a:lnTo>
                    <a:pt x="477" y="6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709440" y="952560"/>
              <a:ext cx="182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IOS Reserves Statis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364360" y="3857760"/>
              <a:ext cx="94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y = 110.07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289560" y="3819600"/>
              <a:ext cx="49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-0.0468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429880" y="2457360"/>
              <a:ext cx="922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y = 4E+08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327360" y="2419200"/>
              <a:ext cx="49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-0.1491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365120" y="52387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,000,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296720" y="3324240"/>
              <a:ext cx="70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,000,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191960" y="1409760"/>
              <a:ext cx="806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000,000,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16200000">
              <a:off x="2364480" y="54338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16200000">
              <a:off x="3269160" y="54324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16200000">
              <a:off x="4183560" y="54324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16200000">
              <a:off x="5088600" y="54324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16200000">
              <a:off x="6003000" y="54324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16200000">
              <a:off x="6908040" y="54338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rot="16200000">
              <a:off x="927360" y="329508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c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625520" y="5238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.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623720" y="33242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.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621920" y="140976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0.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6200000">
              <a:off x="7596720" y="3313080"/>
              <a:ext cx="999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umber of Wel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771640" y="5800680"/>
              <a:ext cx="4000680" cy="219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819520" y="5915160"/>
              <a:ext cx="266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914560" y="5877000"/>
              <a:ext cx="66600" cy="6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135600" y="5829480"/>
              <a:ext cx="46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ltim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629160" y="5915160"/>
              <a:ext cx="26640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724200" y="587700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951000" y="5829480"/>
              <a:ext cx="30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l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295880" y="5915160"/>
              <a:ext cx="26676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613400" y="5829480"/>
              <a:ext cx="822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xpon. (Well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467320" y="5915160"/>
              <a:ext cx="266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779440" y="5829480"/>
              <a:ext cx="9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xpon. (Ultimate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5943600" y="22860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cket No RP-03     Exhibit No. HIO-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-4877280" y="-360"/>
            <a:ext cx="1402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cket No. RP03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10480" cy="379584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 flipH="1">
            <a:off x="6629400" y="83808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hibit No. HIO-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 flipV="1">
            <a:off x="7191360" y="559116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7324560" y="559116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7458120" y="559116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7591320" y="559116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673000" y="952560"/>
            <a:ext cx="3807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IOS Shelf Gas Production From Existing and New Wel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599480" y="551484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236240" y="5000760"/>
            <a:ext cx="416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,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236240" y="4476600"/>
            <a:ext cx="416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0,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236240" y="3962520"/>
            <a:ext cx="416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00,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236240" y="3448080"/>
            <a:ext cx="416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00,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140840" y="2409840"/>
            <a:ext cx="512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200,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140840" y="1886040"/>
            <a:ext cx="512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400,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140840" y="1371600"/>
            <a:ext cx="512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600,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rot="16200000">
            <a:off x="1622880" y="57567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7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rot="16200000">
            <a:off x="1892880" y="57567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rot="16200000">
            <a:off x="2159640" y="57567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8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rot="16200000">
            <a:off x="2416680" y="57567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8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rot="16200000">
            <a:off x="2683440" y="57567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8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rot="16200000">
            <a:off x="2950200" y="57567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8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rot="16200000">
            <a:off x="3216960" y="575532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rot="16200000">
            <a:off x="3483720" y="575532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rot="16200000">
            <a:off x="3750120" y="575532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rot="16200000">
            <a:off x="4007520" y="575532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rot="16200000">
            <a:off x="4274280" y="575532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rot="16200000">
            <a:off x="4540680" y="575532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rot="16200000">
            <a:off x="4807440" y="575532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rot="16200000">
            <a:off x="5074200" y="575532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rot="16200000">
            <a:off x="5331240" y="575532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rot="16200000">
            <a:off x="5598000" y="575532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rot="16200000">
            <a:off x="5864760" y="575532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rot="16200000">
            <a:off x="6131520" y="575532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rot="16200000">
            <a:off x="6398280" y="57567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rot="16200000">
            <a:off x="6922080" y="57567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rot="16200000">
            <a:off x="7188840" y="575388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rot="16200000">
            <a:off x="7455600" y="575388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2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rot="16200000">
            <a:off x="858960" y="3448440"/>
            <a:ext cx="29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cf/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1140840" y="809640"/>
            <a:ext cx="7107840" cy="5591160"/>
            <a:chOff x="1140840" y="809640"/>
            <a:chExt cx="7107840" cy="5591160"/>
          </a:xfrm>
        </p:grpSpPr>
        <p:grpSp>
          <p:nvGrpSpPr>
            <p:cNvPr id="672" name=""/>
            <p:cNvGrpSpPr/>
            <p:nvPr/>
          </p:nvGrpSpPr>
          <p:grpSpPr>
            <a:xfrm>
              <a:off x="1724040" y="1447920"/>
              <a:ext cx="5869080" cy="4181040"/>
              <a:chOff x="1724040" y="1447920"/>
              <a:chExt cx="5869080" cy="4181040"/>
            </a:xfrm>
          </p:grpSpPr>
          <p:sp>
            <p:nvSpPr>
              <p:cNvPr id="673" name=""/>
              <p:cNvSpPr/>
              <p:nvPr/>
            </p:nvSpPr>
            <p:spPr>
              <a:xfrm>
                <a:off x="1762200" y="1447920"/>
                <a:ext cx="5829120" cy="414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762200" y="5077080"/>
                <a:ext cx="5829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762200" y="4553280"/>
                <a:ext cx="5829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762200" y="4038840"/>
                <a:ext cx="5829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762200" y="3524400"/>
                <a:ext cx="5829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762200" y="3000600"/>
                <a:ext cx="5829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762200" y="2486160"/>
                <a:ext cx="5829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762200" y="1962360"/>
                <a:ext cx="5829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762200" y="1447920"/>
                <a:ext cx="5829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895400" y="1447920"/>
                <a:ext cx="1800" cy="414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028960" y="1447920"/>
                <a:ext cx="1440" cy="414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162160" y="1447920"/>
                <a:ext cx="1440" cy="414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295360" y="1447920"/>
                <a:ext cx="1800" cy="414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428920" y="1447920"/>
                <a:ext cx="1440" cy="414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552760" y="1447920"/>
                <a:ext cx="1440" cy="414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685960" y="1447920"/>
                <a:ext cx="1800" cy="414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819520" y="1447920"/>
                <a:ext cx="1440" cy="414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952720" y="1447920"/>
                <a:ext cx="1440" cy="414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085920" y="1447920"/>
                <a:ext cx="1800" cy="414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219480" y="1447920"/>
                <a:ext cx="1440" cy="414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352680" y="1447920"/>
                <a:ext cx="1800" cy="414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486240" y="1447920"/>
                <a:ext cx="1440" cy="414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619440" y="1447920"/>
                <a:ext cx="1440" cy="414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53000" y="1447920"/>
                <a:ext cx="1440" cy="414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886200" y="1447920"/>
                <a:ext cx="1440" cy="414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010040" y="1447920"/>
                <a:ext cx="1440" cy="414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143240" y="1447920"/>
                <a:ext cx="1800" cy="414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276800" y="1447920"/>
                <a:ext cx="1440" cy="414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410000" y="1447920"/>
                <a:ext cx="1800" cy="414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543560" y="1447920"/>
                <a:ext cx="1440" cy="414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676760" y="1447920"/>
                <a:ext cx="1440" cy="414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809960" y="1447920"/>
                <a:ext cx="1800" cy="414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943520" y="1447920"/>
                <a:ext cx="1440" cy="414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076720" y="1447920"/>
                <a:ext cx="1800" cy="414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210280" y="1447920"/>
                <a:ext cx="1440" cy="414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343480" y="1447920"/>
                <a:ext cx="1440" cy="414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467320" y="1447920"/>
                <a:ext cx="1440" cy="414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600520" y="1447920"/>
                <a:ext cx="1800" cy="414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734080" y="1447920"/>
                <a:ext cx="1440" cy="414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867280" y="1447920"/>
                <a:ext cx="1800" cy="414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000840" y="1447920"/>
                <a:ext cx="1440" cy="414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134040" y="1447920"/>
                <a:ext cx="1440" cy="414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267600" y="1447920"/>
                <a:ext cx="1440" cy="414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400800" y="1447920"/>
                <a:ext cx="1440" cy="414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534000" y="1447920"/>
                <a:ext cx="1800" cy="414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667560" y="1447920"/>
                <a:ext cx="1440" cy="414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800760" y="1447920"/>
                <a:ext cx="1800" cy="414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924600" y="1447920"/>
                <a:ext cx="1800" cy="414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058160" y="1447920"/>
                <a:ext cx="1440" cy="414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191360" y="1447920"/>
                <a:ext cx="1440" cy="414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324560" y="1447920"/>
                <a:ext cx="1800" cy="414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458120" y="1447920"/>
                <a:ext cx="1440" cy="414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591320" y="1447920"/>
                <a:ext cx="1800" cy="414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762200" y="1447920"/>
                <a:ext cx="5829120" cy="41436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1762200" y="5562720"/>
                <a:ext cx="5829120" cy="28800"/>
              </a:xfrm>
              <a:custGeom>
                <a:avLst/>
                <a:gdLst/>
                <a:ahLst/>
                <a:rect l="l" t="t" r="r" b="b"/>
                <a:pathLst>
                  <a:path w="3672" h="18">
                    <a:moveTo>
                      <a:pt x="0" y="18"/>
                    </a:moveTo>
                    <a:lnTo>
                      <a:pt x="0" y="18"/>
                    </a:lnTo>
                    <a:lnTo>
                      <a:pt x="84" y="18"/>
                    </a:lnTo>
                    <a:lnTo>
                      <a:pt x="168" y="18"/>
                    </a:lnTo>
                    <a:lnTo>
                      <a:pt x="252" y="6"/>
                    </a:lnTo>
                    <a:lnTo>
                      <a:pt x="336" y="0"/>
                    </a:lnTo>
                    <a:lnTo>
                      <a:pt x="420" y="12"/>
                    </a:lnTo>
                    <a:lnTo>
                      <a:pt x="498" y="18"/>
                    </a:lnTo>
                    <a:lnTo>
                      <a:pt x="582" y="18"/>
                    </a:lnTo>
                    <a:lnTo>
                      <a:pt x="666" y="18"/>
                    </a:lnTo>
                    <a:lnTo>
                      <a:pt x="750" y="18"/>
                    </a:lnTo>
                    <a:lnTo>
                      <a:pt x="834" y="18"/>
                    </a:lnTo>
                    <a:lnTo>
                      <a:pt x="918" y="18"/>
                    </a:lnTo>
                    <a:lnTo>
                      <a:pt x="1002" y="18"/>
                    </a:lnTo>
                    <a:lnTo>
                      <a:pt x="1086" y="18"/>
                    </a:lnTo>
                    <a:lnTo>
                      <a:pt x="1170" y="6"/>
                    </a:lnTo>
                    <a:lnTo>
                      <a:pt x="1254" y="6"/>
                    </a:lnTo>
                    <a:lnTo>
                      <a:pt x="1338" y="6"/>
                    </a:lnTo>
                    <a:lnTo>
                      <a:pt x="1416" y="12"/>
                    </a:lnTo>
                    <a:lnTo>
                      <a:pt x="1500" y="12"/>
                    </a:lnTo>
                    <a:lnTo>
                      <a:pt x="1584" y="12"/>
                    </a:lnTo>
                    <a:lnTo>
                      <a:pt x="1668" y="12"/>
                    </a:lnTo>
                    <a:lnTo>
                      <a:pt x="1752" y="12"/>
                    </a:lnTo>
                    <a:lnTo>
                      <a:pt x="1836" y="12"/>
                    </a:lnTo>
                    <a:lnTo>
                      <a:pt x="1920" y="12"/>
                    </a:lnTo>
                    <a:lnTo>
                      <a:pt x="2004" y="12"/>
                    </a:lnTo>
                    <a:lnTo>
                      <a:pt x="2088" y="12"/>
                    </a:lnTo>
                    <a:lnTo>
                      <a:pt x="2172" y="12"/>
                    </a:lnTo>
                    <a:lnTo>
                      <a:pt x="2256" y="12"/>
                    </a:lnTo>
                    <a:lnTo>
                      <a:pt x="2334" y="12"/>
                    </a:lnTo>
                    <a:lnTo>
                      <a:pt x="2418" y="12"/>
                    </a:lnTo>
                    <a:lnTo>
                      <a:pt x="2502" y="12"/>
                    </a:lnTo>
                    <a:lnTo>
                      <a:pt x="2586" y="18"/>
                    </a:lnTo>
                    <a:lnTo>
                      <a:pt x="2670" y="18"/>
                    </a:lnTo>
                    <a:lnTo>
                      <a:pt x="2754" y="18"/>
                    </a:lnTo>
                    <a:lnTo>
                      <a:pt x="2838" y="18"/>
                    </a:lnTo>
                    <a:lnTo>
                      <a:pt x="2922" y="18"/>
                    </a:lnTo>
                    <a:lnTo>
                      <a:pt x="3006" y="18"/>
                    </a:lnTo>
                    <a:lnTo>
                      <a:pt x="3090" y="18"/>
                    </a:lnTo>
                    <a:lnTo>
                      <a:pt x="3174" y="18"/>
                    </a:lnTo>
                    <a:lnTo>
                      <a:pt x="3252" y="18"/>
                    </a:lnTo>
                    <a:lnTo>
                      <a:pt x="3336" y="18"/>
                    </a:lnTo>
                    <a:lnTo>
                      <a:pt x="3420" y="18"/>
                    </a:lnTo>
                    <a:lnTo>
                      <a:pt x="3504" y="18"/>
                    </a:lnTo>
                    <a:lnTo>
                      <a:pt x="3588" y="18"/>
                    </a:lnTo>
                    <a:lnTo>
                      <a:pt x="3672" y="18"/>
                    </a:lnTo>
                    <a:lnTo>
                      <a:pt x="3672" y="18"/>
                    </a:lnTo>
                    <a:lnTo>
                      <a:pt x="3588" y="18"/>
                    </a:lnTo>
                    <a:lnTo>
                      <a:pt x="3504" y="18"/>
                    </a:lnTo>
                    <a:lnTo>
                      <a:pt x="3420" y="18"/>
                    </a:lnTo>
                    <a:lnTo>
                      <a:pt x="3336" y="18"/>
                    </a:lnTo>
                    <a:lnTo>
                      <a:pt x="3252" y="18"/>
                    </a:lnTo>
                    <a:lnTo>
                      <a:pt x="3174" y="18"/>
                    </a:lnTo>
                    <a:lnTo>
                      <a:pt x="3090" y="18"/>
                    </a:lnTo>
                    <a:lnTo>
                      <a:pt x="3006" y="18"/>
                    </a:lnTo>
                    <a:lnTo>
                      <a:pt x="2922" y="18"/>
                    </a:lnTo>
                    <a:lnTo>
                      <a:pt x="2838" y="18"/>
                    </a:lnTo>
                    <a:lnTo>
                      <a:pt x="2754" y="18"/>
                    </a:lnTo>
                    <a:lnTo>
                      <a:pt x="2670" y="18"/>
                    </a:lnTo>
                    <a:lnTo>
                      <a:pt x="2586" y="18"/>
                    </a:lnTo>
                    <a:lnTo>
                      <a:pt x="2502" y="18"/>
                    </a:lnTo>
                    <a:lnTo>
                      <a:pt x="2418" y="18"/>
                    </a:lnTo>
                    <a:lnTo>
                      <a:pt x="2334" y="18"/>
                    </a:lnTo>
                    <a:lnTo>
                      <a:pt x="2256" y="18"/>
                    </a:lnTo>
                    <a:lnTo>
                      <a:pt x="2172" y="18"/>
                    </a:lnTo>
                    <a:lnTo>
                      <a:pt x="2088" y="18"/>
                    </a:lnTo>
                    <a:lnTo>
                      <a:pt x="2004" y="18"/>
                    </a:lnTo>
                    <a:lnTo>
                      <a:pt x="1920" y="18"/>
                    </a:lnTo>
                    <a:lnTo>
                      <a:pt x="1836" y="18"/>
                    </a:lnTo>
                    <a:lnTo>
                      <a:pt x="1752" y="18"/>
                    </a:lnTo>
                    <a:lnTo>
                      <a:pt x="1668" y="18"/>
                    </a:lnTo>
                    <a:lnTo>
                      <a:pt x="1584" y="18"/>
                    </a:lnTo>
                    <a:lnTo>
                      <a:pt x="1500" y="18"/>
                    </a:lnTo>
                    <a:lnTo>
                      <a:pt x="1416" y="18"/>
                    </a:lnTo>
                    <a:lnTo>
                      <a:pt x="1338" y="18"/>
                    </a:lnTo>
                    <a:lnTo>
                      <a:pt x="1254" y="18"/>
                    </a:lnTo>
                    <a:lnTo>
                      <a:pt x="1170" y="18"/>
                    </a:lnTo>
                    <a:lnTo>
                      <a:pt x="1086" y="18"/>
                    </a:lnTo>
                    <a:lnTo>
                      <a:pt x="1002" y="18"/>
                    </a:lnTo>
                    <a:lnTo>
                      <a:pt x="918" y="18"/>
                    </a:lnTo>
                    <a:lnTo>
                      <a:pt x="834" y="18"/>
                    </a:lnTo>
                    <a:lnTo>
                      <a:pt x="750" y="18"/>
                    </a:lnTo>
                    <a:lnTo>
                      <a:pt x="666" y="18"/>
                    </a:lnTo>
                    <a:lnTo>
                      <a:pt x="582" y="18"/>
                    </a:lnTo>
                    <a:lnTo>
                      <a:pt x="498" y="18"/>
                    </a:lnTo>
                    <a:lnTo>
                      <a:pt x="420" y="18"/>
                    </a:lnTo>
                    <a:lnTo>
                      <a:pt x="336" y="18"/>
                    </a:lnTo>
                    <a:lnTo>
                      <a:pt x="252" y="18"/>
                    </a:lnTo>
                    <a:lnTo>
                      <a:pt x="168" y="18"/>
                    </a:lnTo>
                    <a:lnTo>
                      <a:pt x="84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762200" y="5553360"/>
                <a:ext cx="5829120" cy="38160"/>
              </a:xfrm>
              <a:custGeom>
                <a:avLst/>
                <a:gdLst/>
                <a:ahLst/>
                <a:rect l="l" t="t" r="r" b="b"/>
                <a:pathLst>
                  <a:path w="3672" h="24">
                    <a:moveTo>
                      <a:pt x="0" y="24"/>
                    </a:moveTo>
                    <a:lnTo>
                      <a:pt x="0" y="24"/>
                    </a:lnTo>
                    <a:lnTo>
                      <a:pt x="84" y="18"/>
                    </a:lnTo>
                    <a:lnTo>
                      <a:pt x="168" y="18"/>
                    </a:lnTo>
                    <a:lnTo>
                      <a:pt x="252" y="12"/>
                    </a:lnTo>
                    <a:lnTo>
                      <a:pt x="336" y="0"/>
                    </a:lnTo>
                    <a:lnTo>
                      <a:pt x="420" y="18"/>
                    </a:lnTo>
                    <a:lnTo>
                      <a:pt x="498" y="24"/>
                    </a:lnTo>
                    <a:lnTo>
                      <a:pt x="582" y="18"/>
                    </a:lnTo>
                    <a:lnTo>
                      <a:pt x="666" y="18"/>
                    </a:lnTo>
                    <a:lnTo>
                      <a:pt x="750" y="24"/>
                    </a:lnTo>
                    <a:lnTo>
                      <a:pt x="834" y="24"/>
                    </a:lnTo>
                    <a:lnTo>
                      <a:pt x="918" y="24"/>
                    </a:lnTo>
                    <a:lnTo>
                      <a:pt x="1002" y="24"/>
                    </a:lnTo>
                    <a:lnTo>
                      <a:pt x="1086" y="24"/>
                    </a:lnTo>
                    <a:lnTo>
                      <a:pt x="1170" y="12"/>
                    </a:lnTo>
                    <a:lnTo>
                      <a:pt x="1254" y="12"/>
                    </a:lnTo>
                    <a:lnTo>
                      <a:pt x="1338" y="12"/>
                    </a:lnTo>
                    <a:lnTo>
                      <a:pt x="1416" y="6"/>
                    </a:lnTo>
                    <a:lnTo>
                      <a:pt x="1500" y="12"/>
                    </a:lnTo>
                    <a:lnTo>
                      <a:pt x="1584" y="18"/>
                    </a:lnTo>
                    <a:lnTo>
                      <a:pt x="1668" y="18"/>
                    </a:lnTo>
                    <a:lnTo>
                      <a:pt x="1752" y="18"/>
                    </a:lnTo>
                    <a:lnTo>
                      <a:pt x="1836" y="18"/>
                    </a:lnTo>
                    <a:lnTo>
                      <a:pt x="1920" y="18"/>
                    </a:lnTo>
                    <a:lnTo>
                      <a:pt x="2004" y="18"/>
                    </a:lnTo>
                    <a:lnTo>
                      <a:pt x="2088" y="18"/>
                    </a:lnTo>
                    <a:lnTo>
                      <a:pt x="2172" y="18"/>
                    </a:lnTo>
                    <a:lnTo>
                      <a:pt x="2256" y="18"/>
                    </a:lnTo>
                    <a:lnTo>
                      <a:pt x="2334" y="18"/>
                    </a:lnTo>
                    <a:lnTo>
                      <a:pt x="2418" y="18"/>
                    </a:lnTo>
                    <a:lnTo>
                      <a:pt x="2502" y="18"/>
                    </a:lnTo>
                    <a:lnTo>
                      <a:pt x="2586" y="24"/>
                    </a:lnTo>
                    <a:lnTo>
                      <a:pt x="2670" y="24"/>
                    </a:lnTo>
                    <a:lnTo>
                      <a:pt x="2754" y="24"/>
                    </a:lnTo>
                    <a:lnTo>
                      <a:pt x="2838" y="24"/>
                    </a:lnTo>
                    <a:lnTo>
                      <a:pt x="2922" y="24"/>
                    </a:lnTo>
                    <a:lnTo>
                      <a:pt x="3006" y="24"/>
                    </a:lnTo>
                    <a:lnTo>
                      <a:pt x="3090" y="24"/>
                    </a:lnTo>
                    <a:lnTo>
                      <a:pt x="3174" y="24"/>
                    </a:lnTo>
                    <a:lnTo>
                      <a:pt x="3252" y="24"/>
                    </a:lnTo>
                    <a:lnTo>
                      <a:pt x="3336" y="24"/>
                    </a:lnTo>
                    <a:lnTo>
                      <a:pt x="3420" y="24"/>
                    </a:lnTo>
                    <a:lnTo>
                      <a:pt x="3504" y="24"/>
                    </a:lnTo>
                    <a:lnTo>
                      <a:pt x="3588" y="24"/>
                    </a:lnTo>
                    <a:lnTo>
                      <a:pt x="3672" y="24"/>
                    </a:lnTo>
                    <a:lnTo>
                      <a:pt x="3672" y="24"/>
                    </a:lnTo>
                    <a:lnTo>
                      <a:pt x="3588" y="24"/>
                    </a:lnTo>
                    <a:lnTo>
                      <a:pt x="3504" y="24"/>
                    </a:lnTo>
                    <a:lnTo>
                      <a:pt x="3420" y="24"/>
                    </a:lnTo>
                    <a:lnTo>
                      <a:pt x="3336" y="24"/>
                    </a:lnTo>
                    <a:lnTo>
                      <a:pt x="3252" y="24"/>
                    </a:lnTo>
                    <a:lnTo>
                      <a:pt x="3174" y="24"/>
                    </a:lnTo>
                    <a:lnTo>
                      <a:pt x="3090" y="24"/>
                    </a:lnTo>
                    <a:lnTo>
                      <a:pt x="3006" y="24"/>
                    </a:lnTo>
                    <a:lnTo>
                      <a:pt x="2922" y="24"/>
                    </a:lnTo>
                    <a:lnTo>
                      <a:pt x="2838" y="24"/>
                    </a:lnTo>
                    <a:lnTo>
                      <a:pt x="2754" y="24"/>
                    </a:lnTo>
                    <a:lnTo>
                      <a:pt x="2670" y="24"/>
                    </a:lnTo>
                    <a:lnTo>
                      <a:pt x="2586" y="24"/>
                    </a:lnTo>
                    <a:lnTo>
                      <a:pt x="2502" y="18"/>
                    </a:lnTo>
                    <a:lnTo>
                      <a:pt x="2418" y="18"/>
                    </a:lnTo>
                    <a:lnTo>
                      <a:pt x="2334" y="18"/>
                    </a:lnTo>
                    <a:lnTo>
                      <a:pt x="2256" y="18"/>
                    </a:lnTo>
                    <a:lnTo>
                      <a:pt x="2172" y="18"/>
                    </a:lnTo>
                    <a:lnTo>
                      <a:pt x="2088" y="18"/>
                    </a:lnTo>
                    <a:lnTo>
                      <a:pt x="2004" y="18"/>
                    </a:lnTo>
                    <a:lnTo>
                      <a:pt x="1920" y="18"/>
                    </a:lnTo>
                    <a:lnTo>
                      <a:pt x="1836" y="18"/>
                    </a:lnTo>
                    <a:lnTo>
                      <a:pt x="1752" y="18"/>
                    </a:lnTo>
                    <a:lnTo>
                      <a:pt x="1668" y="18"/>
                    </a:lnTo>
                    <a:lnTo>
                      <a:pt x="1584" y="18"/>
                    </a:lnTo>
                    <a:lnTo>
                      <a:pt x="1500" y="18"/>
                    </a:lnTo>
                    <a:lnTo>
                      <a:pt x="1416" y="18"/>
                    </a:lnTo>
                    <a:lnTo>
                      <a:pt x="1338" y="12"/>
                    </a:lnTo>
                    <a:lnTo>
                      <a:pt x="1254" y="12"/>
                    </a:lnTo>
                    <a:lnTo>
                      <a:pt x="1170" y="12"/>
                    </a:lnTo>
                    <a:lnTo>
                      <a:pt x="1086" y="24"/>
                    </a:lnTo>
                    <a:lnTo>
                      <a:pt x="1002" y="24"/>
                    </a:lnTo>
                    <a:lnTo>
                      <a:pt x="918" y="24"/>
                    </a:lnTo>
                    <a:lnTo>
                      <a:pt x="834" y="24"/>
                    </a:lnTo>
                    <a:lnTo>
                      <a:pt x="750" y="24"/>
                    </a:lnTo>
                    <a:lnTo>
                      <a:pt x="666" y="24"/>
                    </a:lnTo>
                    <a:lnTo>
                      <a:pt x="582" y="24"/>
                    </a:lnTo>
                    <a:lnTo>
                      <a:pt x="498" y="24"/>
                    </a:lnTo>
                    <a:lnTo>
                      <a:pt x="420" y="18"/>
                    </a:lnTo>
                    <a:lnTo>
                      <a:pt x="336" y="6"/>
                    </a:lnTo>
                    <a:lnTo>
                      <a:pt x="252" y="12"/>
                    </a:lnTo>
                    <a:lnTo>
                      <a:pt x="168" y="24"/>
                    </a:lnTo>
                    <a:lnTo>
                      <a:pt x="84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1762200" y="3895920"/>
                <a:ext cx="5829120" cy="1695600"/>
              </a:xfrm>
              <a:custGeom>
                <a:avLst/>
                <a:gdLst/>
                <a:ahLst/>
                <a:rect l="l" t="t" r="r" b="b"/>
                <a:pathLst>
                  <a:path w="3672" h="1068">
                    <a:moveTo>
                      <a:pt x="0" y="1068"/>
                    </a:moveTo>
                    <a:lnTo>
                      <a:pt x="0" y="600"/>
                    </a:lnTo>
                    <a:lnTo>
                      <a:pt x="84" y="0"/>
                    </a:lnTo>
                    <a:lnTo>
                      <a:pt x="168" y="186"/>
                    </a:lnTo>
                    <a:lnTo>
                      <a:pt x="252" y="336"/>
                    </a:lnTo>
                    <a:lnTo>
                      <a:pt x="336" y="420"/>
                    </a:lnTo>
                    <a:lnTo>
                      <a:pt x="420" y="636"/>
                    </a:lnTo>
                    <a:lnTo>
                      <a:pt x="498" y="642"/>
                    </a:lnTo>
                    <a:lnTo>
                      <a:pt x="582" y="822"/>
                    </a:lnTo>
                    <a:lnTo>
                      <a:pt x="666" y="900"/>
                    </a:lnTo>
                    <a:lnTo>
                      <a:pt x="750" y="822"/>
                    </a:lnTo>
                    <a:lnTo>
                      <a:pt x="834" y="852"/>
                    </a:lnTo>
                    <a:lnTo>
                      <a:pt x="918" y="882"/>
                    </a:lnTo>
                    <a:lnTo>
                      <a:pt x="1002" y="900"/>
                    </a:lnTo>
                    <a:lnTo>
                      <a:pt x="1086" y="900"/>
                    </a:lnTo>
                    <a:lnTo>
                      <a:pt x="1170" y="936"/>
                    </a:lnTo>
                    <a:lnTo>
                      <a:pt x="1254" y="966"/>
                    </a:lnTo>
                    <a:lnTo>
                      <a:pt x="1338" y="972"/>
                    </a:lnTo>
                    <a:lnTo>
                      <a:pt x="1416" y="984"/>
                    </a:lnTo>
                    <a:lnTo>
                      <a:pt x="1500" y="1014"/>
                    </a:lnTo>
                    <a:lnTo>
                      <a:pt x="1584" y="1020"/>
                    </a:lnTo>
                    <a:lnTo>
                      <a:pt x="1668" y="1038"/>
                    </a:lnTo>
                    <a:lnTo>
                      <a:pt x="1752" y="1044"/>
                    </a:lnTo>
                    <a:lnTo>
                      <a:pt x="1836" y="1050"/>
                    </a:lnTo>
                    <a:lnTo>
                      <a:pt x="1920" y="1056"/>
                    </a:lnTo>
                    <a:lnTo>
                      <a:pt x="2004" y="1056"/>
                    </a:lnTo>
                    <a:lnTo>
                      <a:pt x="2088" y="1062"/>
                    </a:lnTo>
                    <a:lnTo>
                      <a:pt x="2172" y="1062"/>
                    </a:lnTo>
                    <a:lnTo>
                      <a:pt x="2256" y="1062"/>
                    </a:lnTo>
                    <a:lnTo>
                      <a:pt x="2334" y="1062"/>
                    </a:lnTo>
                    <a:lnTo>
                      <a:pt x="2418" y="1062"/>
                    </a:lnTo>
                    <a:lnTo>
                      <a:pt x="2502" y="1062"/>
                    </a:lnTo>
                    <a:lnTo>
                      <a:pt x="2586" y="1068"/>
                    </a:lnTo>
                    <a:lnTo>
                      <a:pt x="2670" y="1068"/>
                    </a:lnTo>
                    <a:lnTo>
                      <a:pt x="2754" y="1068"/>
                    </a:lnTo>
                    <a:lnTo>
                      <a:pt x="2838" y="1068"/>
                    </a:lnTo>
                    <a:lnTo>
                      <a:pt x="2922" y="1068"/>
                    </a:lnTo>
                    <a:lnTo>
                      <a:pt x="3006" y="1068"/>
                    </a:lnTo>
                    <a:lnTo>
                      <a:pt x="3090" y="1068"/>
                    </a:lnTo>
                    <a:lnTo>
                      <a:pt x="3174" y="1068"/>
                    </a:lnTo>
                    <a:lnTo>
                      <a:pt x="3252" y="1068"/>
                    </a:lnTo>
                    <a:lnTo>
                      <a:pt x="3336" y="1068"/>
                    </a:lnTo>
                    <a:lnTo>
                      <a:pt x="3420" y="1068"/>
                    </a:lnTo>
                    <a:lnTo>
                      <a:pt x="3504" y="1068"/>
                    </a:lnTo>
                    <a:lnTo>
                      <a:pt x="3588" y="1068"/>
                    </a:lnTo>
                    <a:lnTo>
                      <a:pt x="3672" y="1068"/>
                    </a:lnTo>
                    <a:lnTo>
                      <a:pt x="3672" y="1068"/>
                    </a:lnTo>
                    <a:lnTo>
                      <a:pt x="3588" y="1068"/>
                    </a:lnTo>
                    <a:lnTo>
                      <a:pt x="3504" y="1068"/>
                    </a:lnTo>
                    <a:lnTo>
                      <a:pt x="3420" y="1068"/>
                    </a:lnTo>
                    <a:lnTo>
                      <a:pt x="3336" y="1068"/>
                    </a:lnTo>
                    <a:lnTo>
                      <a:pt x="3252" y="1068"/>
                    </a:lnTo>
                    <a:lnTo>
                      <a:pt x="3174" y="1068"/>
                    </a:lnTo>
                    <a:lnTo>
                      <a:pt x="3090" y="1068"/>
                    </a:lnTo>
                    <a:lnTo>
                      <a:pt x="3006" y="1068"/>
                    </a:lnTo>
                    <a:lnTo>
                      <a:pt x="2922" y="1068"/>
                    </a:lnTo>
                    <a:lnTo>
                      <a:pt x="2838" y="1068"/>
                    </a:lnTo>
                    <a:lnTo>
                      <a:pt x="2754" y="1068"/>
                    </a:lnTo>
                    <a:lnTo>
                      <a:pt x="2670" y="1068"/>
                    </a:lnTo>
                    <a:lnTo>
                      <a:pt x="2586" y="1068"/>
                    </a:lnTo>
                    <a:lnTo>
                      <a:pt x="2502" y="1062"/>
                    </a:lnTo>
                    <a:lnTo>
                      <a:pt x="2418" y="1062"/>
                    </a:lnTo>
                    <a:lnTo>
                      <a:pt x="2334" y="1062"/>
                    </a:lnTo>
                    <a:lnTo>
                      <a:pt x="2256" y="1062"/>
                    </a:lnTo>
                    <a:lnTo>
                      <a:pt x="2172" y="1062"/>
                    </a:lnTo>
                    <a:lnTo>
                      <a:pt x="2088" y="1062"/>
                    </a:lnTo>
                    <a:lnTo>
                      <a:pt x="2004" y="1062"/>
                    </a:lnTo>
                    <a:lnTo>
                      <a:pt x="1920" y="1062"/>
                    </a:lnTo>
                    <a:lnTo>
                      <a:pt x="1836" y="1062"/>
                    </a:lnTo>
                    <a:lnTo>
                      <a:pt x="1752" y="1062"/>
                    </a:lnTo>
                    <a:lnTo>
                      <a:pt x="1668" y="1062"/>
                    </a:lnTo>
                    <a:lnTo>
                      <a:pt x="1584" y="1062"/>
                    </a:lnTo>
                    <a:lnTo>
                      <a:pt x="1500" y="1056"/>
                    </a:lnTo>
                    <a:lnTo>
                      <a:pt x="1416" y="1050"/>
                    </a:lnTo>
                    <a:lnTo>
                      <a:pt x="1338" y="1056"/>
                    </a:lnTo>
                    <a:lnTo>
                      <a:pt x="1254" y="1056"/>
                    </a:lnTo>
                    <a:lnTo>
                      <a:pt x="1170" y="1056"/>
                    </a:lnTo>
                    <a:lnTo>
                      <a:pt x="1086" y="1068"/>
                    </a:lnTo>
                    <a:lnTo>
                      <a:pt x="1002" y="1068"/>
                    </a:lnTo>
                    <a:lnTo>
                      <a:pt x="918" y="1068"/>
                    </a:lnTo>
                    <a:lnTo>
                      <a:pt x="834" y="1068"/>
                    </a:lnTo>
                    <a:lnTo>
                      <a:pt x="750" y="1068"/>
                    </a:lnTo>
                    <a:lnTo>
                      <a:pt x="666" y="1062"/>
                    </a:lnTo>
                    <a:lnTo>
                      <a:pt x="582" y="1062"/>
                    </a:lnTo>
                    <a:lnTo>
                      <a:pt x="498" y="1068"/>
                    </a:lnTo>
                    <a:lnTo>
                      <a:pt x="420" y="1062"/>
                    </a:lnTo>
                    <a:lnTo>
                      <a:pt x="336" y="1044"/>
                    </a:lnTo>
                    <a:lnTo>
                      <a:pt x="252" y="1056"/>
                    </a:lnTo>
                    <a:lnTo>
                      <a:pt x="168" y="1062"/>
                    </a:lnTo>
                    <a:lnTo>
                      <a:pt x="84" y="1062"/>
                    </a:lnTo>
                    <a:lnTo>
                      <a:pt x="0" y="106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762200" y="2886120"/>
                <a:ext cx="5829120" cy="2705400"/>
              </a:xfrm>
              <a:custGeom>
                <a:avLst/>
                <a:gdLst/>
                <a:ahLst/>
                <a:rect l="l" t="t" r="r" b="b"/>
                <a:pathLst>
                  <a:path w="3672" h="1704">
                    <a:moveTo>
                      <a:pt x="0" y="1236"/>
                    </a:moveTo>
                    <a:lnTo>
                      <a:pt x="0" y="1236"/>
                    </a:lnTo>
                    <a:lnTo>
                      <a:pt x="84" y="210"/>
                    </a:lnTo>
                    <a:lnTo>
                      <a:pt x="168" y="0"/>
                    </a:lnTo>
                    <a:lnTo>
                      <a:pt x="252" y="258"/>
                    </a:lnTo>
                    <a:lnTo>
                      <a:pt x="336" y="474"/>
                    </a:lnTo>
                    <a:lnTo>
                      <a:pt x="420" y="900"/>
                    </a:lnTo>
                    <a:lnTo>
                      <a:pt x="498" y="960"/>
                    </a:lnTo>
                    <a:lnTo>
                      <a:pt x="582" y="1302"/>
                    </a:lnTo>
                    <a:lnTo>
                      <a:pt x="666" y="1416"/>
                    </a:lnTo>
                    <a:lnTo>
                      <a:pt x="750" y="1308"/>
                    </a:lnTo>
                    <a:lnTo>
                      <a:pt x="834" y="1326"/>
                    </a:lnTo>
                    <a:lnTo>
                      <a:pt x="918" y="1380"/>
                    </a:lnTo>
                    <a:lnTo>
                      <a:pt x="1002" y="1440"/>
                    </a:lnTo>
                    <a:lnTo>
                      <a:pt x="1086" y="1464"/>
                    </a:lnTo>
                    <a:lnTo>
                      <a:pt x="1170" y="1500"/>
                    </a:lnTo>
                    <a:lnTo>
                      <a:pt x="1254" y="1536"/>
                    </a:lnTo>
                    <a:lnTo>
                      <a:pt x="1338" y="1560"/>
                    </a:lnTo>
                    <a:lnTo>
                      <a:pt x="1416" y="1578"/>
                    </a:lnTo>
                    <a:lnTo>
                      <a:pt x="1500" y="1614"/>
                    </a:lnTo>
                    <a:lnTo>
                      <a:pt x="1584" y="1626"/>
                    </a:lnTo>
                    <a:lnTo>
                      <a:pt x="1668" y="1650"/>
                    </a:lnTo>
                    <a:lnTo>
                      <a:pt x="1752" y="1668"/>
                    </a:lnTo>
                    <a:lnTo>
                      <a:pt x="1836" y="1668"/>
                    </a:lnTo>
                    <a:lnTo>
                      <a:pt x="1920" y="1674"/>
                    </a:lnTo>
                    <a:lnTo>
                      <a:pt x="2004" y="1680"/>
                    </a:lnTo>
                    <a:lnTo>
                      <a:pt x="2088" y="1686"/>
                    </a:lnTo>
                    <a:lnTo>
                      <a:pt x="2172" y="1692"/>
                    </a:lnTo>
                    <a:lnTo>
                      <a:pt x="2256" y="1692"/>
                    </a:lnTo>
                    <a:lnTo>
                      <a:pt x="2334" y="1698"/>
                    </a:lnTo>
                    <a:lnTo>
                      <a:pt x="2418" y="1698"/>
                    </a:lnTo>
                    <a:lnTo>
                      <a:pt x="2502" y="1698"/>
                    </a:lnTo>
                    <a:lnTo>
                      <a:pt x="2586" y="1704"/>
                    </a:lnTo>
                    <a:lnTo>
                      <a:pt x="2670" y="1704"/>
                    </a:lnTo>
                    <a:lnTo>
                      <a:pt x="2754" y="1704"/>
                    </a:lnTo>
                    <a:lnTo>
                      <a:pt x="2838" y="1704"/>
                    </a:lnTo>
                    <a:lnTo>
                      <a:pt x="2922" y="1704"/>
                    </a:lnTo>
                    <a:lnTo>
                      <a:pt x="3006" y="1704"/>
                    </a:lnTo>
                    <a:lnTo>
                      <a:pt x="3090" y="1704"/>
                    </a:lnTo>
                    <a:lnTo>
                      <a:pt x="3174" y="1704"/>
                    </a:lnTo>
                    <a:lnTo>
                      <a:pt x="3252" y="1704"/>
                    </a:lnTo>
                    <a:lnTo>
                      <a:pt x="3336" y="1704"/>
                    </a:lnTo>
                    <a:lnTo>
                      <a:pt x="3420" y="1704"/>
                    </a:lnTo>
                    <a:lnTo>
                      <a:pt x="3504" y="1704"/>
                    </a:lnTo>
                    <a:lnTo>
                      <a:pt x="3588" y="1704"/>
                    </a:lnTo>
                    <a:lnTo>
                      <a:pt x="3672" y="1704"/>
                    </a:lnTo>
                    <a:lnTo>
                      <a:pt x="3672" y="1704"/>
                    </a:lnTo>
                    <a:lnTo>
                      <a:pt x="3588" y="1704"/>
                    </a:lnTo>
                    <a:lnTo>
                      <a:pt x="3504" y="1704"/>
                    </a:lnTo>
                    <a:lnTo>
                      <a:pt x="3420" y="1704"/>
                    </a:lnTo>
                    <a:lnTo>
                      <a:pt x="3336" y="1704"/>
                    </a:lnTo>
                    <a:lnTo>
                      <a:pt x="3252" y="1704"/>
                    </a:lnTo>
                    <a:lnTo>
                      <a:pt x="3174" y="1704"/>
                    </a:lnTo>
                    <a:lnTo>
                      <a:pt x="3090" y="1704"/>
                    </a:lnTo>
                    <a:lnTo>
                      <a:pt x="3006" y="1704"/>
                    </a:lnTo>
                    <a:lnTo>
                      <a:pt x="2922" y="1704"/>
                    </a:lnTo>
                    <a:lnTo>
                      <a:pt x="2838" y="1704"/>
                    </a:lnTo>
                    <a:lnTo>
                      <a:pt x="2754" y="1704"/>
                    </a:lnTo>
                    <a:lnTo>
                      <a:pt x="2670" y="1704"/>
                    </a:lnTo>
                    <a:lnTo>
                      <a:pt x="2586" y="1704"/>
                    </a:lnTo>
                    <a:lnTo>
                      <a:pt x="2502" y="1698"/>
                    </a:lnTo>
                    <a:lnTo>
                      <a:pt x="2418" y="1698"/>
                    </a:lnTo>
                    <a:lnTo>
                      <a:pt x="2334" y="1698"/>
                    </a:lnTo>
                    <a:lnTo>
                      <a:pt x="2256" y="1698"/>
                    </a:lnTo>
                    <a:lnTo>
                      <a:pt x="2172" y="1698"/>
                    </a:lnTo>
                    <a:lnTo>
                      <a:pt x="2088" y="1698"/>
                    </a:lnTo>
                    <a:lnTo>
                      <a:pt x="2004" y="1692"/>
                    </a:lnTo>
                    <a:lnTo>
                      <a:pt x="1920" y="1692"/>
                    </a:lnTo>
                    <a:lnTo>
                      <a:pt x="1836" y="1686"/>
                    </a:lnTo>
                    <a:lnTo>
                      <a:pt x="1752" y="1680"/>
                    </a:lnTo>
                    <a:lnTo>
                      <a:pt x="1668" y="1674"/>
                    </a:lnTo>
                    <a:lnTo>
                      <a:pt x="1584" y="1656"/>
                    </a:lnTo>
                    <a:lnTo>
                      <a:pt x="1500" y="1650"/>
                    </a:lnTo>
                    <a:lnTo>
                      <a:pt x="1416" y="1620"/>
                    </a:lnTo>
                    <a:lnTo>
                      <a:pt x="1338" y="1608"/>
                    </a:lnTo>
                    <a:lnTo>
                      <a:pt x="1254" y="1602"/>
                    </a:lnTo>
                    <a:lnTo>
                      <a:pt x="1170" y="1572"/>
                    </a:lnTo>
                    <a:lnTo>
                      <a:pt x="1086" y="1536"/>
                    </a:lnTo>
                    <a:lnTo>
                      <a:pt x="1002" y="1536"/>
                    </a:lnTo>
                    <a:lnTo>
                      <a:pt x="918" y="1518"/>
                    </a:lnTo>
                    <a:lnTo>
                      <a:pt x="834" y="1488"/>
                    </a:lnTo>
                    <a:lnTo>
                      <a:pt x="750" y="1458"/>
                    </a:lnTo>
                    <a:lnTo>
                      <a:pt x="666" y="1536"/>
                    </a:lnTo>
                    <a:lnTo>
                      <a:pt x="582" y="1458"/>
                    </a:lnTo>
                    <a:lnTo>
                      <a:pt x="498" y="1278"/>
                    </a:lnTo>
                    <a:lnTo>
                      <a:pt x="420" y="1272"/>
                    </a:lnTo>
                    <a:lnTo>
                      <a:pt x="336" y="1056"/>
                    </a:lnTo>
                    <a:lnTo>
                      <a:pt x="252" y="972"/>
                    </a:lnTo>
                    <a:lnTo>
                      <a:pt x="168" y="822"/>
                    </a:lnTo>
                    <a:lnTo>
                      <a:pt x="84" y="636"/>
                    </a:lnTo>
                    <a:lnTo>
                      <a:pt x="0" y="1236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762200" y="2333880"/>
                <a:ext cx="5829120" cy="3257640"/>
              </a:xfrm>
              <a:custGeom>
                <a:avLst/>
                <a:gdLst/>
                <a:ahLst/>
                <a:rect l="l" t="t" r="r" b="b"/>
                <a:pathLst>
                  <a:path w="3672" h="2052">
                    <a:moveTo>
                      <a:pt x="0" y="1584"/>
                    </a:moveTo>
                    <a:lnTo>
                      <a:pt x="0" y="1584"/>
                    </a:lnTo>
                    <a:lnTo>
                      <a:pt x="84" y="558"/>
                    </a:lnTo>
                    <a:lnTo>
                      <a:pt x="168" y="6"/>
                    </a:lnTo>
                    <a:lnTo>
                      <a:pt x="252" y="0"/>
                    </a:lnTo>
                    <a:lnTo>
                      <a:pt x="336" y="318"/>
                    </a:lnTo>
                    <a:lnTo>
                      <a:pt x="420" y="894"/>
                    </a:lnTo>
                    <a:lnTo>
                      <a:pt x="498" y="1044"/>
                    </a:lnTo>
                    <a:lnTo>
                      <a:pt x="582" y="1482"/>
                    </a:lnTo>
                    <a:lnTo>
                      <a:pt x="666" y="1602"/>
                    </a:lnTo>
                    <a:lnTo>
                      <a:pt x="750" y="1518"/>
                    </a:lnTo>
                    <a:lnTo>
                      <a:pt x="834" y="1578"/>
                    </a:lnTo>
                    <a:lnTo>
                      <a:pt x="918" y="1644"/>
                    </a:lnTo>
                    <a:lnTo>
                      <a:pt x="1002" y="1728"/>
                    </a:lnTo>
                    <a:lnTo>
                      <a:pt x="1086" y="1764"/>
                    </a:lnTo>
                    <a:lnTo>
                      <a:pt x="1170" y="1812"/>
                    </a:lnTo>
                    <a:lnTo>
                      <a:pt x="1254" y="1848"/>
                    </a:lnTo>
                    <a:lnTo>
                      <a:pt x="1338" y="1872"/>
                    </a:lnTo>
                    <a:lnTo>
                      <a:pt x="1416" y="1902"/>
                    </a:lnTo>
                    <a:lnTo>
                      <a:pt x="1500" y="1944"/>
                    </a:lnTo>
                    <a:lnTo>
                      <a:pt x="1584" y="1962"/>
                    </a:lnTo>
                    <a:lnTo>
                      <a:pt x="1668" y="1992"/>
                    </a:lnTo>
                    <a:lnTo>
                      <a:pt x="1752" y="2004"/>
                    </a:lnTo>
                    <a:lnTo>
                      <a:pt x="1836" y="2004"/>
                    </a:lnTo>
                    <a:lnTo>
                      <a:pt x="1920" y="2016"/>
                    </a:lnTo>
                    <a:lnTo>
                      <a:pt x="2004" y="2022"/>
                    </a:lnTo>
                    <a:lnTo>
                      <a:pt x="2088" y="2034"/>
                    </a:lnTo>
                    <a:lnTo>
                      <a:pt x="2172" y="2040"/>
                    </a:lnTo>
                    <a:lnTo>
                      <a:pt x="2256" y="2040"/>
                    </a:lnTo>
                    <a:lnTo>
                      <a:pt x="2334" y="2046"/>
                    </a:lnTo>
                    <a:lnTo>
                      <a:pt x="2418" y="2046"/>
                    </a:lnTo>
                    <a:lnTo>
                      <a:pt x="2502" y="2046"/>
                    </a:lnTo>
                    <a:lnTo>
                      <a:pt x="2586" y="2052"/>
                    </a:lnTo>
                    <a:lnTo>
                      <a:pt x="2670" y="2052"/>
                    </a:lnTo>
                    <a:lnTo>
                      <a:pt x="2754" y="2052"/>
                    </a:lnTo>
                    <a:lnTo>
                      <a:pt x="2838" y="2052"/>
                    </a:lnTo>
                    <a:lnTo>
                      <a:pt x="2922" y="2052"/>
                    </a:lnTo>
                    <a:lnTo>
                      <a:pt x="3006" y="2052"/>
                    </a:lnTo>
                    <a:lnTo>
                      <a:pt x="3090" y="2052"/>
                    </a:lnTo>
                    <a:lnTo>
                      <a:pt x="3174" y="2052"/>
                    </a:lnTo>
                    <a:lnTo>
                      <a:pt x="3252" y="2052"/>
                    </a:lnTo>
                    <a:lnTo>
                      <a:pt x="3336" y="2052"/>
                    </a:lnTo>
                    <a:lnTo>
                      <a:pt x="3420" y="2052"/>
                    </a:lnTo>
                    <a:lnTo>
                      <a:pt x="3504" y="2052"/>
                    </a:lnTo>
                    <a:lnTo>
                      <a:pt x="3588" y="2052"/>
                    </a:lnTo>
                    <a:lnTo>
                      <a:pt x="3672" y="2052"/>
                    </a:lnTo>
                    <a:lnTo>
                      <a:pt x="3672" y="2052"/>
                    </a:lnTo>
                    <a:lnTo>
                      <a:pt x="3588" y="2052"/>
                    </a:lnTo>
                    <a:lnTo>
                      <a:pt x="3504" y="2052"/>
                    </a:lnTo>
                    <a:lnTo>
                      <a:pt x="3420" y="2052"/>
                    </a:lnTo>
                    <a:lnTo>
                      <a:pt x="3336" y="2052"/>
                    </a:lnTo>
                    <a:lnTo>
                      <a:pt x="3252" y="2052"/>
                    </a:lnTo>
                    <a:lnTo>
                      <a:pt x="3174" y="2052"/>
                    </a:lnTo>
                    <a:lnTo>
                      <a:pt x="3090" y="2052"/>
                    </a:lnTo>
                    <a:lnTo>
                      <a:pt x="3006" y="2052"/>
                    </a:lnTo>
                    <a:lnTo>
                      <a:pt x="2922" y="2052"/>
                    </a:lnTo>
                    <a:lnTo>
                      <a:pt x="2838" y="2052"/>
                    </a:lnTo>
                    <a:lnTo>
                      <a:pt x="2754" y="2052"/>
                    </a:lnTo>
                    <a:lnTo>
                      <a:pt x="2670" y="2052"/>
                    </a:lnTo>
                    <a:lnTo>
                      <a:pt x="2586" y="2052"/>
                    </a:lnTo>
                    <a:lnTo>
                      <a:pt x="2502" y="2046"/>
                    </a:lnTo>
                    <a:lnTo>
                      <a:pt x="2418" y="2046"/>
                    </a:lnTo>
                    <a:lnTo>
                      <a:pt x="2334" y="2046"/>
                    </a:lnTo>
                    <a:lnTo>
                      <a:pt x="2256" y="2040"/>
                    </a:lnTo>
                    <a:lnTo>
                      <a:pt x="2172" y="2040"/>
                    </a:lnTo>
                    <a:lnTo>
                      <a:pt x="2088" y="2034"/>
                    </a:lnTo>
                    <a:lnTo>
                      <a:pt x="2004" y="2028"/>
                    </a:lnTo>
                    <a:lnTo>
                      <a:pt x="1920" y="2022"/>
                    </a:lnTo>
                    <a:lnTo>
                      <a:pt x="1836" y="2016"/>
                    </a:lnTo>
                    <a:lnTo>
                      <a:pt x="1752" y="2016"/>
                    </a:lnTo>
                    <a:lnTo>
                      <a:pt x="1668" y="1998"/>
                    </a:lnTo>
                    <a:lnTo>
                      <a:pt x="1584" y="1974"/>
                    </a:lnTo>
                    <a:lnTo>
                      <a:pt x="1500" y="1962"/>
                    </a:lnTo>
                    <a:lnTo>
                      <a:pt x="1416" y="1926"/>
                    </a:lnTo>
                    <a:lnTo>
                      <a:pt x="1338" y="1908"/>
                    </a:lnTo>
                    <a:lnTo>
                      <a:pt x="1254" y="1884"/>
                    </a:lnTo>
                    <a:lnTo>
                      <a:pt x="1170" y="1848"/>
                    </a:lnTo>
                    <a:lnTo>
                      <a:pt x="1086" y="1812"/>
                    </a:lnTo>
                    <a:lnTo>
                      <a:pt x="1002" y="1788"/>
                    </a:lnTo>
                    <a:lnTo>
                      <a:pt x="918" y="1728"/>
                    </a:lnTo>
                    <a:lnTo>
                      <a:pt x="834" y="1674"/>
                    </a:lnTo>
                    <a:lnTo>
                      <a:pt x="750" y="1656"/>
                    </a:lnTo>
                    <a:lnTo>
                      <a:pt x="666" y="1764"/>
                    </a:lnTo>
                    <a:lnTo>
                      <a:pt x="582" y="1650"/>
                    </a:lnTo>
                    <a:lnTo>
                      <a:pt x="498" y="1308"/>
                    </a:lnTo>
                    <a:lnTo>
                      <a:pt x="420" y="1248"/>
                    </a:lnTo>
                    <a:lnTo>
                      <a:pt x="336" y="822"/>
                    </a:lnTo>
                    <a:lnTo>
                      <a:pt x="252" y="606"/>
                    </a:lnTo>
                    <a:lnTo>
                      <a:pt x="168" y="348"/>
                    </a:lnTo>
                    <a:lnTo>
                      <a:pt x="84" y="558"/>
                    </a:lnTo>
                    <a:lnTo>
                      <a:pt x="0" y="1584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762200" y="1962360"/>
                <a:ext cx="5829120" cy="3629160"/>
              </a:xfrm>
              <a:custGeom>
                <a:avLst/>
                <a:gdLst/>
                <a:ahLst/>
                <a:rect l="l" t="t" r="r" b="b"/>
                <a:pathLst>
                  <a:path w="3672" h="2286">
                    <a:moveTo>
                      <a:pt x="0" y="1818"/>
                    </a:moveTo>
                    <a:lnTo>
                      <a:pt x="0" y="1818"/>
                    </a:lnTo>
                    <a:lnTo>
                      <a:pt x="84" y="792"/>
                    </a:lnTo>
                    <a:lnTo>
                      <a:pt x="168" y="240"/>
                    </a:lnTo>
                    <a:lnTo>
                      <a:pt x="252" y="0"/>
                    </a:lnTo>
                    <a:lnTo>
                      <a:pt x="336" y="78"/>
                    </a:lnTo>
                    <a:lnTo>
                      <a:pt x="420" y="840"/>
                    </a:lnTo>
                    <a:lnTo>
                      <a:pt x="498" y="954"/>
                    </a:lnTo>
                    <a:lnTo>
                      <a:pt x="582" y="1476"/>
                    </a:lnTo>
                    <a:lnTo>
                      <a:pt x="666" y="1638"/>
                    </a:lnTo>
                    <a:lnTo>
                      <a:pt x="750" y="1530"/>
                    </a:lnTo>
                    <a:lnTo>
                      <a:pt x="834" y="1620"/>
                    </a:lnTo>
                    <a:lnTo>
                      <a:pt x="918" y="1740"/>
                    </a:lnTo>
                    <a:lnTo>
                      <a:pt x="1002" y="1866"/>
                    </a:lnTo>
                    <a:lnTo>
                      <a:pt x="1086" y="1920"/>
                    </a:lnTo>
                    <a:lnTo>
                      <a:pt x="1170" y="1956"/>
                    </a:lnTo>
                    <a:lnTo>
                      <a:pt x="1254" y="2004"/>
                    </a:lnTo>
                    <a:lnTo>
                      <a:pt x="1338" y="2052"/>
                    </a:lnTo>
                    <a:lnTo>
                      <a:pt x="1416" y="2094"/>
                    </a:lnTo>
                    <a:lnTo>
                      <a:pt x="1500" y="2142"/>
                    </a:lnTo>
                    <a:lnTo>
                      <a:pt x="1584" y="2172"/>
                    </a:lnTo>
                    <a:lnTo>
                      <a:pt x="1668" y="2202"/>
                    </a:lnTo>
                    <a:lnTo>
                      <a:pt x="1752" y="2220"/>
                    </a:lnTo>
                    <a:lnTo>
                      <a:pt x="1836" y="2220"/>
                    </a:lnTo>
                    <a:lnTo>
                      <a:pt x="1920" y="2232"/>
                    </a:lnTo>
                    <a:lnTo>
                      <a:pt x="2004" y="2244"/>
                    </a:lnTo>
                    <a:lnTo>
                      <a:pt x="2088" y="2256"/>
                    </a:lnTo>
                    <a:lnTo>
                      <a:pt x="2172" y="2262"/>
                    </a:lnTo>
                    <a:lnTo>
                      <a:pt x="2256" y="2268"/>
                    </a:lnTo>
                    <a:lnTo>
                      <a:pt x="2334" y="2274"/>
                    </a:lnTo>
                    <a:lnTo>
                      <a:pt x="2418" y="2280"/>
                    </a:lnTo>
                    <a:lnTo>
                      <a:pt x="2502" y="2280"/>
                    </a:lnTo>
                    <a:lnTo>
                      <a:pt x="2586" y="2280"/>
                    </a:lnTo>
                    <a:lnTo>
                      <a:pt x="2670" y="2280"/>
                    </a:lnTo>
                    <a:lnTo>
                      <a:pt x="2754" y="2280"/>
                    </a:lnTo>
                    <a:lnTo>
                      <a:pt x="2838" y="2286"/>
                    </a:lnTo>
                    <a:lnTo>
                      <a:pt x="2922" y="2286"/>
                    </a:lnTo>
                    <a:lnTo>
                      <a:pt x="3006" y="2286"/>
                    </a:lnTo>
                    <a:lnTo>
                      <a:pt x="3090" y="2286"/>
                    </a:lnTo>
                    <a:lnTo>
                      <a:pt x="3174" y="2286"/>
                    </a:lnTo>
                    <a:lnTo>
                      <a:pt x="3252" y="2286"/>
                    </a:lnTo>
                    <a:lnTo>
                      <a:pt x="3336" y="2286"/>
                    </a:lnTo>
                    <a:lnTo>
                      <a:pt x="3420" y="2286"/>
                    </a:lnTo>
                    <a:lnTo>
                      <a:pt x="3504" y="2286"/>
                    </a:lnTo>
                    <a:lnTo>
                      <a:pt x="3588" y="2286"/>
                    </a:lnTo>
                    <a:lnTo>
                      <a:pt x="3672" y="2286"/>
                    </a:lnTo>
                    <a:lnTo>
                      <a:pt x="3672" y="2286"/>
                    </a:lnTo>
                    <a:lnTo>
                      <a:pt x="3588" y="2286"/>
                    </a:lnTo>
                    <a:lnTo>
                      <a:pt x="3504" y="2286"/>
                    </a:lnTo>
                    <a:lnTo>
                      <a:pt x="3420" y="2286"/>
                    </a:lnTo>
                    <a:lnTo>
                      <a:pt x="3336" y="2286"/>
                    </a:lnTo>
                    <a:lnTo>
                      <a:pt x="3252" y="2286"/>
                    </a:lnTo>
                    <a:lnTo>
                      <a:pt x="3174" y="2286"/>
                    </a:lnTo>
                    <a:lnTo>
                      <a:pt x="3090" y="2286"/>
                    </a:lnTo>
                    <a:lnTo>
                      <a:pt x="3006" y="2286"/>
                    </a:lnTo>
                    <a:lnTo>
                      <a:pt x="2922" y="2286"/>
                    </a:lnTo>
                    <a:lnTo>
                      <a:pt x="2838" y="2286"/>
                    </a:lnTo>
                    <a:lnTo>
                      <a:pt x="2754" y="2286"/>
                    </a:lnTo>
                    <a:lnTo>
                      <a:pt x="2670" y="2286"/>
                    </a:lnTo>
                    <a:lnTo>
                      <a:pt x="2586" y="2286"/>
                    </a:lnTo>
                    <a:lnTo>
                      <a:pt x="2502" y="2280"/>
                    </a:lnTo>
                    <a:lnTo>
                      <a:pt x="2418" y="2280"/>
                    </a:lnTo>
                    <a:lnTo>
                      <a:pt x="2334" y="2280"/>
                    </a:lnTo>
                    <a:lnTo>
                      <a:pt x="2256" y="2274"/>
                    </a:lnTo>
                    <a:lnTo>
                      <a:pt x="2172" y="2274"/>
                    </a:lnTo>
                    <a:lnTo>
                      <a:pt x="2088" y="2268"/>
                    </a:lnTo>
                    <a:lnTo>
                      <a:pt x="2004" y="2256"/>
                    </a:lnTo>
                    <a:lnTo>
                      <a:pt x="1920" y="2250"/>
                    </a:lnTo>
                    <a:lnTo>
                      <a:pt x="1836" y="2238"/>
                    </a:lnTo>
                    <a:lnTo>
                      <a:pt x="1752" y="2238"/>
                    </a:lnTo>
                    <a:lnTo>
                      <a:pt x="1668" y="2226"/>
                    </a:lnTo>
                    <a:lnTo>
                      <a:pt x="1584" y="2196"/>
                    </a:lnTo>
                    <a:lnTo>
                      <a:pt x="1500" y="2178"/>
                    </a:lnTo>
                    <a:lnTo>
                      <a:pt x="1416" y="2136"/>
                    </a:lnTo>
                    <a:lnTo>
                      <a:pt x="1338" y="2106"/>
                    </a:lnTo>
                    <a:lnTo>
                      <a:pt x="1254" y="2082"/>
                    </a:lnTo>
                    <a:lnTo>
                      <a:pt x="1170" y="2046"/>
                    </a:lnTo>
                    <a:lnTo>
                      <a:pt x="1086" y="1998"/>
                    </a:lnTo>
                    <a:lnTo>
                      <a:pt x="1002" y="1962"/>
                    </a:lnTo>
                    <a:lnTo>
                      <a:pt x="918" y="1878"/>
                    </a:lnTo>
                    <a:lnTo>
                      <a:pt x="834" y="1812"/>
                    </a:lnTo>
                    <a:lnTo>
                      <a:pt x="750" y="1752"/>
                    </a:lnTo>
                    <a:lnTo>
                      <a:pt x="666" y="1836"/>
                    </a:lnTo>
                    <a:lnTo>
                      <a:pt x="582" y="1716"/>
                    </a:lnTo>
                    <a:lnTo>
                      <a:pt x="498" y="1278"/>
                    </a:lnTo>
                    <a:lnTo>
                      <a:pt x="420" y="1128"/>
                    </a:lnTo>
                    <a:lnTo>
                      <a:pt x="336" y="552"/>
                    </a:lnTo>
                    <a:lnTo>
                      <a:pt x="252" y="234"/>
                    </a:lnTo>
                    <a:lnTo>
                      <a:pt x="168" y="240"/>
                    </a:lnTo>
                    <a:lnTo>
                      <a:pt x="84" y="792"/>
                    </a:lnTo>
                    <a:lnTo>
                      <a:pt x="0" y="1818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74"/>
                    </a:lnTo>
                    <a:lnTo>
                      <a:pt x="498" y="504"/>
                    </a:lnTo>
                    <a:lnTo>
                      <a:pt x="582" y="1122"/>
                    </a:lnTo>
                    <a:lnTo>
                      <a:pt x="666" y="1278"/>
                    </a:lnTo>
                    <a:lnTo>
                      <a:pt x="750" y="1176"/>
                    </a:lnTo>
                    <a:lnTo>
                      <a:pt x="834" y="1230"/>
                    </a:lnTo>
                    <a:lnTo>
                      <a:pt x="918" y="1422"/>
                    </a:lnTo>
                    <a:lnTo>
                      <a:pt x="1002" y="1632"/>
                    </a:lnTo>
                    <a:lnTo>
                      <a:pt x="1086" y="1740"/>
                    </a:lnTo>
                    <a:lnTo>
                      <a:pt x="1170" y="1824"/>
                    </a:lnTo>
                    <a:lnTo>
                      <a:pt x="1254" y="1920"/>
                    </a:lnTo>
                    <a:lnTo>
                      <a:pt x="1338" y="1998"/>
                    </a:lnTo>
                    <a:lnTo>
                      <a:pt x="1416" y="2076"/>
                    </a:lnTo>
                    <a:lnTo>
                      <a:pt x="1500" y="2142"/>
                    </a:lnTo>
                    <a:lnTo>
                      <a:pt x="1584" y="2196"/>
                    </a:lnTo>
                    <a:lnTo>
                      <a:pt x="1668" y="2250"/>
                    </a:lnTo>
                    <a:lnTo>
                      <a:pt x="1752" y="2286"/>
                    </a:lnTo>
                    <a:lnTo>
                      <a:pt x="1836" y="2298"/>
                    </a:lnTo>
                    <a:lnTo>
                      <a:pt x="1920" y="2316"/>
                    </a:lnTo>
                    <a:lnTo>
                      <a:pt x="2004" y="2334"/>
                    </a:lnTo>
                    <a:lnTo>
                      <a:pt x="2088" y="2346"/>
                    </a:lnTo>
                    <a:lnTo>
                      <a:pt x="2172" y="2358"/>
                    </a:lnTo>
                    <a:lnTo>
                      <a:pt x="2256" y="2370"/>
                    </a:lnTo>
                    <a:lnTo>
                      <a:pt x="2334" y="2376"/>
                    </a:lnTo>
                    <a:lnTo>
                      <a:pt x="2418" y="2382"/>
                    </a:lnTo>
                    <a:lnTo>
                      <a:pt x="2502" y="2382"/>
                    </a:lnTo>
                    <a:lnTo>
                      <a:pt x="2586" y="2382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8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8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82"/>
                    </a:lnTo>
                    <a:lnTo>
                      <a:pt x="2502" y="2382"/>
                    </a:lnTo>
                    <a:lnTo>
                      <a:pt x="2418" y="2382"/>
                    </a:lnTo>
                    <a:lnTo>
                      <a:pt x="2334" y="2376"/>
                    </a:lnTo>
                    <a:lnTo>
                      <a:pt x="2256" y="2370"/>
                    </a:lnTo>
                    <a:lnTo>
                      <a:pt x="2172" y="2364"/>
                    </a:lnTo>
                    <a:lnTo>
                      <a:pt x="2088" y="2358"/>
                    </a:lnTo>
                    <a:lnTo>
                      <a:pt x="2004" y="2346"/>
                    </a:lnTo>
                    <a:lnTo>
                      <a:pt x="1920" y="2334"/>
                    </a:lnTo>
                    <a:lnTo>
                      <a:pt x="1836" y="2322"/>
                    </a:lnTo>
                    <a:lnTo>
                      <a:pt x="1752" y="2322"/>
                    </a:lnTo>
                    <a:lnTo>
                      <a:pt x="1668" y="2304"/>
                    </a:lnTo>
                    <a:lnTo>
                      <a:pt x="1584" y="2274"/>
                    </a:lnTo>
                    <a:lnTo>
                      <a:pt x="1500" y="2244"/>
                    </a:lnTo>
                    <a:lnTo>
                      <a:pt x="1416" y="2196"/>
                    </a:lnTo>
                    <a:lnTo>
                      <a:pt x="1338" y="2154"/>
                    </a:lnTo>
                    <a:lnTo>
                      <a:pt x="1254" y="2106"/>
                    </a:lnTo>
                    <a:lnTo>
                      <a:pt x="1170" y="2058"/>
                    </a:lnTo>
                    <a:lnTo>
                      <a:pt x="1086" y="2022"/>
                    </a:lnTo>
                    <a:lnTo>
                      <a:pt x="1002" y="1968"/>
                    </a:lnTo>
                    <a:lnTo>
                      <a:pt x="918" y="1842"/>
                    </a:lnTo>
                    <a:lnTo>
                      <a:pt x="834" y="1722"/>
                    </a:lnTo>
                    <a:lnTo>
                      <a:pt x="750" y="1632"/>
                    </a:lnTo>
                    <a:lnTo>
                      <a:pt x="666" y="1740"/>
                    </a:lnTo>
                    <a:lnTo>
                      <a:pt x="582" y="1578"/>
                    </a:lnTo>
                    <a:lnTo>
                      <a:pt x="498" y="1056"/>
                    </a:lnTo>
                    <a:lnTo>
                      <a:pt x="420" y="942"/>
                    </a:lnTo>
                    <a:lnTo>
                      <a:pt x="336" y="18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354"/>
                    </a:lnTo>
                    <a:lnTo>
                      <a:pt x="582" y="954"/>
                    </a:lnTo>
                    <a:lnTo>
                      <a:pt x="666" y="1158"/>
                    </a:lnTo>
                    <a:lnTo>
                      <a:pt x="750" y="1098"/>
                    </a:lnTo>
                    <a:lnTo>
                      <a:pt x="834" y="1152"/>
                    </a:lnTo>
                    <a:lnTo>
                      <a:pt x="918" y="1356"/>
                    </a:lnTo>
                    <a:lnTo>
                      <a:pt x="1002" y="1590"/>
                    </a:lnTo>
                    <a:lnTo>
                      <a:pt x="1086" y="1716"/>
                    </a:lnTo>
                    <a:lnTo>
                      <a:pt x="1170" y="1812"/>
                    </a:lnTo>
                    <a:lnTo>
                      <a:pt x="1254" y="1908"/>
                    </a:lnTo>
                    <a:lnTo>
                      <a:pt x="1338" y="1980"/>
                    </a:lnTo>
                    <a:lnTo>
                      <a:pt x="1416" y="2064"/>
                    </a:lnTo>
                    <a:lnTo>
                      <a:pt x="1500" y="2130"/>
                    </a:lnTo>
                    <a:lnTo>
                      <a:pt x="1584" y="2190"/>
                    </a:lnTo>
                    <a:lnTo>
                      <a:pt x="1668" y="2244"/>
                    </a:lnTo>
                    <a:lnTo>
                      <a:pt x="1752" y="2280"/>
                    </a:lnTo>
                    <a:lnTo>
                      <a:pt x="1836" y="2298"/>
                    </a:lnTo>
                    <a:lnTo>
                      <a:pt x="1920" y="2316"/>
                    </a:lnTo>
                    <a:lnTo>
                      <a:pt x="2004" y="2334"/>
                    </a:lnTo>
                    <a:lnTo>
                      <a:pt x="2088" y="2346"/>
                    </a:lnTo>
                    <a:lnTo>
                      <a:pt x="2172" y="2358"/>
                    </a:lnTo>
                    <a:lnTo>
                      <a:pt x="2256" y="2370"/>
                    </a:lnTo>
                    <a:lnTo>
                      <a:pt x="2334" y="2376"/>
                    </a:lnTo>
                    <a:lnTo>
                      <a:pt x="2418" y="2382"/>
                    </a:lnTo>
                    <a:lnTo>
                      <a:pt x="2502" y="2382"/>
                    </a:lnTo>
                    <a:lnTo>
                      <a:pt x="2586" y="2382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8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8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82"/>
                    </a:lnTo>
                    <a:lnTo>
                      <a:pt x="2502" y="2382"/>
                    </a:lnTo>
                    <a:lnTo>
                      <a:pt x="2418" y="2382"/>
                    </a:lnTo>
                    <a:lnTo>
                      <a:pt x="2334" y="2376"/>
                    </a:lnTo>
                    <a:lnTo>
                      <a:pt x="2256" y="2370"/>
                    </a:lnTo>
                    <a:lnTo>
                      <a:pt x="2172" y="2358"/>
                    </a:lnTo>
                    <a:lnTo>
                      <a:pt x="2088" y="2346"/>
                    </a:lnTo>
                    <a:lnTo>
                      <a:pt x="2004" y="2334"/>
                    </a:lnTo>
                    <a:lnTo>
                      <a:pt x="1920" y="2316"/>
                    </a:lnTo>
                    <a:lnTo>
                      <a:pt x="1836" y="2298"/>
                    </a:lnTo>
                    <a:lnTo>
                      <a:pt x="1752" y="2286"/>
                    </a:lnTo>
                    <a:lnTo>
                      <a:pt x="1668" y="2250"/>
                    </a:lnTo>
                    <a:lnTo>
                      <a:pt x="1584" y="2196"/>
                    </a:lnTo>
                    <a:lnTo>
                      <a:pt x="1500" y="2142"/>
                    </a:lnTo>
                    <a:lnTo>
                      <a:pt x="1416" y="2076"/>
                    </a:lnTo>
                    <a:lnTo>
                      <a:pt x="1338" y="1998"/>
                    </a:lnTo>
                    <a:lnTo>
                      <a:pt x="1254" y="1920"/>
                    </a:lnTo>
                    <a:lnTo>
                      <a:pt x="1170" y="1824"/>
                    </a:lnTo>
                    <a:lnTo>
                      <a:pt x="1086" y="1740"/>
                    </a:lnTo>
                    <a:lnTo>
                      <a:pt x="1002" y="1632"/>
                    </a:lnTo>
                    <a:lnTo>
                      <a:pt x="918" y="1422"/>
                    </a:lnTo>
                    <a:lnTo>
                      <a:pt x="834" y="1230"/>
                    </a:lnTo>
                    <a:lnTo>
                      <a:pt x="750" y="1176"/>
                    </a:lnTo>
                    <a:lnTo>
                      <a:pt x="666" y="1278"/>
                    </a:lnTo>
                    <a:lnTo>
                      <a:pt x="582" y="1122"/>
                    </a:lnTo>
                    <a:lnTo>
                      <a:pt x="498" y="504"/>
                    </a:lnTo>
                    <a:lnTo>
                      <a:pt x="420" y="47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846"/>
                    </a:lnTo>
                    <a:lnTo>
                      <a:pt x="666" y="1092"/>
                    </a:lnTo>
                    <a:lnTo>
                      <a:pt x="750" y="1008"/>
                    </a:lnTo>
                    <a:lnTo>
                      <a:pt x="834" y="1062"/>
                    </a:lnTo>
                    <a:lnTo>
                      <a:pt x="918" y="1296"/>
                    </a:lnTo>
                    <a:lnTo>
                      <a:pt x="1002" y="1542"/>
                    </a:lnTo>
                    <a:lnTo>
                      <a:pt x="1086" y="1668"/>
                    </a:lnTo>
                    <a:lnTo>
                      <a:pt x="1170" y="1764"/>
                    </a:lnTo>
                    <a:lnTo>
                      <a:pt x="1254" y="1866"/>
                    </a:lnTo>
                    <a:lnTo>
                      <a:pt x="1338" y="1950"/>
                    </a:lnTo>
                    <a:lnTo>
                      <a:pt x="1416" y="2034"/>
                    </a:lnTo>
                    <a:lnTo>
                      <a:pt x="1500" y="2082"/>
                    </a:lnTo>
                    <a:lnTo>
                      <a:pt x="1584" y="2178"/>
                    </a:lnTo>
                    <a:lnTo>
                      <a:pt x="1668" y="2238"/>
                    </a:lnTo>
                    <a:lnTo>
                      <a:pt x="1752" y="2280"/>
                    </a:lnTo>
                    <a:lnTo>
                      <a:pt x="1836" y="2292"/>
                    </a:lnTo>
                    <a:lnTo>
                      <a:pt x="1920" y="2316"/>
                    </a:lnTo>
                    <a:lnTo>
                      <a:pt x="2004" y="2334"/>
                    </a:lnTo>
                    <a:lnTo>
                      <a:pt x="2088" y="2346"/>
                    </a:lnTo>
                    <a:lnTo>
                      <a:pt x="2172" y="2358"/>
                    </a:lnTo>
                    <a:lnTo>
                      <a:pt x="2256" y="2370"/>
                    </a:lnTo>
                    <a:lnTo>
                      <a:pt x="2334" y="2376"/>
                    </a:lnTo>
                    <a:lnTo>
                      <a:pt x="2418" y="2382"/>
                    </a:lnTo>
                    <a:lnTo>
                      <a:pt x="2502" y="2382"/>
                    </a:lnTo>
                    <a:lnTo>
                      <a:pt x="2586" y="2382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8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8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82"/>
                    </a:lnTo>
                    <a:lnTo>
                      <a:pt x="2502" y="2382"/>
                    </a:lnTo>
                    <a:lnTo>
                      <a:pt x="2418" y="2382"/>
                    </a:lnTo>
                    <a:lnTo>
                      <a:pt x="2334" y="2376"/>
                    </a:lnTo>
                    <a:lnTo>
                      <a:pt x="2256" y="2370"/>
                    </a:lnTo>
                    <a:lnTo>
                      <a:pt x="2172" y="2358"/>
                    </a:lnTo>
                    <a:lnTo>
                      <a:pt x="2088" y="2346"/>
                    </a:lnTo>
                    <a:lnTo>
                      <a:pt x="2004" y="2334"/>
                    </a:lnTo>
                    <a:lnTo>
                      <a:pt x="1920" y="2316"/>
                    </a:lnTo>
                    <a:lnTo>
                      <a:pt x="1836" y="2298"/>
                    </a:lnTo>
                    <a:lnTo>
                      <a:pt x="1752" y="2280"/>
                    </a:lnTo>
                    <a:lnTo>
                      <a:pt x="1668" y="2244"/>
                    </a:lnTo>
                    <a:lnTo>
                      <a:pt x="1584" y="2190"/>
                    </a:lnTo>
                    <a:lnTo>
                      <a:pt x="1500" y="2130"/>
                    </a:lnTo>
                    <a:lnTo>
                      <a:pt x="1416" y="2064"/>
                    </a:lnTo>
                    <a:lnTo>
                      <a:pt x="1338" y="1980"/>
                    </a:lnTo>
                    <a:lnTo>
                      <a:pt x="1254" y="1908"/>
                    </a:lnTo>
                    <a:lnTo>
                      <a:pt x="1170" y="1812"/>
                    </a:lnTo>
                    <a:lnTo>
                      <a:pt x="1086" y="1716"/>
                    </a:lnTo>
                    <a:lnTo>
                      <a:pt x="1002" y="1590"/>
                    </a:lnTo>
                    <a:lnTo>
                      <a:pt x="918" y="1356"/>
                    </a:lnTo>
                    <a:lnTo>
                      <a:pt x="834" y="1152"/>
                    </a:lnTo>
                    <a:lnTo>
                      <a:pt x="750" y="1098"/>
                    </a:lnTo>
                    <a:lnTo>
                      <a:pt x="666" y="1158"/>
                    </a:lnTo>
                    <a:lnTo>
                      <a:pt x="582" y="954"/>
                    </a:lnTo>
                    <a:lnTo>
                      <a:pt x="498" y="354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828"/>
                    </a:lnTo>
                    <a:lnTo>
                      <a:pt x="750" y="720"/>
                    </a:lnTo>
                    <a:lnTo>
                      <a:pt x="834" y="804"/>
                    </a:lnTo>
                    <a:lnTo>
                      <a:pt x="918" y="1098"/>
                    </a:lnTo>
                    <a:lnTo>
                      <a:pt x="1002" y="1404"/>
                    </a:lnTo>
                    <a:lnTo>
                      <a:pt x="1086" y="1554"/>
                    </a:lnTo>
                    <a:lnTo>
                      <a:pt x="1170" y="1656"/>
                    </a:lnTo>
                    <a:lnTo>
                      <a:pt x="1254" y="1770"/>
                    </a:lnTo>
                    <a:lnTo>
                      <a:pt x="1338" y="1878"/>
                    </a:lnTo>
                    <a:lnTo>
                      <a:pt x="1416" y="1998"/>
                    </a:lnTo>
                    <a:lnTo>
                      <a:pt x="1500" y="2070"/>
                    </a:lnTo>
                    <a:lnTo>
                      <a:pt x="1584" y="2172"/>
                    </a:lnTo>
                    <a:lnTo>
                      <a:pt x="1668" y="2232"/>
                    </a:lnTo>
                    <a:lnTo>
                      <a:pt x="1752" y="2274"/>
                    </a:lnTo>
                    <a:lnTo>
                      <a:pt x="1836" y="2292"/>
                    </a:lnTo>
                    <a:lnTo>
                      <a:pt x="1920" y="2310"/>
                    </a:lnTo>
                    <a:lnTo>
                      <a:pt x="2004" y="2334"/>
                    </a:lnTo>
                    <a:lnTo>
                      <a:pt x="2088" y="2346"/>
                    </a:lnTo>
                    <a:lnTo>
                      <a:pt x="2172" y="2358"/>
                    </a:lnTo>
                    <a:lnTo>
                      <a:pt x="2256" y="2370"/>
                    </a:lnTo>
                    <a:lnTo>
                      <a:pt x="2334" y="2376"/>
                    </a:lnTo>
                    <a:lnTo>
                      <a:pt x="2418" y="2382"/>
                    </a:lnTo>
                    <a:lnTo>
                      <a:pt x="2502" y="2382"/>
                    </a:lnTo>
                    <a:lnTo>
                      <a:pt x="2586" y="2382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8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8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82"/>
                    </a:lnTo>
                    <a:lnTo>
                      <a:pt x="2502" y="2382"/>
                    </a:lnTo>
                    <a:lnTo>
                      <a:pt x="2418" y="2382"/>
                    </a:lnTo>
                    <a:lnTo>
                      <a:pt x="2334" y="2376"/>
                    </a:lnTo>
                    <a:lnTo>
                      <a:pt x="2256" y="2370"/>
                    </a:lnTo>
                    <a:lnTo>
                      <a:pt x="2172" y="2358"/>
                    </a:lnTo>
                    <a:lnTo>
                      <a:pt x="2088" y="2346"/>
                    </a:lnTo>
                    <a:lnTo>
                      <a:pt x="2004" y="2334"/>
                    </a:lnTo>
                    <a:lnTo>
                      <a:pt x="1920" y="2316"/>
                    </a:lnTo>
                    <a:lnTo>
                      <a:pt x="1836" y="2292"/>
                    </a:lnTo>
                    <a:lnTo>
                      <a:pt x="1752" y="2280"/>
                    </a:lnTo>
                    <a:lnTo>
                      <a:pt x="1668" y="2238"/>
                    </a:lnTo>
                    <a:lnTo>
                      <a:pt x="1584" y="2178"/>
                    </a:lnTo>
                    <a:lnTo>
                      <a:pt x="1500" y="2082"/>
                    </a:lnTo>
                    <a:lnTo>
                      <a:pt x="1416" y="2034"/>
                    </a:lnTo>
                    <a:lnTo>
                      <a:pt x="1338" y="1950"/>
                    </a:lnTo>
                    <a:lnTo>
                      <a:pt x="1254" y="1866"/>
                    </a:lnTo>
                    <a:lnTo>
                      <a:pt x="1170" y="1764"/>
                    </a:lnTo>
                    <a:lnTo>
                      <a:pt x="1086" y="1668"/>
                    </a:lnTo>
                    <a:lnTo>
                      <a:pt x="1002" y="1542"/>
                    </a:lnTo>
                    <a:lnTo>
                      <a:pt x="918" y="1296"/>
                    </a:lnTo>
                    <a:lnTo>
                      <a:pt x="834" y="1062"/>
                    </a:lnTo>
                    <a:lnTo>
                      <a:pt x="750" y="1008"/>
                    </a:lnTo>
                    <a:lnTo>
                      <a:pt x="666" y="1092"/>
                    </a:lnTo>
                    <a:lnTo>
                      <a:pt x="582" y="846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594"/>
                    </a:lnTo>
                    <a:lnTo>
                      <a:pt x="834" y="666"/>
                    </a:lnTo>
                    <a:lnTo>
                      <a:pt x="918" y="960"/>
                    </a:lnTo>
                    <a:lnTo>
                      <a:pt x="1002" y="1308"/>
                    </a:lnTo>
                    <a:lnTo>
                      <a:pt x="1086" y="1476"/>
                    </a:lnTo>
                    <a:lnTo>
                      <a:pt x="1170" y="1602"/>
                    </a:lnTo>
                    <a:lnTo>
                      <a:pt x="1254" y="1734"/>
                    </a:lnTo>
                    <a:lnTo>
                      <a:pt x="1338" y="1842"/>
                    </a:lnTo>
                    <a:lnTo>
                      <a:pt x="1416" y="1980"/>
                    </a:lnTo>
                    <a:lnTo>
                      <a:pt x="1500" y="2058"/>
                    </a:lnTo>
                    <a:lnTo>
                      <a:pt x="1584" y="2154"/>
                    </a:lnTo>
                    <a:lnTo>
                      <a:pt x="1668" y="2226"/>
                    </a:lnTo>
                    <a:lnTo>
                      <a:pt x="1752" y="2268"/>
                    </a:lnTo>
                    <a:lnTo>
                      <a:pt x="1836" y="2286"/>
                    </a:lnTo>
                    <a:lnTo>
                      <a:pt x="1920" y="2310"/>
                    </a:lnTo>
                    <a:lnTo>
                      <a:pt x="2004" y="2334"/>
                    </a:lnTo>
                    <a:lnTo>
                      <a:pt x="2088" y="2346"/>
                    </a:lnTo>
                    <a:lnTo>
                      <a:pt x="2172" y="2358"/>
                    </a:lnTo>
                    <a:lnTo>
                      <a:pt x="2256" y="2370"/>
                    </a:lnTo>
                    <a:lnTo>
                      <a:pt x="2334" y="2376"/>
                    </a:lnTo>
                    <a:lnTo>
                      <a:pt x="2418" y="2382"/>
                    </a:lnTo>
                    <a:lnTo>
                      <a:pt x="2502" y="2382"/>
                    </a:lnTo>
                    <a:lnTo>
                      <a:pt x="2586" y="2382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8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8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82"/>
                    </a:lnTo>
                    <a:lnTo>
                      <a:pt x="2502" y="2382"/>
                    </a:lnTo>
                    <a:lnTo>
                      <a:pt x="2418" y="2382"/>
                    </a:lnTo>
                    <a:lnTo>
                      <a:pt x="2334" y="2376"/>
                    </a:lnTo>
                    <a:lnTo>
                      <a:pt x="2256" y="2370"/>
                    </a:lnTo>
                    <a:lnTo>
                      <a:pt x="2172" y="2358"/>
                    </a:lnTo>
                    <a:lnTo>
                      <a:pt x="2088" y="2346"/>
                    </a:lnTo>
                    <a:lnTo>
                      <a:pt x="2004" y="2334"/>
                    </a:lnTo>
                    <a:lnTo>
                      <a:pt x="1920" y="2310"/>
                    </a:lnTo>
                    <a:lnTo>
                      <a:pt x="1836" y="2292"/>
                    </a:lnTo>
                    <a:lnTo>
                      <a:pt x="1752" y="2274"/>
                    </a:lnTo>
                    <a:lnTo>
                      <a:pt x="1668" y="2232"/>
                    </a:lnTo>
                    <a:lnTo>
                      <a:pt x="1584" y="2172"/>
                    </a:lnTo>
                    <a:lnTo>
                      <a:pt x="1500" y="2070"/>
                    </a:lnTo>
                    <a:lnTo>
                      <a:pt x="1416" y="1998"/>
                    </a:lnTo>
                    <a:lnTo>
                      <a:pt x="1338" y="1878"/>
                    </a:lnTo>
                    <a:lnTo>
                      <a:pt x="1254" y="1770"/>
                    </a:lnTo>
                    <a:lnTo>
                      <a:pt x="1170" y="1656"/>
                    </a:lnTo>
                    <a:lnTo>
                      <a:pt x="1086" y="1554"/>
                    </a:lnTo>
                    <a:lnTo>
                      <a:pt x="1002" y="1404"/>
                    </a:lnTo>
                    <a:lnTo>
                      <a:pt x="918" y="1098"/>
                    </a:lnTo>
                    <a:lnTo>
                      <a:pt x="834" y="804"/>
                    </a:lnTo>
                    <a:lnTo>
                      <a:pt x="750" y="720"/>
                    </a:lnTo>
                    <a:lnTo>
                      <a:pt x="666" y="82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414"/>
                    </a:lnTo>
                    <a:lnTo>
                      <a:pt x="918" y="726"/>
                    </a:lnTo>
                    <a:lnTo>
                      <a:pt x="1002" y="1128"/>
                    </a:lnTo>
                    <a:lnTo>
                      <a:pt x="1086" y="1368"/>
                    </a:lnTo>
                    <a:lnTo>
                      <a:pt x="1170" y="1524"/>
                    </a:lnTo>
                    <a:lnTo>
                      <a:pt x="1254" y="1674"/>
                    </a:lnTo>
                    <a:lnTo>
                      <a:pt x="1338" y="1818"/>
                    </a:lnTo>
                    <a:lnTo>
                      <a:pt x="1416" y="1962"/>
                    </a:lnTo>
                    <a:lnTo>
                      <a:pt x="1500" y="2034"/>
                    </a:lnTo>
                    <a:lnTo>
                      <a:pt x="1584" y="2142"/>
                    </a:lnTo>
                    <a:lnTo>
                      <a:pt x="1668" y="2214"/>
                    </a:lnTo>
                    <a:lnTo>
                      <a:pt x="1752" y="2256"/>
                    </a:lnTo>
                    <a:lnTo>
                      <a:pt x="1836" y="2280"/>
                    </a:lnTo>
                    <a:lnTo>
                      <a:pt x="1920" y="2304"/>
                    </a:lnTo>
                    <a:lnTo>
                      <a:pt x="2004" y="2328"/>
                    </a:lnTo>
                    <a:lnTo>
                      <a:pt x="2088" y="2346"/>
                    </a:lnTo>
                    <a:lnTo>
                      <a:pt x="2172" y="2358"/>
                    </a:lnTo>
                    <a:lnTo>
                      <a:pt x="2256" y="2364"/>
                    </a:lnTo>
                    <a:lnTo>
                      <a:pt x="2334" y="2370"/>
                    </a:lnTo>
                    <a:lnTo>
                      <a:pt x="2418" y="2376"/>
                    </a:lnTo>
                    <a:lnTo>
                      <a:pt x="2502" y="2382"/>
                    </a:lnTo>
                    <a:lnTo>
                      <a:pt x="2586" y="2382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8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8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82"/>
                    </a:lnTo>
                    <a:lnTo>
                      <a:pt x="2502" y="2382"/>
                    </a:lnTo>
                    <a:lnTo>
                      <a:pt x="2418" y="2382"/>
                    </a:lnTo>
                    <a:lnTo>
                      <a:pt x="2334" y="2376"/>
                    </a:lnTo>
                    <a:lnTo>
                      <a:pt x="2256" y="2370"/>
                    </a:lnTo>
                    <a:lnTo>
                      <a:pt x="2172" y="2358"/>
                    </a:lnTo>
                    <a:lnTo>
                      <a:pt x="2088" y="2346"/>
                    </a:lnTo>
                    <a:lnTo>
                      <a:pt x="2004" y="2334"/>
                    </a:lnTo>
                    <a:lnTo>
                      <a:pt x="1920" y="2310"/>
                    </a:lnTo>
                    <a:lnTo>
                      <a:pt x="1836" y="2286"/>
                    </a:lnTo>
                    <a:lnTo>
                      <a:pt x="1752" y="2268"/>
                    </a:lnTo>
                    <a:lnTo>
                      <a:pt x="1668" y="2226"/>
                    </a:lnTo>
                    <a:lnTo>
                      <a:pt x="1584" y="2154"/>
                    </a:lnTo>
                    <a:lnTo>
                      <a:pt x="1500" y="2058"/>
                    </a:lnTo>
                    <a:lnTo>
                      <a:pt x="1416" y="1980"/>
                    </a:lnTo>
                    <a:lnTo>
                      <a:pt x="1338" y="1842"/>
                    </a:lnTo>
                    <a:lnTo>
                      <a:pt x="1254" y="1734"/>
                    </a:lnTo>
                    <a:lnTo>
                      <a:pt x="1170" y="1602"/>
                    </a:lnTo>
                    <a:lnTo>
                      <a:pt x="1086" y="1476"/>
                    </a:lnTo>
                    <a:lnTo>
                      <a:pt x="1002" y="1308"/>
                    </a:lnTo>
                    <a:lnTo>
                      <a:pt x="918" y="960"/>
                    </a:lnTo>
                    <a:lnTo>
                      <a:pt x="834" y="666"/>
                    </a:lnTo>
                    <a:lnTo>
                      <a:pt x="750" y="594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570"/>
                    </a:lnTo>
                    <a:lnTo>
                      <a:pt x="1002" y="1008"/>
                    </a:lnTo>
                    <a:lnTo>
                      <a:pt x="1086" y="1278"/>
                    </a:lnTo>
                    <a:lnTo>
                      <a:pt x="1170" y="1452"/>
                    </a:lnTo>
                    <a:lnTo>
                      <a:pt x="1254" y="1620"/>
                    </a:lnTo>
                    <a:lnTo>
                      <a:pt x="1338" y="1776"/>
                    </a:lnTo>
                    <a:lnTo>
                      <a:pt x="1416" y="1932"/>
                    </a:lnTo>
                    <a:lnTo>
                      <a:pt x="1500" y="1998"/>
                    </a:lnTo>
                    <a:lnTo>
                      <a:pt x="1584" y="2118"/>
                    </a:lnTo>
                    <a:lnTo>
                      <a:pt x="1668" y="2184"/>
                    </a:lnTo>
                    <a:lnTo>
                      <a:pt x="1752" y="2226"/>
                    </a:lnTo>
                    <a:lnTo>
                      <a:pt x="1836" y="2262"/>
                    </a:lnTo>
                    <a:lnTo>
                      <a:pt x="1920" y="2292"/>
                    </a:lnTo>
                    <a:lnTo>
                      <a:pt x="2004" y="2322"/>
                    </a:lnTo>
                    <a:lnTo>
                      <a:pt x="2088" y="2340"/>
                    </a:lnTo>
                    <a:lnTo>
                      <a:pt x="2172" y="2352"/>
                    </a:lnTo>
                    <a:lnTo>
                      <a:pt x="2256" y="2364"/>
                    </a:lnTo>
                    <a:lnTo>
                      <a:pt x="2334" y="2370"/>
                    </a:lnTo>
                    <a:lnTo>
                      <a:pt x="2418" y="2376"/>
                    </a:lnTo>
                    <a:lnTo>
                      <a:pt x="2502" y="2382"/>
                    </a:lnTo>
                    <a:lnTo>
                      <a:pt x="2586" y="2382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8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8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82"/>
                    </a:lnTo>
                    <a:lnTo>
                      <a:pt x="2502" y="2382"/>
                    </a:lnTo>
                    <a:lnTo>
                      <a:pt x="2418" y="2376"/>
                    </a:lnTo>
                    <a:lnTo>
                      <a:pt x="2334" y="2370"/>
                    </a:lnTo>
                    <a:lnTo>
                      <a:pt x="2256" y="2364"/>
                    </a:lnTo>
                    <a:lnTo>
                      <a:pt x="2172" y="2358"/>
                    </a:lnTo>
                    <a:lnTo>
                      <a:pt x="2088" y="2346"/>
                    </a:lnTo>
                    <a:lnTo>
                      <a:pt x="2004" y="2328"/>
                    </a:lnTo>
                    <a:lnTo>
                      <a:pt x="1920" y="2304"/>
                    </a:lnTo>
                    <a:lnTo>
                      <a:pt x="1836" y="2280"/>
                    </a:lnTo>
                    <a:lnTo>
                      <a:pt x="1752" y="2256"/>
                    </a:lnTo>
                    <a:lnTo>
                      <a:pt x="1668" y="2214"/>
                    </a:lnTo>
                    <a:lnTo>
                      <a:pt x="1584" y="2142"/>
                    </a:lnTo>
                    <a:lnTo>
                      <a:pt x="1500" y="2034"/>
                    </a:lnTo>
                    <a:lnTo>
                      <a:pt x="1416" y="1962"/>
                    </a:lnTo>
                    <a:lnTo>
                      <a:pt x="1338" y="1818"/>
                    </a:lnTo>
                    <a:lnTo>
                      <a:pt x="1254" y="1674"/>
                    </a:lnTo>
                    <a:lnTo>
                      <a:pt x="1170" y="1524"/>
                    </a:lnTo>
                    <a:lnTo>
                      <a:pt x="1086" y="1368"/>
                    </a:lnTo>
                    <a:lnTo>
                      <a:pt x="1002" y="1128"/>
                    </a:lnTo>
                    <a:lnTo>
                      <a:pt x="918" y="726"/>
                    </a:lnTo>
                    <a:lnTo>
                      <a:pt x="834" y="41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726"/>
                    </a:lnTo>
                    <a:lnTo>
                      <a:pt x="1086" y="1062"/>
                    </a:lnTo>
                    <a:lnTo>
                      <a:pt x="1170" y="1314"/>
                    </a:lnTo>
                    <a:lnTo>
                      <a:pt x="1254" y="1554"/>
                    </a:lnTo>
                    <a:lnTo>
                      <a:pt x="1338" y="1728"/>
                    </a:lnTo>
                    <a:lnTo>
                      <a:pt x="1416" y="1896"/>
                    </a:lnTo>
                    <a:lnTo>
                      <a:pt x="1500" y="1974"/>
                    </a:lnTo>
                    <a:lnTo>
                      <a:pt x="1584" y="2100"/>
                    </a:lnTo>
                    <a:lnTo>
                      <a:pt x="1668" y="2172"/>
                    </a:lnTo>
                    <a:lnTo>
                      <a:pt x="1752" y="2214"/>
                    </a:lnTo>
                    <a:lnTo>
                      <a:pt x="1836" y="2256"/>
                    </a:lnTo>
                    <a:lnTo>
                      <a:pt x="1920" y="2292"/>
                    </a:lnTo>
                    <a:lnTo>
                      <a:pt x="2004" y="2322"/>
                    </a:lnTo>
                    <a:lnTo>
                      <a:pt x="2088" y="2340"/>
                    </a:lnTo>
                    <a:lnTo>
                      <a:pt x="2172" y="2352"/>
                    </a:lnTo>
                    <a:lnTo>
                      <a:pt x="2256" y="2364"/>
                    </a:lnTo>
                    <a:lnTo>
                      <a:pt x="2334" y="2370"/>
                    </a:lnTo>
                    <a:lnTo>
                      <a:pt x="2418" y="2376"/>
                    </a:lnTo>
                    <a:lnTo>
                      <a:pt x="2502" y="2382"/>
                    </a:lnTo>
                    <a:lnTo>
                      <a:pt x="2586" y="2382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8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8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82"/>
                    </a:lnTo>
                    <a:lnTo>
                      <a:pt x="2502" y="2382"/>
                    </a:lnTo>
                    <a:lnTo>
                      <a:pt x="2418" y="2376"/>
                    </a:lnTo>
                    <a:lnTo>
                      <a:pt x="2334" y="2370"/>
                    </a:lnTo>
                    <a:lnTo>
                      <a:pt x="2256" y="2364"/>
                    </a:lnTo>
                    <a:lnTo>
                      <a:pt x="2172" y="2352"/>
                    </a:lnTo>
                    <a:lnTo>
                      <a:pt x="2088" y="2340"/>
                    </a:lnTo>
                    <a:lnTo>
                      <a:pt x="2004" y="2322"/>
                    </a:lnTo>
                    <a:lnTo>
                      <a:pt x="1920" y="2292"/>
                    </a:lnTo>
                    <a:lnTo>
                      <a:pt x="1836" y="2262"/>
                    </a:lnTo>
                    <a:lnTo>
                      <a:pt x="1752" y="2226"/>
                    </a:lnTo>
                    <a:lnTo>
                      <a:pt x="1668" y="2184"/>
                    </a:lnTo>
                    <a:lnTo>
                      <a:pt x="1584" y="2118"/>
                    </a:lnTo>
                    <a:lnTo>
                      <a:pt x="1500" y="1998"/>
                    </a:lnTo>
                    <a:lnTo>
                      <a:pt x="1416" y="1932"/>
                    </a:lnTo>
                    <a:lnTo>
                      <a:pt x="1338" y="1776"/>
                    </a:lnTo>
                    <a:lnTo>
                      <a:pt x="1254" y="1620"/>
                    </a:lnTo>
                    <a:lnTo>
                      <a:pt x="1170" y="1452"/>
                    </a:lnTo>
                    <a:lnTo>
                      <a:pt x="1086" y="1278"/>
                    </a:lnTo>
                    <a:lnTo>
                      <a:pt x="1002" y="1008"/>
                    </a:lnTo>
                    <a:lnTo>
                      <a:pt x="918" y="570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702"/>
                    </a:lnTo>
                    <a:lnTo>
                      <a:pt x="1170" y="1080"/>
                    </a:lnTo>
                    <a:lnTo>
                      <a:pt x="1254" y="1446"/>
                    </a:lnTo>
                    <a:lnTo>
                      <a:pt x="1338" y="1668"/>
                    </a:lnTo>
                    <a:lnTo>
                      <a:pt x="1416" y="1854"/>
                    </a:lnTo>
                    <a:lnTo>
                      <a:pt x="1500" y="1938"/>
                    </a:lnTo>
                    <a:lnTo>
                      <a:pt x="1584" y="2070"/>
                    </a:lnTo>
                    <a:lnTo>
                      <a:pt x="1668" y="2148"/>
                    </a:lnTo>
                    <a:lnTo>
                      <a:pt x="1752" y="2202"/>
                    </a:lnTo>
                    <a:lnTo>
                      <a:pt x="1836" y="2244"/>
                    </a:lnTo>
                    <a:lnTo>
                      <a:pt x="1920" y="2286"/>
                    </a:lnTo>
                    <a:lnTo>
                      <a:pt x="2004" y="2316"/>
                    </a:lnTo>
                    <a:lnTo>
                      <a:pt x="2088" y="2334"/>
                    </a:lnTo>
                    <a:lnTo>
                      <a:pt x="2172" y="2352"/>
                    </a:lnTo>
                    <a:lnTo>
                      <a:pt x="2256" y="2358"/>
                    </a:lnTo>
                    <a:lnTo>
                      <a:pt x="2334" y="2370"/>
                    </a:lnTo>
                    <a:lnTo>
                      <a:pt x="2418" y="2376"/>
                    </a:lnTo>
                    <a:lnTo>
                      <a:pt x="2502" y="2382"/>
                    </a:lnTo>
                    <a:lnTo>
                      <a:pt x="2586" y="2382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8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8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82"/>
                    </a:lnTo>
                    <a:lnTo>
                      <a:pt x="2502" y="2382"/>
                    </a:lnTo>
                    <a:lnTo>
                      <a:pt x="2418" y="2376"/>
                    </a:lnTo>
                    <a:lnTo>
                      <a:pt x="2334" y="2370"/>
                    </a:lnTo>
                    <a:lnTo>
                      <a:pt x="2256" y="2364"/>
                    </a:lnTo>
                    <a:lnTo>
                      <a:pt x="2172" y="2352"/>
                    </a:lnTo>
                    <a:lnTo>
                      <a:pt x="2088" y="2340"/>
                    </a:lnTo>
                    <a:lnTo>
                      <a:pt x="2004" y="2322"/>
                    </a:lnTo>
                    <a:lnTo>
                      <a:pt x="1920" y="2292"/>
                    </a:lnTo>
                    <a:lnTo>
                      <a:pt x="1836" y="2256"/>
                    </a:lnTo>
                    <a:lnTo>
                      <a:pt x="1752" y="2214"/>
                    </a:lnTo>
                    <a:lnTo>
                      <a:pt x="1668" y="2172"/>
                    </a:lnTo>
                    <a:lnTo>
                      <a:pt x="1584" y="2100"/>
                    </a:lnTo>
                    <a:lnTo>
                      <a:pt x="1500" y="1974"/>
                    </a:lnTo>
                    <a:lnTo>
                      <a:pt x="1416" y="1896"/>
                    </a:lnTo>
                    <a:lnTo>
                      <a:pt x="1338" y="1728"/>
                    </a:lnTo>
                    <a:lnTo>
                      <a:pt x="1254" y="1554"/>
                    </a:lnTo>
                    <a:lnTo>
                      <a:pt x="1170" y="1314"/>
                    </a:lnTo>
                    <a:lnTo>
                      <a:pt x="1086" y="1062"/>
                    </a:lnTo>
                    <a:lnTo>
                      <a:pt x="1002" y="726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98"/>
                    </a:lnTo>
                    <a:lnTo>
                      <a:pt x="1254" y="1212"/>
                    </a:lnTo>
                    <a:lnTo>
                      <a:pt x="1338" y="1446"/>
                    </a:lnTo>
                    <a:lnTo>
                      <a:pt x="1416" y="1656"/>
                    </a:lnTo>
                    <a:lnTo>
                      <a:pt x="1500" y="1746"/>
                    </a:lnTo>
                    <a:lnTo>
                      <a:pt x="1584" y="1914"/>
                    </a:lnTo>
                    <a:lnTo>
                      <a:pt x="1668" y="2040"/>
                    </a:lnTo>
                    <a:lnTo>
                      <a:pt x="1752" y="2118"/>
                    </a:lnTo>
                    <a:lnTo>
                      <a:pt x="1836" y="2208"/>
                    </a:lnTo>
                    <a:lnTo>
                      <a:pt x="1920" y="2256"/>
                    </a:lnTo>
                    <a:lnTo>
                      <a:pt x="2004" y="2292"/>
                    </a:lnTo>
                    <a:lnTo>
                      <a:pt x="2088" y="2322"/>
                    </a:lnTo>
                    <a:lnTo>
                      <a:pt x="2172" y="2340"/>
                    </a:lnTo>
                    <a:lnTo>
                      <a:pt x="2256" y="2352"/>
                    </a:lnTo>
                    <a:lnTo>
                      <a:pt x="2334" y="2364"/>
                    </a:lnTo>
                    <a:lnTo>
                      <a:pt x="2418" y="2370"/>
                    </a:lnTo>
                    <a:lnTo>
                      <a:pt x="2502" y="2376"/>
                    </a:lnTo>
                    <a:lnTo>
                      <a:pt x="2586" y="2382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2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8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82"/>
                    </a:lnTo>
                    <a:lnTo>
                      <a:pt x="2502" y="2382"/>
                    </a:lnTo>
                    <a:lnTo>
                      <a:pt x="2418" y="2376"/>
                    </a:lnTo>
                    <a:lnTo>
                      <a:pt x="2334" y="2370"/>
                    </a:lnTo>
                    <a:lnTo>
                      <a:pt x="2256" y="2358"/>
                    </a:lnTo>
                    <a:lnTo>
                      <a:pt x="2172" y="2352"/>
                    </a:lnTo>
                    <a:lnTo>
                      <a:pt x="2088" y="2334"/>
                    </a:lnTo>
                    <a:lnTo>
                      <a:pt x="2004" y="2316"/>
                    </a:lnTo>
                    <a:lnTo>
                      <a:pt x="1920" y="2286"/>
                    </a:lnTo>
                    <a:lnTo>
                      <a:pt x="1836" y="2244"/>
                    </a:lnTo>
                    <a:lnTo>
                      <a:pt x="1752" y="2202"/>
                    </a:lnTo>
                    <a:lnTo>
                      <a:pt x="1668" y="2148"/>
                    </a:lnTo>
                    <a:lnTo>
                      <a:pt x="1584" y="2070"/>
                    </a:lnTo>
                    <a:lnTo>
                      <a:pt x="1500" y="1938"/>
                    </a:lnTo>
                    <a:lnTo>
                      <a:pt x="1416" y="1854"/>
                    </a:lnTo>
                    <a:lnTo>
                      <a:pt x="1338" y="1668"/>
                    </a:lnTo>
                    <a:lnTo>
                      <a:pt x="1254" y="1446"/>
                    </a:lnTo>
                    <a:lnTo>
                      <a:pt x="1170" y="1080"/>
                    </a:lnTo>
                    <a:lnTo>
                      <a:pt x="1086" y="70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152"/>
                    </a:lnTo>
                    <a:lnTo>
                      <a:pt x="1338" y="1410"/>
                    </a:lnTo>
                    <a:lnTo>
                      <a:pt x="1416" y="1632"/>
                    </a:lnTo>
                    <a:lnTo>
                      <a:pt x="1500" y="1740"/>
                    </a:lnTo>
                    <a:lnTo>
                      <a:pt x="1584" y="1908"/>
                    </a:lnTo>
                    <a:lnTo>
                      <a:pt x="1668" y="2034"/>
                    </a:lnTo>
                    <a:lnTo>
                      <a:pt x="1752" y="2112"/>
                    </a:lnTo>
                    <a:lnTo>
                      <a:pt x="1836" y="2208"/>
                    </a:lnTo>
                    <a:lnTo>
                      <a:pt x="1920" y="2256"/>
                    </a:lnTo>
                    <a:lnTo>
                      <a:pt x="2004" y="2292"/>
                    </a:lnTo>
                    <a:lnTo>
                      <a:pt x="2088" y="2316"/>
                    </a:lnTo>
                    <a:lnTo>
                      <a:pt x="2172" y="2340"/>
                    </a:lnTo>
                    <a:lnTo>
                      <a:pt x="2256" y="2352"/>
                    </a:lnTo>
                    <a:lnTo>
                      <a:pt x="2334" y="2364"/>
                    </a:lnTo>
                    <a:lnTo>
                      <a:pt x="2418" y="2370"/>
                    </a:lnTo>
                    <a:lnTo>
                      <a:pt x="2502" y="2376"/>
                    </a:lnTo>
                    <a:lnTo>
                      <a:pt x="2586" y="2382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2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2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82"/>
                    </a:lnTo>
                    <a:lnTo>
                      <a:pt x="2502" y="2376"/>
                    </a:lnTo>
                    <a:lnTo>
                      <a:pt x="2418" y="2370"/>
                    </a:lnTo>
                    <a:lnTo>
                      <a:pt x="2334" y="2364"/>
                    </a:lnTo>
                    <a:lnTo>
                      <a:pt x="2256" y="2352"/>
                    </a:lnTo>
                    <a:lnTo>
                      <a:pt x="2172" y="2340"/>
                    </a:lnTo>
                    <a:lnTo>
                      <a:pt x="2088" y="2322"/>
                    </a:lnTo>
                    <a:lnTo>
                      <a:pt x="2004" y="2292"/>
                    </a:lnTo>
                    <a:lnTo>
                      <a:pt x="1920" y="2256"/>
                    </a:lnTo>
                    <a:lnTo>
                      <a:pt x="1836" y="2208"/>
                    </a:lnTo>
                    <a:lnTo>
                      <a:pt x="1752" y="2118"/>
                    </a:lnTo>
                    <a:lnTo>
                      <a:pt x="1668" y="2040"/>
                    </a:lnTo>
                    <a:lnTo>
                      <a:pt x="1584" y="1914"/>
                    </a:lnTo>
                    <a:lnTo>
                      <a:pt x="1500" y="1746"/>
                    </a:lnTo>
                    <a:lnTo>
                      <a:pt x="1416" y="1656"/>
                    </a:lnTo>
                    <a:lnTo>
                      <a:pt x="1338" y="1446"/>
                    </a:lnTo>
                    <a:lnTo>
                      <a:pt x="1254" y="1212"/>
                    </a:lnTo>
                    <a:lnTo>
                      <a:pt x="1170" y="798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248"/>
                    </a:lnTo>
                    <a:lnTo>
                      <a:pt x="1416" y="1542"/>
                    </a:lnTo>
                    <a:lnTo>
                      <a:pt x="1500" y="1668"/>
                    </a:lnTo>
                    <a:lnTo>
                      <a:pt x="1584" y="1860"/>
                    </a:lnTo>
                    <a:lnTo>
                      <a:pt x="1668" y="2004"/>
                    </a:lnTo>
                    <a:lnTo>
                      <a:pt x="1752" y="2094"/>
                    </a:lnTo>
                    <a:lnTo>
                      <a:pt x="1836" y="2190"/>
                    </a:lnTo>
                    <a:lnTo>
                      <a:pt x="1920" y="2244"/>
                    </a:lnTo>
                    <a:lnTo>
                      <a:pt x="2004" y="2286"/>
                    </a:lnTo>
                    <a:lnTo>
                      <a:pt x="2088" y="2310"/>
                    </a:lnTo>
                    <a:lnTo>
                      <a:pt x="2172" y="2334"/>
                    </a:lnTo>
                    <a:lnTo>
                      <a:pt x="2256" y="2346"/>
                    </a:lnTo>
                    <a:lnTo>
                      <a:pt x="2334" y="2358"/>
                    </a:lnTo>
                    <a:lnTo>
                      <a:pt x="2418" y="2370"/>
                    </a:lnTo>
                    <a:lnTo>
                      <a:pt x="2502" y="2376"/>
                    </a:lnTo>
                    <a:lnTo>
                      <a:pt x="2586" y="2376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2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2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82"/>
                    </a:lnTo>
                    <a:lnTo>
                      <a:pt x="2502" y="2376"/>
                    </a:lnTo>
                    <a:lnTo>
                      <a:pt x="2418" y="2370"/>
                    </a:lnTo>
                    <a:lnTo>
                      <a:pt x="2334" y="2364"/>
                    </a:lnTo>
                    <a:lnTo>
                      <a:pt x="2256" y="2352"/>
                    </a:lnTo>
                    <a:lnTo>
                      <a:pt x="2172" y="2340"/>
                    </a:lnTo>
                    <a:lnTo>
                      <a:pt x="2088" y="2316"/>
                    </a:lnTo>
                    <a:lnTo>
                      <a:pt x="2004" y="2292"/>
                    </a:lnTo>
                    <a:lnTo>
                      <a:pt x="1920" y="2256"/>
                    </a:lnTo>
                    <a:lnTo>
                      <a:pt x="1836" y="2208"/>
                    </a:lnTo>
                    <a:lnTo>
                      <a:pt x="1752" y="2112"/>
                    </a:lnTo>
                    <a:lnTo>
                      <a:pt x="1668" y="2034"/>
                    </a:lnTo>
                    <a:lnTo>
                      <a:pt x="1584" y="1908"/>
                    </a:lnTo>
                    <a:lnTo>
                      <a:pt x="1500" y="1740"/>
                    </a:lnTo>
                    <a:lnTo>
                      <a:pt x="1416" y="1632"/>
                    </a:lnTo>
                    <a:lnTo>
                      <a:pt x="1338" y="1410"/>
                    </a:lnTo>
                    <a:lnTo>
                      <a:pt x="1254" y="1152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290"/>
                    </a:lnTo>
                    <a:lnTo>
                      <a:pt x="1500" y="1548"/>
                    </a:lnTo>
                    <a:lnTo>
                      <a:pt x="1584" y="1812"/>
                    </a:lnTo>
                    <a:lnTo>
                      <a:pt x="1668" y="1980"/>
                    </a:lnTo>
                    <a:lnTo>
                      <a:pt x="1752" y="2076"/>
                    </a:lnTo>
                    <a:lnTo>
                      <a:pt x="1836" y="2178"/>
                    </a:lnTo>
                    <a:lnTo>
                      <a:pt x="1920" y="2238"/>
                    </a:lnTo>
                    <a:lnTo>
                      <a:pt x="2004" y="2280"/>
                    </a:lnTo>
                    <a:lnTo>
                      <a:pt x="2088" y="2310"/>
                    </a:lnTo>
                    <a:lnTo>
                      <a:pt x="2172" y="2334"/>
                    </a:lnTo>
                    <a:lnTo>
                      <a:pt x="2256" y="2346"/>
                    </a:lnTo>
                    <a:lnTo>
                      <a:pt x="2334" y="2358"/>
                    </a:lnTo>
                    <a:lnTo>
                      <a:pt x="2418" y="2370"/>
                    </a:lnTo>
                    <a:lnTo>
                      <a:pt x="2502" y="2376"/>
                    </a:lnTo>
                    <a:lnTo>
                      <a:pt x="2586" y="2376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2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2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76"/>
                    </a:lnTo>
                    <a:lnTo>
                      <a:pt x="2502" y="2376"/>
                    </a:lnTo>
                    <a:lnTo>
                      <a:pt x="2418" y="2370"/>
                    </a:lnTo>
                    <a:lnTo>
                      <a:pt x="2334" y="2358"/>
                    </a:lnTo>
                    <a:lnTo>
                      <a:pt x="2256" y="2346"/>
                    </a:lnTo>
                    <a:lnTo>
                      <a:pt x="2172" y="2334"/>
                    </a:lnTo>
                    <a:lnTo>
                      <a:pt x="2088" y="2310"/>
                    </a:lnTo>
                    <a:lnTo>
                      <a:pt x="2004" y="2286"/>
                    </a:lnTo>
                    <a:lnTo>
                      <a:pt x="1920" y="2244"/>
                    </a:lnTo>
                    <a:lnTo>
                      <a:pt x="1836" y="2190"/>
                    </a:lnTo>
                    <a:lnTo>
                      <a:pt x="1752" y="2094"/>
                    </a:lnTo>
                    <a:lnTo>
                      <a:pt x="1668" y="2004"/>
                    </a:lnTo>
                    <a:lnTo>
                      <a:pt x="1584" y="1860"/>
                    </a:lnTo>
                    <a:lnTo>
                      <a:pt x="1500" y="1668"/>
                    </a:lnTo>
                    <a:lnTo>
                      <a:pt x="1416" y="1542"/>
                    </a:lnTo>
                    <a:lnTo>
                      <a:pt x="1338" y="1248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1200"/>
                    </a:lnTo>
                    <a:lnTo>
                      <a:pt x="1584" y="1626"/>
                    </a:lnTo>
                    <a:lnTo>
                      <a:pt x="1668" y="1890"/>
                    </a:lnTo>
                    <a:lnTo>
                      <a:pt x="1752" y="2016"/>
                    </a:lnTo>
                    <a:lnTo>
                      <a:pt x="1836" y="2142"/>
                    </a:lnTo>
                    <a:lnTo>
                      <a:pt x="1920" y="2214"/>
                    </a:lnTo>
                    <a:lnTo>
                      <a:pt x="2004" y="2268"/>
                    </a:lnTo>
                    <a:lnTo>
                      <a:pt x="2088" y="2304"/>
                    </a:lnTo>
                    <a:lnTo>
                      <a:pt x="2172" y="2328"/>
                    </a:lnTo>
                    <a:lnTo>
                      <a:pt x="2256" y="2346"/>
                    </a:lnTo>
                    <a:lnTo>
                      <a:pt x="2334" y="2358"/>
                    </a:lnTo>
                    <a:lnTo>
                      <a:pt x="2418" y="2370"/>
                    </a:lnTo>
                    <a:lnTo>
                      <a:pt x="2502" y="2376"/>
                    </a:lnTo>
                    <a:lnTo>
                      <a:pt x="2586" y="2376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2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2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76"/>
                    </a:lnTo>
                    <a:lnTo>
                      <a:pt x="2502" y="2376"/>
                    </a:lnTo>
                    <a:lnTo>
                      <a:pt x="2418" y="2370"/>
                    </a:lnTo>
                    <a:lnTo>
                      <a:pt x="2334" y="2358"/>
                    </a:lnTo>
                    <a:lnTo>
                      <a:pt x="2256" y="2346"/>
                    </a:lnTo>
                    <a:lnTo>
                      <a:pt x="2172" y="2334"/>
                    </a:lnTo>
                    <a:lnTo>
                      <a:pt x="2088" y="2310"/>
                    </a:lnTo>
                    <a:lnTo>
                      <a:pt x="2004" y="2280"/>
                    </a:lnTo>
                    <a:lnTo>
                      <a:pt x="1920" y="2238"/>
                    </a:lnTo>
                    <a:lnTo>
                      <a:pt x="1836" y="2178"/>
                    </a:lnTo>
                    <a:lnTo>
                      <a:pt x="1752" y="2076"/>
                    </a:lnTo>
                    <a:lnTo>
                      <a:pt x="1668" y="1980"/>
                    </a:lnTo>
                    <a:lnTo>
                      <a:pt x="1584" y="1812"/>
                    </a:lnTo>
                    <a:lnTo>
                      <a:pt x="1500" y="1548"/>
                    </a:lnTo>
                    <a:lnTo>
                      <a:pt x="1416" y="1290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1122"/>
                    </a:lnTo>
                    <a:lnTo>
                      <a:pt x="1668" y="1680"/>
                    </a:lnTo>
                    <a:lnTo>
                      <a:pt x="1752" y="1902"/>
                    </a:lnTo>
                    <a:lnTo>
                      <a:pt x="1836" y="2082"/>
                    </a:lnTo>
                    <a:lnTo>
                      <a:pt x="1920" y="2178"/>
                    </a:lnTo>
                    <a:lnTo>
                      <a:pt x="2004" y="2244"/>
                    </a:lnTo>
                    <a:lnTo>
                      <a:pt x="2088" y="2286"/>
                    </a:lnTo>
                    <a:lnTo>
                      <a:pt x="2172" y="2316"/>
                    </a:lnTo>
                    <a:lnTo>
                      <a:pt x="2256" y="2340"/>
                    </a:lnTo>
                    <a:lnTo>
                      <a:pt x="2334" y="2358"/>
                    </a:lnTo>
                    <a:lnTo>
                      <a:pt x="2418" y="2370"/>
                    </a:lnTo>
                    <a:lnTo>
                      <a:pt x="2502" y="2376"/>
                    </a:lnTo>
                    <a:lnTo>
                      <a:pt x="2586" y="2376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2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2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76"/>
                    </a:lnTo>
                    <a:lnTo>
                      <a:pt x="2502" y="2376"/>
                    </a:lnTo>
                    <a:lnTo>
                      <a:pt x="2418" y="2370"/>
                    </a:lnTo>
                    <a:lnTo>
                      <a:pt x="2334" y="2358"/>
                    </a:lnTo>
                    <a:lnTo>
                      <a:pt x="2256" y="2346"/>
                    </a:lnTo>
                    <a:lnTo>
                      <a:pt x="2172" y="2328"/>
                    </a:lnTo>
                    <a:lnTo>
                      <a:pt x="2088" y="2304"/>
                    </a:lnTo>
                    <a:lnTo>
                      <a:pt x="2004" y="2268"/>
                    </a:lnTo>
                    <a:lnTo>
                      <a:pt x="1920" y="2214"/>
                    </a:lnTo>
                    <a:lnTo>
                      <a:pt x="1836" y="2142"/>
                    </a:lnTo>
                    <a:lnTo>
                      <a:pt x="1752" y="2016"/>
                    </a:lnTo>
                    <a:lnTo>
                      <a:pt x="1668" y="1890"/>
                    </a:lnTo>
                    <a:lnTo>
                      <a:pt x="1584" y="1626"/>
                    </a:lnTo>
                    <a:lnTo>
                      <a:pt x="1500" y="1200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1224"/>
                    </a:lnTo>
                    <a:lnTo>
                      <a:pt x="1752" y="1674"/>
                    </a:lnTo>
                    <a:lnTo>
                      <a:pt x="1836" y="1962"/>
                    </a:lnTo>
                    <a:lnTo>
                      <a:pt x="1920" y="2112"/>
                    </a:lnTo>
                    <a:lnTo>
                      <a:pt x="2004" y="2208"/>
                    </a:lnTo>
                    <a:lnTo>
                      <a:pt x="2088" y="2262"/>
                    </a:lnTo>
                    <a:lnTo>
                      <a:pt x="2172" y="2304"/>
                    </a:lnTo>
                    <a:lnTo>
                      <a:pt x="2256" y="2328"/>
                    </a:lnTo>
                    <a:lnTo>
                      <a:pt x="2334" y="2352"/>
                    </a:lnTo>
                    <a:lnTo>
                      <a:pt x="2418" y="2364"/>
                    </a:lnTo>
                    <a:lnTo>
                      <a:pt x="2502" y="2376"/>
                    </a:lnTo>
                    <a:lnTo>
                      <a:pt x="2586" y="2376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2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2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76"/>
                    </a:lnTo>
                    <a:lnTo>
                      <a:pt x="2502" y="2376"/>
                    </a:lnTo>
                    <a:lnTo>
                      <a:pt x="2418" y="2370"/>
                    </a:lnTo>
                    <a:lnTo>
                      <a:pt x="2334" y="2358"/>
                    </a:lnTo>
                    <a:lnTo>
                      <a:pt x="2256" y="2340"/>
                    </a:lnTo>
                    <a:lnTo>
                      <a:pt x="2172" y="2316"/>
                    </a:lnTo>
                    <a:lnTo>
                      <a:pt x="2088" y="2286"/>
                    </a:lnTo>
                    <a:lnTo>
                      <a:pt x="2004" y="2244"/>
                    </a:lnTo>
                    <a:lnTo>
                      <a:pt x="1920" y="2178"/>
                    </a:lnTo>
                    <a:lnTo>
                      <a:pt x="1836" y="2082"/>
                    </a:lnTo>
                    <a:lnTo>
                      <a:pt x="1752" y="1902"/>
                    </a:lnTo>
                    <a:lnTo>
                      <a:pt x="1668" y="1680"/>
                    </a:lnTo>
                    <a:lnTo>
                      <a:pt x="1584" y="1122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912"/>
                    </a:lnTo>
                    <a:lnTo>
                      <a:pt x="1752" y="1272"/>
                    </a:lnTo>
                    <a:lnTo>
                      <a:pt x="1836" y="1752"/>
                    </a:lnTo>
                    <a:lnTo>
                      <a:pt x="1920" y="2010"/>
                    </a:lnTo>
                    <a:lnTo>
                      <a:pt x="2004" y="2154"/>
                    </a:lnTo>
                    <a:lnTo>
                      <a:pt x="2088" y="2238"/>
                    </a:lnTo>
                    <a:lnTo>
                      <a:pt x="2172" y="2292"/>
                    </a:lnTo>
                    <a:lnTo>
                      <a:pt x="2256" y="2322"/>
                    </a:lnTo>
                    <a:lnTo>
                      <a:pt x="2334" y="2346"/>
                    </a:lnTo>
                    <a:lnTo>
                      <a:pt x="2418" y="2364"/>
                    </a:lnTo>
                    <a:lnTo>
                      <a:pt x="2502" y="2376"/>
                    </a:lnTo>
                    <a:lnTo>
                      <a:pt x="2586" y="2376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2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2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76"/>
                    </a:lnTo>
                    <a:lnTo>
                      <a:pt x="2502" y="2376"/>
                    </a:lnTo>
                    <a:lnTo>
                      <a:pt x="2418" y="2364"/>
                    </a:lnTo>
                    <a:lnTo>
                      <a:pt x="2334" y="2352"/>
                    </a:lnTo>
                    <a:lnTo>
                      <a:pt x="2256" y="2328"/>
                    </a:lnTo>
                    <a:lnTo>
                      <a:pt x="2172" y="2304"/>
                    </a:lnTo>
                    <a:lnTo>
                      <a:pt x="2088" y="2262"/>
                    </a:lnTo>
                    <a:lnTo>
                      <a:pt x="2004" y="2208"/>
                    </a:lnTo>
                    <a:lnTo>
                      <a:pt x="1920" y="2112"/>
                    </a:lnTo>
                    <a:lnTo>
                      <a:pt x="1836" y="1962"/>
                    </a:lnTo>
                    <a:lnTo>
                      <a:pt x="1752" y="1674"/>
                    </a:lnTo>
                    <a:lnTo>
                      <a:pt x="1668" y="1224"/>
                    </a:lnTo>
                    <a:lnTo>
                      <a:pt x="1584" y="804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  <a:close/>
                  </a:path>
                </a:pathLst>
              </a:cu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912"/>
                    </a:lnTo>
                    <a:lnTo>
                      <a:pt x="1752" y="1092"/>
                    </a:lnTo>
                    <a:lnTo>
                      <a:pt x="1836" y="1494"/>
                    </a:lnTo>
                    <a:lnTo>
                      <a:pt x="1920" y="1956"/>
                    </a:lnTo>
                    <a:lnTo>
                      <a:pt x="2004" y="2142"/>
                    </a:lnTo>
                    <a:lnTo>
                      <a:pt x="2088" y="2238"/>
                    </a:lnTo>
                    <a:lnTo>
                      <a:pt x="2172" y="2292"/>
                    </a:lnTo>
                    <a:lnTo>
                      <a:pt x="2256" y="2322"/>
                    </a:lnTo>
                    <a:lnTo>
                      <a:pt x="2334" y="2346"/>
                    </a:lnTo>
                    <a:lnTo>
                      <a:pt x="2418" y="2364"/>
                    </a:lnTo>
                    <a:lnTo>
                      <a:pt x="2502" y="2376"/>
                    </a:lnTo>
                    <a:lnTo>
                      <a:pt x="2586" y="2376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2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2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76"/>
                    </a:lnTo>
                    <a:lnTo>
                      <a:pt x="2502" y="2376"/>
                    </a:lnTo>
                    <a:lnTo>
                      <a:pt x="2418" y="2364"/>
                    </a:lnTo>
                    <a:lnTo>
                      <a:pt x="2334" y="2346"/>
                    </a:lnTo>
                    <a:lnTo>
                      <a:pt x="2256" y="2322"/>
                    </a:lnTo>
                    <a:lnTo>
                      <a:pt x="2172" y="2292"/>
                    </a:lnTo>
                    <a:lnTo>
                      <a:pt x="2088" y="2238"/>
                    </a:lnTo>
                    <a:lnTo>
                      <a:pt x="2004" y="2154"/>
                    </a:lnTo>
                    <a:lnTo>
                      <a:pt x="1920" y="2010"/>
                    </a:lnTo>
                    <a:lnTo>
                      <a:pt x="1836" y="1752"/>
                    </a:lnTo>
                    <a:lnTo>
                      <a:pt x="1752" y="1272"/>
                    </a:lnTo>
                    <a:lnTo>
                      <a:pt x="1668" y="912"/>
                    </a:lnTo>
                    <a:lnTo>
                      <a:pt x="1584" y="804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912"/>
                    </a:lnTo>
                    <a:lnTo>
                      <a:pt x="1752" y="1092"/>
                    </a:lnTo>
                    <a:lnTo>
                      <a:pt x="1836" y="1206"/>
                    </a:lnTo>
                    <a:lnTo>
                      <a:pt x="1920" y="1686"/>
                    </a:lnTo>
                    <a:lnTo>
                      <a:pt x="2004" y="2076"/>
                    </a:lnTo>
                    <a:lnTo>
                      <a:pt x="2088" y="2220"/>
                    </a:lnTo>
                    <a:lnTo>
                      <a:pt x="2172" y="2286"/>
                    </a:lnTo>
                    <a:lnTo>
                      <a:pt x="2256" y="2322"/>
                    </a:lnTo>
                    <a:lnTo>
                      <a:pt x="2334" y="2346"/>
                    </a:lnTo>
                    <a:lnTo>
                      <a:pt x="2418" y="2364"/>
                    </a:lnTo>
                    <a:lnTo>
                      <a:pt x="2502" y="2376"/>
                    </a:lnTo>
                    <a:lnTo>
                      <a:pt x="2586" y="2376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2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2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76"/>
                    </a:lnTo>
                    <a:lnTo>
                      <a:pt x="2502" y="2376"/>
                    </a:lnTo>
                    <a:lnTo>
                      <a:pt x="2418" y="2364"/>
                    </a:lnTo>
                    <a:lnTo>
                      <a:pt x="2334" y="2346"/>
                    </a:lnTo>
                    <a:lnTo>
                      <a:pt x="2256" y="2322"/>
                    </a:lnTo>
                    <a:lnTo>
                      <a:pt x="2172" y="2292"/>
                    </a:lnTo>
                    <a:lnTo>
                      <a:pt x="2088" y="2238"/>
                    </a:lnTo>
                    <a:lnTo>
                      <a:pt x="2004" y="2142"/>
                    </a:lnTo>
                    <a:lnTo>
                      <a:pt x="1920" y="1956"/>
                    </a:lnTo>
                    <a:lnTo>
                      <a:pt x="1836" y="1494"/>
                    </a:lnTo>
                    <a:lnTo>
                      <a:pt x="1752" y="1092"/>
                    </a:lnTo>
                    <a:lnTo>
                      <a:pt x="1668" y="912"/>
                    </a:lnTo>
                    <a:lnTo>
                      <a:pt x="1584" y="804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  <a:close/>
                  </a:path>
                </a:pathLst>
              </a:cu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912"/>
                    </a:lnTo>
                    <a:lnTo>
                      <a:pt x="1752" y="1092"/>
                    </a:lnTo>
                    <a:lnTo>
                      <a:pt x="1836" y="1206"/>
                    </a:lnTo>
                    <a:lnTo>
                      <a:pt x="1920" y="1386"/>
                    </a:lnTo>
                    <a:lnTo>
                      <a:pt x="2004" y="1800"/>
                    </a:lnTo>
                    <a:lnTo>
                      <a:pt x="2088" y="2124"/>
                    </a:lnTo>
                    <a:lnTo>
                      <a:pt x="2172" y="2256"/>
                    </a:lnTo>
                    <a:lnTo>
                      <a:pt x="2256" y="2316"/>
                    </a:lnTo>
                    <a:lnTo>
                      <a:pt x="2334" y="2346"/>
                    </a:lnTo>
                    <a:lnTo>
                      <a:pt x="2418" y="2364"/>
                    </a:lnTo>
                    <a:lnTo>
                      <a:pt x="2502" y="2376"/>
                    </a:lnTo>
                    <a:lnTo>
                      <a:pt x="2586" y="2376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2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2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76"/>
                    </a:lnTo>
                    <a:lnTo>
                      <a:pt x="2502" y="2376"/>
                    </a:lnTo>
                    <a:lnTo>
                      <a:pt x="2418" y="2364"/>
                    </a:lnTo>
                    <a:lnTo>
                      <a:pt x="2334" y="2346"/>
                    </a:lnTo>
                    <a:lnTo>
                      <a:pt x="2256" y="2322"/>
                    </a:lnTo>
                    <a:lnTo>
                      <a:pt x="2172" y="2286"/>
                    </a:lnTo>
                    <a:lnTo>
                      <a:pt x="2088" y="2220"/>
                    </a:lnTo>
                    <a:lnTo>
                      <a:pt x="2004" y="2076"/>
                    </a:lnTo>
                    <a:lnTo>
                      <a:pt x="1920" y="1686"/>
                    </a:lnTo>
                    <a:lnTo>
                      <a:pt x="1836" y="1206"/>
                    </a:lnTo>
                    <a:lnTo>
                      <a:pt x="1752" y="1092"/>
                    </a:lnTo>
                    <a:lnTo>
                      <a:pt x="1668" y="912"/>
                    </a:lnTo>
                    <a:lnTo>
                      <a:pt x="1584" y="804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912"/>
                    </a:lnTo>
                    <a:lnTo>
                      <a:pt x="1752" y="1092"/>
                    </a:lnTo>
                    <a:lnTo>
                      <a:pt x="1836" y="1206"/>
                    </a:lnTo>
                    <a:lnTo>
                      <a:pt x="1920" y="1386"/>
                    </a:lnTo>
                    <a:lnTo>
                      <a:pt x="2004" y="1518"/>
                    </a:lnTo>
                    <a:lnTo>
                      <a:pt x="2088" y="1890"/>
                    </a:lnTo>
                    <a:lnTo>
                      <a:pt x="2172" y="2190"/>
                    </a:lnTo>
                    <a:lnTo>
                      <a:pt x="2256" y="2292"/>
                    </a:lnTo>
                    <a:lnTo>
                      <a:pt x="2334" y="2340"/>
                    </a:lnTo>
                    <a:lnTo>
                      <a:pt x="2418" y="2364"/>
                    </a:lnTo>
                    <a:lnTo>
                      <a:pt x="2502" y="2376"/>
                    </a:lnTo>
                    <a:lnTo>
                      <a:pt x="2586" y="2376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2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2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76"/>
                    </a:lnTo>
                    <a:lnTo>
                      <a:pt x="2502" y="2376"/>
                    </a:lnTo>
                    <a:lnTo>
                      <a:pt x="2418" y="2364"/>
                    </a:lnTo>
                    <a:lnTo>
                      <a:pt x="2334" y="2346"/>
                    </a:lnTo>
                    <a:lnTo>
                      <a:pt x="2256" y="2316"/>
                    </a:lnTo>
                    <a:lnTo>
                      <a:pt x="2172" y="2256"/>
                    </a:lnTo>
                    <a:lnTo>
                      <a:pt x="2088" y="2124"/>
                    </a:lnTo>
                    <a:lnTo>
                      <a:pt x="2004" y="1800"/>
                    </a:lnTo>
                    <a:lnTo>
                      <a:pt x="1920" y="1386"/>
                    </a:lnTo>
                    <a:lnTo>
                      <a:pt x="1836" y="1206"/>
                    </a:lnTo>
                    <a:lnTo>
                      <a:pt x="1752" y="1092"/>
                    </a:lnTo>
                    <a:lnTo>
                      <a:pt x="1668" y="912"/>
                    </a:lnTo>
                    <a:lnTo>
                      <a:pt x="1584" y="804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912"/>
                    </a:lnTo>
                    <a:lnTo>
                      <a:pt x="1752" y="1092"/>
                    </a:lnTo>
                    <a:lnTo>
                      <a:pt x="1836" y="1206"/>
                    </a:lnTo>
                    <a:lnTo>
                      <a:pt x="1920" y="1386"/>
                    </a:lnTo>
                    <a:lnTo>
                      <a:pt x="2004" y="1518"/>
                    </a:lnTo>
                    <a:lnTo>
                      <a:pt x="2088" y="1632"/>
                    </a:lnTo>
                    <a:lnTo>
                      <a:pt x="2172" y="1992"/>
                    </a:lnTo>
                    <a:lnTo>
                      <a:pt x="2256" y="2244"/>
                    </a:lnTo>
                    <a:lnTo>
                      <a:pt x="2334" y="2322"/>
                    </a:lnTo>
                    <a:lnTo>
                      <a:pt x="2418" y="2358"/>
                    </a:lnTo>
                    <a:lnTo>
                      <a:pt x="2502" y="2376"/>
                    </a:lnTo>
                    <a:lnTo>
                      <a:pt x="2586" y="2376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2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2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76"/>
                    </a:lnTo>
                    <a:lnTo>
                      <a:pt x="2502" y="2376"/>
                    </a:lnTo>
                    <a:lnTo>
                      <a:pt x="2418" y="2364"/>
                    </a:lnTo>
                    <a:lnTo>
                      <a:pt x="2334" y="2340"/>
                    </a:lnTo>
                    <a:lnTo>
                      <a:pt x="2256" y="2292"/>
                    </a:lnTo>
                    <a:lnTo>
                      <a:pt x="2172" y="2190"/>
                    </a:lnTo>
                    <a:lnTo>
                      <a:pt x="2088" y="1890"/>
                    </a:lnTo>
                    <a:lnTo>
                      <a:pt x="2004" y="1518"/>
                    </a:lnTo>
                    <a:lnTo>
                      <a:pt x="1920" y="1386"/>
                    </a:lnTo>
                    <a:lnTo>
                      <a:pt x="1836" y="1206"/>
                    </a:lnTo>
                    <a:lnTo>
                      <a:pt x="1752" y="1092"/>
                    </a:lnTo>
                    <a:lnTo>
                      <a:pt x="1668" y="912"/>
                    </a:lnTo>
                    <a:lnTo>
                      <a:pt x="1584" y="804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912"/>
                    </a:lnTo>
                    <a:lnTo>
                      <a:pt x="1752" y="1092"/>
                    </a:lnTo>
                    <a:lnTo>
                      <a:pt x="1836" y="1206"/>
                    </a:lnTo>
                    <a:lnTo>
                      <a:pt x="1920" y="1386"/>
                    </a:lnTo>
                    <a:lnTo>
                      <a:pt x="2004" y="1518"/>
                    </a:lnTo>
                    <a:lnTo>
                      <a:pt x="2088" y="1632"/>
                    </a:lnTo>
                    <a:lnTo>
                      <a:pt x="2172" y="1752"/>
                    </a:lnTo>
                    <a:lnTo>
                      <a:pt x="2256" y="2076"/>
                    </a:lnTo>
                    <a:lnTo>
                      <a:pt x="2334" y="2286"/>
                    </a:lnTo>
                    <a:lnTo>
                      <a:pt x="2418" y="2352"/>
                    </a:lnTo>
                    <a:lnTo>
                      <a:pt x="2502" y="2376"/>
                    </a:lnTo>
                    <a:lnTo>
                      <a:pt x="2586" y="2376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2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2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76"/>
                    </a:lnTo>
                    <a:lnTo>
                      <a:pt x="2502" y="2376"/>
                    </a:lnTo>
                    <a:lnTo>
                      <a:pt x="2418" y="2358"/>
                    </a:lnTo>
                    <a:lnTo>
                      <a:pt x="2334" y="2322"/>
                    </a:lnTo>
                    <a:lnTo>
                      <a:pt x="2256" y="2244"/>
                    </a:lnTo>
                    <a:lnTo>
                      <a:pt x="2172" y="1992"/>
                    </a:lnTo>
                    <a:lnTo>
                      <a:pt x="2088" y="1632"/>
                    </a:lnTo>
                    <a:lnTo>
                      <a:pt x="2004" y="1518"/>
                    </a:lnTo>
                    <a:lnTo>
                      <a:pt x="1920" y="1386"/>
                    </a:lnTo>
                    <a:lnTo>
                      <a:pt x="1836" y="1206"/>
                    </a:lnTo>
                    <a:lnTo>
                      <a:pt x="1752" y="1092"/>
                    </a:lnTo>
                    <a:lnTo>
                      <a:pt x="1668" y="912"/>
                    </a:lnTo>
                    <a:lnTo>
                      <a:pt x="1584" y="804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912"/>
                    </a:lnTo>
                    <a:lnTo>
                      <a:pt x="1752" y="1092"/>
                    </a:lnTo>
                    <a:lnTo>
                      <a:pt x="1836" y="1206"/>
                    </a:lnTo>
                    <a:lnTo>
                      <a:pt x="1920" y="1386"/>
                    </a:lnTo>
                    <a:lnTo>
                      <a:pt x="2004" y="1518"/>
                    </a:lnTo>
                    <a:lnTo>
                      <a:pt x="2088" y="1632"/>
                    </a:lnTo>
                    <a:lnTo>
                      <a:pt x="2172" y="1752"/>
                    </a:lnTo>
                    <a:lnTo>
                      <a:pt x="2256" y="1860"/>
                    </a:lnTo>
                    <a:lnTo>
                      <a:pt x="2334" y="2154"/>
                    </a:lnTo>
                    <a:lnTo>
                      <a:pt x="2418" y="2328"/>
                    </a:lnTo>
                    <a:lnTo>
                      <a:pt x="2502" y="2370"/>
                    </a:lnTo>
                    <a:lnTo>
                      <a:pt x="2586" y="2376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2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2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76"/>
                    </a:lnTo>
                    <a:lnTo>
                      <a:pt x="2502" y="2376"/>
                    </a:lnTo>
                    <a:lnTo>
                      <a:pt x="2418" y="2352"/>
                    </a:lnTo>
                    <a:lnTo>
                      <a:pt x="2334" y="2286"/>
                    </a:lnTo>
                    <a:lnTo>
                      <a:pt x="2256" y="2076"/>
                    </a:lnTo>
                    <a:lnTo>
                      <a:pt x="2172" y="1752"/>
                    </a:lnTo>
                    <a:lnTo>
                      <a:pt x="2088" y="1632"/>
                    </a:lnTo>
                    <a:lnTo>
                      <a:pt x="2004" y="1518"/>
                    </a:lnTo>
                    <a:lnTo>
                      <a:pt x="1920" y="1386"/>
                    </a:lnTo>
                    <a:lnTo>
                      <a:pt x="1836" y="1206"/>
                    </a:lnTo>
                    <a:lnTo>
                      <a:pt x="1752" y="1092"/>
                    </a:lnTo>
                    <a:lnTo>
                      <a:pt x="1668" y="912"/>
                    </a:lnTo>
                    <a:lnTo>
                      <a:pt x="1584" y="804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912"/>
                    </a:lnTo>
                    <a:lnTo>
                      <a:pt x="1752" y="1092"/>
                    </a:lnTo>
                    <a:lnTo>
                      <a:pt x="1836" y="1206"/>
                    </a:lnTo>
                    <a:lnTo>
                      <a:pt x="1920" y="1386"/>
                    </a:lnTo>
                    <a:lnTo>
                      <a:pt x="2004" y="1518"/>
                    </a:lnTo>
                    <a:lnTo>
                      <a:pt x="2088" y="1632"/>
                    </a:lnTo>
                    <a:lnTo>
                      <a:pt x="2172" y="1752"/>
                    </a:lnTo>
                    <a:lnTo>
                      <a:pt x="2256" y="1860"/>
                    </a:lnTo>
                    <a:lnTo>
                      <a:pt x="2334" y="1956"/>
                    </a:lnTo>
                    <a:lnTo>
                      <a:pt x="2418" y="2220"/>
                    </a:lnTo>
                    <a:lnTo>
                      <a:pt x="2502" y="2352"/>
                    </a:lnTo>
                    <a:lnTo>
                      <a:pt x="2586" y="2376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2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2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76"/>
                    </a:lnTo>
                    <a:lnTo>
                      <a:pt x="2502" y="2370"/>
                    </a:lnTo>
                    <a:lnTo>
                      <a:pt x="2418" y="2328"/>
                    </a:lnTo>
                    <a:lnTo>
                      <a:pt x="2334" y="2154"/>
                    </a:lnTo>
                    <a:lnTo>
                      <a:pt x="2256" y="1860"/>
                    </a:lnTo>
                    <a:lnTo>
                      <a:pt x="2172" y="1752"/>
                    </a:lnTo>
                    <a:lnTo>
                      <a:pt x="2088" y="1632"/>
                    </a:lnTo>
                    <a:lnTo>
                      <a:pt x="2004" y="1518"/>
                    </a:lnTo>
                    <a:lnTo>
                      <a:pt x="1920" y="1386"/>
                    </a:lnTo>
                    <a:lnTo>
                      <a:pt x="1836" y="1206"/>
                    </a:lnTo>
                    <a:lnTo>
                      <a:pt x="1752" y="1092"/>
                    </a:lnTo>
                    <a:lnTo>
                      <a:pt x="1668" y="912"/>
                    </a:lnTo>
                    <a:lnTo>
                      <a:pt x="1584" y="804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912"/>
                    </a:lnTo>
                    <a:lnTo>
                      <a:pt x="1752" y="1092"/>
                    </a:lnTo>
                    <a:lnTo>
                      <a:pt x="1836" y="1206"/>
                    </a:lnTo>
                    <a:lnTo>
                      <a:pt x="1920" y="1386"/>
                    </a:lnTo>
                    <a:lnTo>
                      <a:pt x="2004" y="1518"/>
                    </a:lnTo>
                    <a:lnTo>
                      <a:pt x="2088" y="1632"/>
                    </a:lnTo>
                    <a:lnTo>
                      <a:pt x="2172" y="1752"/>
                    </a:lnTo>
                    <a:lnTo>
                      <a:pt x="2256" y="1860"/>
                    </a:lnTo>
                    <a:lnTo>
                      <a:pt x="2334" y="1956"/>
                    </a:lnTo>
                    <a:lnTo>
                      <a:pt x="2418" y="2040"/>
                    </a:lnTo>
                    <a:lnTo>
                      <a:pt x="2502" y="2268"/>
                    </a:lnTo>
                    <a:lnTo>
                      <a:pt x="2586" y="2364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2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2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76"/>
                    </a:lnTo>
                    <a:lnTo>
                      <a:pt x="2502" y="2352"/>
                    </a:lnTo>
                    <a:lnTo>
                      <a:pt x="2418" y="2220"/>
                    </a:lnTo>
                    <a:lnTo>
                      <a:pt x="2334" y="1956"/>
                    </a:lnTo>
                    <a:lnTo>
                      <a:pt x="2256" y="1860"/>
                    </a:lnTo>
                    <a:lnTo>
                      <a:pt x="2172" y="1752"/>
                    </a:lnTo>
                    <a:lnTo>
                      <a:pt x="2088" y="1632"/>
                    </a:lnTo>
                    <a:lnTo>
                      <a:pt x="2004" y="1518"/>
                    </a:lnTo>
                    <a:lnTo>
                      <a:pt x="1920" y="1386"/>
                    </a:lnTo>
                    <a:lnTo>
                      <a:pt x="1836" y="1206"/>
                    </a:lnTo>
                    <a:lnTo>
                      <a:pt x="1752" y="1092"/>
                    </a:lnTo>
                    <a:lnTo>
                      <a:pt x="1668" y="912"/>
                    </a:lnTo>
                    <a:lnTo>
                      <a:pt x="1584" y="804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912"/>
                    </a:lnTo>
                    <a:lnTo>
                      <a:pt x="1752" y="1092"/>
                    </a:lnTo>
                    <a:lnTo>
                      <a:pt x="1836" y="1206"/>
                    </a:lnTo>
                    <a:lnTo>
                      <a:pt x="1920" y="1386"/>
                    </a:lnTo>
                    <a:lnTo>
                      <a:pt x="2004" y="1518"/>
                    </a:lnTo>
                    <a:lnTo>
                      <a:pt x="2088" y="1632"/>
                    </a:lnTo>
                    <a:lnTo>
                      <a:pt x="2172" y="1752"/>
                    </a:lnTo>
                    <a:lnTo>
                      <a:pt x="2256" y="1860"/>
                    </a:lnTo>
                    <a:lnTo>
                      <a:pt x="2334" y="1956"/>
                    </a:lnTo>
                    <a:lnTo>
                      <a:pt x="2418" y="2040"/>
                    </a:lnTo>
                    <a:lnTo>
                      <a:pt x="2502" y="2100"/>
                    </a:lnTo>
                    <a:lnTo>
                      <a:pt x="2586" y="2298"/>
                    </a:lnTo>
                    <a:lnTo>
                      <a:pt x="2670" y="2376"/>
                    </a:lnTo>
                    <a:lnTo>
                      <a:pt x="2754" y="2382"/>
                    </a:lnTo>
                    <a:lnTo>
                      <a:pt x="2838" y="2382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2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64"/>
                    </a:lnTo>
                    <a:lnTo>
                      <a:pt x="2502" y="2268"/>
                    </a:lnTo>
                    <a:lnTo>
                      <a:pt x="2418" y="2040"/>
                    </a:lnTo>
                    <a:lnTo>
                      <a:pt x="2334" y="1956"/>
                    </a:lnTo>
                    <a:lnTo>
                      <a:pt x="2256" y="1860"/>
                    </a:lnTo>
                    <a:lnTo>
                      <a:pt x="2172" y="1752"/>
                    </a:lnTo>
                    <a:lnTo>
                      <a:pt x="2088" y="1632"/>
                    </a:lnTo>
                    <a:lnTo>
                      <a:pt x="2004" y="1518"/>
                    </a:lnTo>
                    <a:lnTo>
                      <a:pt x="1920" y="1386"/>
                    </a:lnTo>
                    <a:lnTo>
                      <a:pt x="1836" y="1206"/>
                    </a:lnTo>
                    <a:lnTo>
                      <a:pt x="1752" y="1092"/>
                    </a:lnTo>
                    <a:lnTo>
                      <a:pt x="1668" y="912"/>
                    </a:lnTo>
                    <a:lnTo>
                      <a:pt x="1584" y="804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912"/>
                    </a:lnTo>
                    <a:lnTo>
                      <a:pt x="1752" y="1092"/>
                    </a:lnTo>
                    <a:lnTo>
                      <a:pt x="1836" y="1206"/>
                    </a:lnTo>
                    <a:lnTo>
                      <a:pt x="1920" y="1386"/>
                    </a:lnTo>
                    <a:lnTo>
                      <a:pt x="2004" y="1518"/>
                    </a:lnTo>
                    <a:lnTo>
                      <a:pt x="2088" y="1632"/>
                    </a:lnTo>
                    <a:lnTo>
                      <a:pt x="2172" y="1752"/>
                    </a:lnTo>
                    <a:lnTo>
                      <a:pt x="2256" y="1860"/>
                    </a:lnTo>
                    <a:lnTo>
                      <a:pt x="2334" y="1956"/>
                    </a:lnTo>
                    <a:lnTo>
                      <a:pt x="2418" y="2040"/>
                    </a:lnTo>
                    <a:lnTo>
                      <a:pt x="2502" y="2100"/>
                    </a:lnTo>
                    <a:lnTo>
                      <a:pt x="2586" y="2148"/>
                    </a:lnTo>
                    <a:lnTo>
                      <a:pt x="2670" y="2322"/>
                    </a:lnTo>
                    <a:lnTo>
                      <a:pt x="2754" y="2376"/>
                    </a:lnTo>
                    <a:lnTo>
                      <a:pt x="2838" y="2382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2"/>
                    </a:lnTo>
                    <a:lnTo>
                      <a:pt x="2754" y="2382"/>
                    </a:lnTo>
                    <a:lnTo>
                      <a:pt x="2670" y="2376"/>
                    </a:lnTo>
                    <a:lnTo>
                      <a:pt x="2586" y="2298"/>
                    </a:lnTo>
                    <a:lnTo>
                      <a:pt x="2502" y="2100"/>
                    </a:lnTo>
                    <a:lnTo>
                      <a:pt x="2418" y="2040"/>
                    </a:lnTo>
                    <a:lnTo>
                      <a:pt x="2334" y="1956"/>
                    </a:lnTo>
                    <a:lnTo>
                      <a:pt x="2256" y="1860"/>
                    </a:lnTo>
                    <a:lnTo>
                      <a:pt x="2172" y="1752"/>
                    </a:lnTo>
                    <a:lnTo>
                      <a:pt x="2088" y="1632"/>
                    </a:lnTo>
                    <a:lnTo>
                      <a:pt x="2004" y="1518"/>
                    </a:lnTo>
                    <a:lnTo>
                      <a:pt x="1920" y="1386"/>
                    </a:lnTo>
                    <a:lnTo>
                      <a:pt x="1836" y="1206"/>
                    </a:lnTo>
                    <a:lnTo>
                      <a:pt x="1752" y="1092"/>
                    </a:lnTo>
                    <a:lnTo>
                      <a:pt x="1668" y="912"/>
                    </a:lnTo>
                    <a:lnTo>
                      <a:pt x="1584" y="804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912"/>
                    </a:lnTo>
                    <a:lnTo>
                      <a:pt x="1752" y="1092"/>
                    </a:lnTo>
                    <a:lnTo>
                      <a:pt x="1836" y="1206"/>
                    </a:lnTo>
                    <a:lnTo>
                      <a:pt x="1920" y="1386"/>
                    </a:lnTo>
                    <a:lnTo>
                      <a:pt x="2004" y="1518"/>
                    </a:lnTo>
                    <a:lnTo>
                      <a:pt x="2088" y="1632"/>
                    </a:lnTo>
                    <a:lnTo>
                      <a:pt x="2172" y="1752"/>
                    </a:lnTo>
                    <a:lnTo>
                      <a:pt x="2256" y="1860"/>
                    </a:lnTo>
                    <a:lnTo>
                      <a:pt x="2334" y="1956"/>
                    </a:lnTo>
                    <a:lnTo>
                      <a:pt x="2418" y="2040"/>
                    </a:lnTo>
                    <a:lnTo>
                      <a:pt x="2502" y="2100"/>
                    </a:lnTo>
                    <a:lnTo>
                      <a:pt x="2586" y="2148"/>
                    </a:lnTo>
                    <a:lnTo>
                      <a:pt x="2670" y="2190"/>
                    </a:lnTo>
                    <a:lnTo>
                      <a:pt x="2754" y="2340"/>
                    </a:lnTo>
                    <a:lnTo>
                      <a:pt x="2838" y="2382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2"/>
                    </a:lnTo>
                    <a:lnTo>
                      <a:pt x="2754" y="2376"/>
                    </a:lnTo>
                    <a:lnTo>
                      <a:pt x="2670" y="2322"/>
                    </a:lnTo>
                    <a:lnTo>
                      <a:pt x="2586" y="2148"/>
                    </a:lnTo>
                    <a:lnTo>
                      <a:pt x="2502" y="2100"/>
                    </a:lnTo>
                    <a:lnTo>
                      <a:pt x="2418" y="2040"/>
                    </a:lnTo>
                    <a:lnTo>
                      <a:pt x="2334" y="1956"/>
                    </a:lnTo>
                    <a:lnTo>
                      <a:pt x="2256" y="1860"/>
                    </a:lnTo>
                    <a:lnTo>
                      <a:pt x="2172" y="1752"/>
                    </a:lnTo>
                    <a:lnTo>
                      <a:pt x="2088" y="1632"/>
                    </a:lnTo>
                    <a:lnTo>
                      <a:pt x="2004" y="1518"/>
                    </a:lnTo>
                    <a:lnTo>
                      <a:pt x="1920" y="1386"/>
                    </a:lnTo>
                    <a:lnTo>
                      <a:pt x="1836" y="1206"/>
                    </a:lnTo>
                    <a:lnTo>
                      <a:pt x="1752" y="1092"/>
                    </a:lnTo>
                    <a:lnTo>
                      <a:pt x="1668" y="912"/>
                    </a:lnTo>
                    <a:lnTo>
                      <a:pt x="1584" y="804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912"/>
                    </a:lnTo>
                    <a:lnTo>
                      <a:pt x="1752" y="1092"/>
                    </a:lnTo>
                    <a:lnTo>
                      <a:pt x="1836" y="1206"/>
                    </a:lnTo>
                    <a:lnTo>
                      <a:pt x="1920" y="1386"/>
                    </a:lnTo>
                    <a:lnTo>
                      <a:pt x="2004" y="1518"/>
                    </a:lnTo>
                    <a:lnTo>
                      <a:pt x="2088" y="1632"/>
                    </a:lnTo>
                    <a:lnTo>
                      <a:pt x="2172" y="1752"/>
                    </a:lnTo>
                    <a:lnTo>
                      <a:pt x="2256" y="1860"/>
                    </a:lnTo>
                    <a:lnTo>
                      <a:pt x="2334" y="1956"/>
                    </a:lnTo>
                    <a:lnTo>
                      <a:pt x="2418" y="2040"/>
                    </a:lnTo>
                    <a:lnTo>
                      <a:pt x="2502" y="2100"/>
                    </a:lnTo>
                    <a:lnTo>
                      <a:pt x="2586" y="2148"/>
                    </a:lnTo>
                    <a:lnTo>
                      <a:pt x="2670" y="2190"/>
                    </a:lnTo>
                    <a:lnTo>
                      <a:pt x="2754" y="2220"/>
                    </a:lnTo>
                    <a:lnTo>
                      <a:pt x="2838" y="2352"/>
                    </a:lnTo>
                    <a:lnTo>
                      <a:pt x="2922" y="2382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2"/>
                    </a:lnTo>
                    <a:lnTo>
                      <a:pt x="2754" y="2340"/>
                    </a:lnTo>
                    <a:lnTo>
                      <a:pt x="2670" y="2190"/>
                    </a:lnTo>
                    <a:lnTo>
                      <a:pt x="2586" y="2148"/>
                    </a:lnTo>
                    <a:lnTo>
                      <a:pt x="2502" y="2100"/>
                    </a:lnTo>
                    <a:lnTo>
                      <a:pt x="2418" y="2040"/>
                    </a:lnTo>
                    <a:lnTo>
                      <a:pt x="2334" y="1956"/>
                    </a:lnTo>
                    <a:lnTo>
                      <a:pt x="2256" y="1860"/>
                    </a:lnTo>
                    <a:lnTo>
                      <a:pt x="2172" y="1752"/>
                    </a:lnTo>
                    <a:lnTo>
                      <a:pt x="2088" y="1632"/>
                    </a:lnTo>
                    <a:lnTo>
                      <a:pt x="2004" y="1518"/>
                    </a:lnTo>
                    <a:lnTo>
                      <a:pt x="1920" y="1386"/>
                    </a:lnTo>
                    <a:lnTo>
                      <a:pt x="1836" y="1206"/>
                    </a:lnTo>
                    <a:lnTo>
                      <a:pt x="1752" y="1092"/>
                    </a:lnTo>
                    <a:lnTo>
                      <a:pt x="1668" y="912"/>
                    </a:lnTo>
                    <a:lnTo>
                      <a:pt x="1584" y="804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912"/>
                    </a:lnTo>
                    <a:lnTo>
                      <a:pt x="1752" y="1092"/>
                    </a:lnTo>
                    <a:lnTo>
                      <a:pt x="1836" y="1206"/>
                    </a:lnTo>
                    <a:lnTo>
                      <a:pt x="1920" y="1386"/>
                    </a:lnTo>
                    <a:lnTo>
                      <a:pt x="2004" y="1518"/>
                    </a:lnTo>
                    <a:lnTo>
                      <a:pt x="2088" y="1632"/>
                    </a:lnTo>
                    <a:lnTo>
                      <a:pt x="2172" y="1752"/>
                    </a:lnTo>
                    <a:lnTo>
                      <a:pt x="2256" y="1860"/>
                    </a:lnTo>
                    <a:lnTo>
                      <a:pt x="2334" y="1956"/>
                    </a:lnTo>
                    <a:lnTo>
                      <a:pt x="2418" y="2040"/>
                    </a:lnTo>
                    <a:lnTo>
                      <a:pt x="2502" y="2100"/>
                    </a:lnTo>
                    <a:lnTo>
                      <a:pt x="2586" y="2148"/>
                    </a:lnTo>
                    <a:lnTo>
                      <a:pt x="2670" y="2190"/>
                    </a:lnTo>
                    <a:lnTo>
                      <a:pt x="2754" y="2220"/>
                    </a:lnTo>
                    <a:lnTo>
                      <a:pt x="2838" y="2244"/>
                    </a:lnTo>
                    <a:lnTo>
                      <a:pt x="2922" y="2364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2"/>
                    </a:lnTo>
                    <a:lnTo>
                      <a:pt x="2838" y="2352"/>
                    </a:lnTo>
                    <a:lnTo>
                      <a:pt x="2754" y="2220"/>
                    </a:lnTo>
                    <a:lnTo>
                      <a:pt x="2670" y="2190"/>
                    </a:lnTo>
                    <a:lnTo>
                      <a:pt x="2586" y="2148"/>
                    </a:lnTo>
                    <a:lnTo>
                      <a:pt x="2502" y="2100"/>
                    </a:lnTo>
                    <a:lnTo>
                      <a:pt x="2418" y="2040"/>
                    </a:lnTo>
                    <a:lnTo>
                      <a:pt x="2334" y="1956"/>
                    </a:lnTo>
                    <a:lnTo>
                      <a:pt x="2256" y="1860"/>
                    </a:lnTo>
                    <a:lnTo>
                      <a:pt x="2172" y="1752"/>
                    </a:lnTo>
                    <a:lnTo>
                      <a:pt x="2088" y="1632"/>
                    </a:lnTo>
                    <a:lnTo>
                      <a:pt x="2004" y="1518"/>
                    </a:lnTo>
                    <a:lnTo>
                      <a:pt x="1920" y="1386"/>
                    </a:lnTo>
                    <a:lnTo>
                      <a:pt x="1836" y="1206"/>
                    </a:lnTo>
                    <a:lnTo>
                      <a:pt x="1752" y="1092"/>
                    </a:lnTo>
                    <a:lnTo>
                      <a:pt x="1668" y="912"/>
                    </a:lnTo>
                    <a:lnTo>
                      <a:pt x="1584" y="804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912"/>
                    </a:lnTo>
                    <a:lnTo>
                      <a:pt x="1752" y="1092"/>
                    </a:lnTo>
                    <a:lnTo>
                      <a:pt x="1836" y="1206"/>
                    </a:lnTo>
                    <a:lnTo>
                      <a:pt x="1920" y="1386"/>
                    </a:lnTo>
                    <a:lnTo>
                      <a:pt x="2004" y="1518"/>
                    </a:lnTo>
                    <a:lnTo>
                      <a:pt x="2088" y="1632"/>
                    </a:lnTo>
                    <a:lnTo>
                      <a:pt x="2172" y="1752"/>
                    </a:lnTo>
                    <a:lnTo>
                      <a:pt x="2256" y="1860"/>
                    </a:lnTo>
                    <a:lnTo>
                      <a:pt x="2334" y="1956"/>
                    </a:lnTo>
                    <a:lnTo>
                      <a:pt x="2418" y="2040"/>
                    </a:lnTo>
                    <a:lnTo>
                      <a:pt x="2502" y="2100"/>
                    </a:lnTo>
                    <a:lnTo>
                      <a:pt x="2586" y="2148"/>
                    </a:lnTo>
                    <a:lnTo>
                      <a:pt x="2670" y="2190"/>
                    </a:lnTo>
                    <a:lnTo>
                      <a:pt x="2754" y="2220"/>
                    </a:lnTo>
                    <a:lnTo>
                      <a:pt x="2838" y="2244"/>
                    </a:lnTo>
                    <a:lnTo>
                      <a:pt x="2922" y="2268"/>
                    </a:lnTo>
                    <a:lnTo>
                      <a:pt x="3006" y="2370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64"/>
                    </a:lnTo>
                    <a:lnTo>
                      <a:pt x="2838" y="2244"/>
                    </a:lnTo>
                    <a:lnTo>
                      <a:pt x="2754" y="2220"/>
                    </a:lnTo>
                    <a:lnTo>
                      <a:pt x="2670" y="2190"/>
                    </a:lnTo>
                    <a:lnTo>
                      <a:pt x="2586" y="2148"/>
                    </a:lnTo>
                    <a:lnTo>
                      <a:pt x="2502" y="2100"/>
                    </a:lnTo>
                    <a:lnTo>
                      <a:pt x="2418" y="2040"/>
                    </a:lnTo>
                    <a:lnTo>
                      <a:pt x="2334" y="1956"/>
                    </a:lnTo>
                    <a:lnTo>
                      <a:pt x="2256" y="1860"/>
                    </a:lnTo>
                    <a:lnTo>
                      <a:pt x="2172" y="1752"/>
                    </a:lnTo>
                    <a:lnTo>
                      <a:pt x="2088" y="1632"/>
                    </a:lnTo>
                    <a:lnTo>
                      <a:pt x="2004" y="1518"/>
                    </a:lnTo>
                    <a:lnTo>
                      <a:pt x="1920" y="1386"/>
                    </a:lnTo>
                    <a:lnTo>
                      <a:pt x="1836" y="1206"/>
                    </a:lnTo>
                    <a:lnTo>
                      <a:pt x="1752" y="1092"/>
                    </a:lnTo>
                    <a:lnTo>
                      <a:pt x="1668" y="912"/>
                    </a:lnTo>
                    <a:lnTo>
                      <a:pt x="1584" y="804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912"/>
                    </a:lnTo>
                    <a:lnTo>
                      <a:pt x="1752" y="1092"/>
                    </a:lnTo>
                    <a:lnTo>
                      <a:pt x="1836" y="1206"/>
                    </a:lnTo>
                    <a:lnTo>
                      <a:pt x="1920" y="1386"/>
                    </a:lnTo>
                    <a:lnTo>
                      <a:pt x="2004" y="1518"/>
                    </a:lnTo>
                    <a:lnTo>
                      <a:pt x="2088" y="1632"/>
                    </a:lnTo>
                    <a:lnTo>
                      <a:pt x="2172" y="1752"/>
                    </a:lnTo>
                    <a:lnTo>
                      <a:pt x="2256" y="1860"/>
                    </a:lnTo>
                    <a:lnTo>
                      <a:pt x="2334" y="1956"/>
                    </a:lnTo>
                    <a:lnTo>
                      <a:pt x="2418" y="2040"/>
                    </a:lnTo>
                    <a:lnTo>
                      <a:pt x="2502" y="2100"/>
                    </a:lnTo>
                    <a:lnTo>
                      <a:pt x="2586" y="2148"/>
                    </a:lnTo>
                    <a:lnTo>
                      <a:pt x="2670" y="2190"/>
                    </a:lnTo>
                    <a:lnTo>
                      <a:pt x="2754" y="2220"/>
                    </a:lnTo>
                    <a:lnTo>
                      <a:pt x="2838" y="2244"/>
                    </a:lnTo>
                    <a:lnTo>
                      <a:pt x="2922" y="2268"/>
                    </a:lnTo>
                    <a:lnTo>
                      <a:pt x="3006" y="2286"/>
                    </a:lnTo>
                    <a:lnTo>
                      <a:pt x="3090" y="2376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70"/>
                    </a:lnTo>
                    <a:lnTo>
                      <a:pt x="2922" y="2268"/>
                    </a:lnTo>
                    <a:lnTo>
                      <a:pt x="2838" y="2244"/>
                    </a:lnTo>
                    <a:lnTo>
                      <a:pt x="2754" y="2220"/>
                    </a:lnTo>
                    <a:lnTo>
                      <a:pt x="2670" y="2190"/>
                    </a:lnTo>
                    <a:lnTo>
                      <a:pt x="2586" y="2148"/>
                    </a:lnTo>
                    <a:lnTo>
                      <a:pt x="2502" y="2100"/>
                    </a:lnTo>
                    <a:lnTo>
                      <a:pt x="2418" y="2040"/>
                    </a:lnTo>
                    <a:lnTo>
                      <a:pt x="2334" y="1956"/>
                    </a:lnTo>
                    <a:lnTo>
                      <a:pt x="2256" y="1860"/>
                    </a:lnTo>
                    <a:lnTo>
                      <a:pt x="2172" y="1752"/>
                    </a:lnTo>
                    <a:lnTo>
                      <a:pt x="2088" y="1632"/>
                    </a:lnTo>
                    <a:lnTo>
                      <a:pt x="2004" y="1518"/>
                    </a:lnTo>
                    <a:lnTo>
                      <a:pt x="1920" y="1386"/>
                    </a:lnTo>
                    <a:lnTo>
                      <a:pt x="1836" y="1206"/>
                    </a:lnTo>
                    <a:lnTo>
                      <a:pt x="1752" y="1092"/>
                    </a:lnTo>
                    <a:lnTo>
                      <a:pt x="1668" y="912"/>
                    </a:lnTo>
                    <a:lnTo>
                      <a:pt x="1584" y="804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912"/>
                    </a:lnTo>
                    <a:lnTo>
                      <a:pt x="1752" y="1092"/>
                    </a:lnTo>
                    <a:lnTo>
                      <a:pt x="1836" y="1206"/>
                    </a:lnTo>
                    <a:lnTo>
                      <a:pt x="1920" y="1386"/>
                    </a:lnTo>
                    <a:lnTo>
                      <a:pt x="2004" y="1518"/>
                    </a:lnTo>
                    <a:lnTo>
                      <a:pt x="2088" y="1632"/>
                    </a:lnTo>
                    <a:lnTo>
                      <a:pt x="2172" y="1752"/>
                    </a:lnTo>
                    <a:lnTo>
                      <a:pt x="2256" y="1860"/>
                    </a:lnTo>
                    <a:lnTo>
                      <a:pt x="2334" y="1956"/>
                    </a:lnTo>
                    <a:lnTo>
                      <a:pt x="2418" y="2040"/>
                    </a:lnTo>
                    <a:lnTo>
                      <a:pt x="2502" y="2100"/>
                    </a:lnTo>
                    <a:lnTo>
                      <a:pt x="2586" y="2148"/>
                    </a:lnTo>
                    <a:lnTo>
                      <a:pt x="2670" y="2190"/>
                    </a:lnTo>
                    <a:lnTo>
                      <a:pt x="2754" y="2220"/>
                    </a:lnTo>
                    <a:lnTo>
                      <a:pt x="2838" y="2244"/>
                    </a:lnTo>
                    <a:lnTo>
                      <a:pt x="2922" y="2268"/>
                    </a:lnTo>
                    <a:lnTo>
                      <a:pt x="3006" y="2286"/>
                    </a:lnTo>
                    <a:lnTo>
                      <a:pt x="3090" y="2304"/>
                    </a:lnTo>
                    <a:lnTo>
                      <a:pt x="3174" y="2382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76"/>
                    </a:lnTo>
                    <a:lnTo>
                      <a:pt x="3006" y="2286"/>
                    </a:lnTo>
                    <a:lnTo>
                      <a:pt x="2922" y="2268"/>
                    </a:lnTo>
                    <a:lnTo>
                      <a:pt x="2838" y="2244"/>
                    </a:lnTo>
                    <a:lnTo>
                      <a:pt x="2754" y="2220"/>
                    </a:lnTo>
                    <a:lnTo>
                      <a:pt x="2670" y="2190"/>
                    </a:lnTo>
                    <a:lnTo>
                      <a:pt x="2586" y="2148"/>
                    </a:lnTo>
                    <a:lnTo>
                      <a:pt x="2502" y="2100"/>
                    </a:lnTo>
                    <a:lnTo>
                      <a:pt x="2418" y="2040"/>
                    </a:lnTo>
                    <a:lnTo>
                      <a:pt x="2334" y="1956"/>
                    </a:lnTo>
                    <a:lnTo>
                      <a:pt x="2256" y="1860"/>
                    </a:lnTo>
                    <a:lnTo>
                      <a:pt x="2172" y="1752"/>
                    </a:lnTo>
                    <a:lnTo>
                      <a:pt x="2088" y="1632"/>
                    </a:lnTo>
                    <a:lnTo>
                      <a:pt x="2004" y="1518"/>
                    </a:lnTo>
                    <a:lnTo>
                      <a:pt x="1920" y="1386"/>
                    </a:lnTo>
                    <a:lnTo>
                      <a:pt x="1836" y="1206"/>
                    </a:lnTo>
                    <a:lnTo>
                      <a:pt x="1752" y="1092"/>
                    </a:lnTo>
                    <a:lnTo>
                      <a:pt x="1668" y="912"/>
                    </a:lnTo>
                    <a:lnTo>
                      <a:pt x="1584" y="804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912"/>
                    </a:lnTo>
                    <a:lnTo>
                      <a:pt x="1752" y="1092"/>
                    </a:lnTo>
                    <a:lnTo>
                      <a:pt x="1836" y="1206"/>
                    </a:lnTo>
                    <a:lnTo>
                      <a:pt x="1920" y="1386"/>
                    </a:lnTo>
                    <a:lnTo>
                      <a:pt x="2004" y="1518"/>
                    </a:lnTo>
                    <a:lnTo>
                      <a:pt x="2088" y="1632"/>
                    </a:lnTo>
                    <a:lnTo>
                      <a:pt x="2172" y="1752"/>
                    </a:lnTo>
                    <a:lnTo>
                      <a:pt x="2256" y="1860"/>
                    </a:lnTo>
                    <a:lnTo>
                      <a:pt x="2334" y="1956"/>
                    </a:lnTo>
                    <a:lnTo>
                      <a:pt x="2418" y="2040"/>
                    </a:lnTo>
                    <a:lnTo>
                      <a:pt x="2502" y="2100"/>
                    </a:lnTo>
                    <a:lnTo>
                      <a:pt x="2586" y="2148"/>
                    </a:lnTo>
                    <a:lnTo>
                      <a:pt x="2670" y="2190"/>
                    </a:lnTo>
                    <a:lnTo>
                      <a:pt x="2754" y="2220"/>
                    </a:lnTo>
                    <a:lnTo>
                      <a:pt x="2838" y="2244"/>
                    </a:lnTo>
                    <a:lnTo>
                      <a:pt x="2922" y="2268"/>
                    </a:lnTo>
                    <a:lnTo>
                      <a:pt x="3006" y="2286"/>
                    </a:lnTo>
                    <a:lnTo>
                      <a:pt x="3090" y="2304"/>
                    </a:lnTo>
                    <a:lnTo>
                      <a:pt x="3174" y="2316"/>
                    </a:lnTo>
                    <a:lnTo>
                      <a:pt x="3252" y="2382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2"/>
                    </a:lnTo>
                    <a:lnTo>
                      <a:pt x="3090" y="2304"/>
                    </a:lnTo>
                    <a:lnTo>
                      <a:pt x="3006" y="2286"/>
                    </a:lnTo>
                    <a:lnTo>
                      <a:pt x="2922" y="2268"/>
                    </a:lnTo>
                    <a:lnTo>
                      <a:pt x="2838" y="2244"/>
                    </a:lnTo>
                    <a:lnTo>
                      <a:pt x="2754" y="2220"/>
                    </a:lnTo>
                    <a:lnTo>
                      <a:pt x="2670" y="2190"/>
                    </a:lnTo>
                    <a:lnTo>
                      <a:pt x="2586" y="2148"/>
                    </a:lnTo>
                    <a:lnTo>
                      <a:pt x="2502" y="2100"/>
                    </a:lnTo>
                    <a:lnTo>
                      <a:pt x="2418" y="2040"/>
                    </a:lnTo>
                    <a:lnTo>
                      <a:pt x="2334" y="1956"/>
                    </a:lnTo>
                    <a:lnTo>
                      <a:pt x="2256" y="1860"/>
                    </a:lnTo>
                    <a:lnTo>
                      <a:pt x="2172" y="1752"/>
                    </a:lnTo>
                    <a:lnTo>
                      <a:pt x="2088" y="1632"/>
                    </a:lnTo>
                    <a:lnTo>
                      <a:pt x="2004" y="1518"/>
                    </a:lnTo>
                    <a:lnTo>
                      <a:pt x="1920" y="1386"/>
                    </a:lnTo>
                    <a:lnTo>
                      <a:pt x="1836" y="1206"/>
                    </a:lnTo>
                    <a:lnTo>
                      <a:pt x="1752" y="1092"/>
                    </a:lnTo>
                    <a:lnTo>
                      <a:pt x="1668" y="912"/>
                    </a:lnTo>
                    <a:lnTo>
                      <a:pt x="1584" y="804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912"/>
                    </a:lnTo>
                    <a:lnTo>
                      <a:pt x="1752" y="1092"/>
                    </a:lnTo>
                    <a:lnTo>
                      <a:pt x="1836" y="1206"/>
                    </a:lnTo>
                    <a:lnTo>
                      <a:pt x="1920" y="1386"/>
                    </a:lnTo>
                    <a:lnTo>
                      <a:pt x="2004" y="1518"/>
                    </a:lnTo>
                    <a:lnTo>
                      <a:pt x="2088" y="1632"/>
                    </a:lnTo>
                    <a:lnTo>
                      <a:pt x="2172" y="1752"/>
                    </a:lnTo>
                    <a:lnTo>
                      <a:pt x="2256" y="1860"/>
                    </a:lnTo>
                    <a:lnTo>
                      <a:pt x="2334" y="1956"/>
                    </a:lnTo>
                    <a:lnTo>
                      <a:pt x="2418" y="2040"/>
                    </a:lnTo>
                    <a:lnTo>
                      <a:pt x="2502" y="2100"/>
                    </a:lnTo>
                    <a:lnTo>
                      <a:pt x="2586" y="2148"/>
                    </a:lnTo>
                    <a:lnTo>
                      <a:pt x="2670" y="2190"/>
                    </a:lnTo>
                    <a:lnTo>
                      <a:pt x="2754" y="2220"/>
                    </a:lnTo>
                    <a:lnTo>
                      <a:pt x="2838" y="2244"/>
                    </a:lnTo>
                    <a:lnTo>
                      <a:pt x="2922" y="2268"/>
                    </a:lnTo>
                    <a:lnTo>
                      <a:pt x="3006" y="2286"/>
                    </a:lnTo>
                    <a:lnTo>
                      <a:pt x="3090" y="2304"/>
                    </a:lnTo>
                    <a:lnTo>
                      <a:pt x="3174" y="2316"/>
                    </a:lnTo>
                    <a:lnTo>
                      <a:pt x="3252" y="2328"/>
                    </a:lnTo>
                    <a:lnTo>
                      <a:pt x="3336" y="2382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2"/>
                    </a:lnTo>
                    <a:lnTo>
                      <a:pt x="3174" y="2316"/>
                    </a:lnTo>
                    <a:lnTo>
                      <a:pt x="3090" y="2304"/>
                    </a:lnTo>
                    <a:lnTo>
                      <a:pt x="3006" y="2286"/>
                    </a:lnTo>
                    <a:lnTo>
                      <a:pt x="2922" y="2268"/>
                    </a:lnTo>
                    <a:lnTo>
                      <a:pt x="2838" y="2244"/>
                    </a:lnTo>
                    <a:lnTo>
                      <a:pt x="2754" y="2220"/>
                    </a:lnTo>
                    <a:lnTo>
                      <a:pt x="2670" y="2190"/>
                    </a:lnTo>
                    <a:lnTo>
                      <a:pt x="2586" y="2148"/>
                    </a:lnTo>
                    <a:lnTo>
                      <a:pt x="2502" y="2100"/>
                    </a:lnTo>
                    <a:lnTo>
                      <a:pt x="2418" y="2040"/>
                    </a:lnTo>
                    <a:lnTo>
                      <a:pt x="2334" y="1956"/>
                    </a:lnTo>
                    <a:lnTo>
                      <a:pt x="2256" y="1860"/>
                    </a:lnTo>
                    <a:lnTo>
                      <a:pt x="2172" y="1752"/>
                    </a:lnTo>
                    <a:lnTo>
                      <a:pt x="2088" y="1632"/>
                    </a:lnTo>
                    <a:lnTo>
                      <a:pt x="2004" y="1518"/>
                    </a:lnTo>
                    <a:lnTo>
                      <a:pt x="1920" y="1386"/>
                    </a:lnTo>
                    <a:lnTo>
                      <a:pt x="1836" y="1206"/>
                    </a:lnTo>
                    <a:lnTo>
                      <a:pt x="1752" y="1092"/>
                    </a:lnTo>
                    <a:lnTo>
                      <a:pt x="1668" y="912"/>
                    </a:lnTo>
                    <a:lnTo>
                      <a:pt x="1584" y="804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912"/>
                    </a:lnTo>
                    <a:lnTo>
                      <a:pt x="1752" y="1092"/>
                    </a:lnTo>
                    <a:lnTo>
                      <a:pt x="1836" y="1206"/>
                    </a:lnTo>
                    <a:lnTo>
                      <a:pt x="1920" y="1386"/>
                    </a:lnTo>
                    <a:lnTo>
                      <a:pt x="2004" y="1518"/>
                    </a:lnTo>
                    <a:lnTo>
                      <a:pt x="2088" y="1632"/>
                    </a:lnTo>
                    <a:lnTo>
                      <a:pt x="2172" y="1752"/>
                    </a:lnTo>
                    <a:lnTo>
                      <a:pt x="2256" y="1860"/>
                    </a:lnTo>
                    <a:lnTo>
                      <a:pt x="2334" y="1956"/>
                    </a:lnTo>
                    <a:lnTo>
                      <a:pt x="2418" y="2040"/>
                    </a:lnTo>
                    <a:lnTo>
                      <a:pt x="2502" y="2100"/>
                    </a:lnTo>
                    <a:lnTo>
                      <a:pt x="2586" y="2148"/>
                    </a:lnTo>
                    <a:lnTo>
                      <a:pt x="2670" y="2190"/>
                    </a:lnTo>
                    <a:lnTo>
                      <a:pt x="2754" y="2220"/>
                    </a:lnTo>
                    <a:lnTo>
                      <a:pt x="2838" y="2244"/>
                    </a:lnTo>
                    <a:lnTo>
                      <a:pt x="2922" y="2268"/>
                    </a:lnTo>
                    <a:lnTo>
                      <a:pt x="3006" y="2286"/>
                    </a:lnTo>
                    <a:lnTo>
                      <a:pt x="3090" y="2304"/>
                    </a:lnTo>
                    <a:lnTo>
                      <a:pt x="3174" y="2316"/>
                    </a:lnTo>
                    <a:lnTo>
                      <a:pt x="3252" y="2328"/>
                    </a:lnTo>
                    <a:lnTo>
                      <a:pt x="3336" y="2334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2"/>
                    </a:lnTo>
                    <a:lnTo>
                      <a:pt x="3252" y="2328"/>
                    </a:lnTo>
                    <a:lnTo>
                      <a:pt x="3174" y="2316"/>
                    </a:lnTo>
                    <a:lnTo>
                      <a:pt x="3090" y="2304"/>
                    </a:lnTo>
                    <a:lnTo>
                      <a:pt x="3006" y="2286"/>
                    </a:lnTo>
                    <a:lnTo>
                      <a:pt x="2922" y="2268"/>
                    </a:lnTo>
                    <a:lnTo>
                      <a:pt x="2838" y="2244"/>
                    </a:lnTo>
                    <a:lnTo>
                      <a:pt x="2754" y="2220"/>
                    </a:lnTo>
                    <a:lnTo>
                      <a:pt x="2670" y="2190"/>
                    </a:lnTo>
                    <a:lnTo>
                      <a:pt x="2586" y="2148"/>
                    </a:lnTo>
                    <a:lnTo>
                      <a:pt x="2502" y="2100"/>
                    </a:lnTo>
                    <a:lnTo>
                      <a:pt x="2418" y="2040"/>
                    </a:lnTo>
                    <a:lnTo>
                      <a:pt x="2334" y="1956"/>
                    </a:lnTo>
                    <a:lnTo>
                      <a:pt x="2256" y="1860"/>
                    </a:lnTo>
                    <a:lnTo>
                      <a:pt x="2172" y="1752"/>
                    </a:lnTo>
                    <a:lnTo>
                      <a:pt x="2088" y="1632"/>
                    </a:lnTo>
                    <a:lnTo>
                      <a:pt x="2004" y="1518"/>
                    </a:lnTo>
                    <a:lnTo>
                      <a:pt x="1920" y="1386"/>
                    </a:lnTo>
                    <a:lnTo>
                      <a:pt x="1836" y="1206"/>
                    </a:lnTo>
                    <a:lnTo>
                      <a:pt x="1752" y="1092"/>
                    </a:lnTo>
                    <a:lnTo>
                      <a:pt x="1668" y="912"/>
                    </a:lnTo>
                    <a:lnTo>
                      <a:pt x="1584" y="804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912"/>
                    </a:lnTo>
                    <a:lnTo>
                      <a:pt x="1752" y="1092"/>
                    </a:lnTo>
                    <a:lnTo>
                      <a:pt x="1836" y="1206"/>
                    </a:lnTo>
                    <a:lnTo>
                      <a:pt x="1920" y="1386"/>
                    </a:lnTo>
                    <a:lnTo>
                      <a:pt x="2004" y="1518"/>
                    </a:lnTo>
                    <a:lnTo>
                      <a:pt x="2088" y="1632"/>
                    </a:lnTo>
                    <a:lnTo>
                      <a:pt x="2172" y="1752"/>
                    </a:lnTo>
                    <a:lnTo>
                      <a:pt x="2256" y="1860"/>
                    </a:lnTo>
                    <a:lnTo>
                      <a:pt x="2334" y="1956"/>
                    </a:lnTo>
                    <a:lnTo>
                      <a:pt x="2418" y="2040"/>
                    </a:lnTo>
                    <a:lnTo>
                      <a:pt x="2502" y="2100"/>
                    </a:lnTo>
                    <a:lnTo>
                      <a:pt x="2586" y="2148"/>
                    </a:lnTo>
                    <a:lnTo>
                      <a:pt x="2670" y="2190"/>
                    </a:lnTo>
                    <a:lnTo>
                      <a:pt x="2754" y="2220"/>
                    </a:lnTo>
                    <a:lnTo>
                      <a:pt x="2838" y="2244"/>
                    </a:lnTo>
                    <a:lnTo>
                      <a:pt x="2922" y="2268"/>
                    </a:lnTo>
                    <a:lnTo>
                      <a:pt x="3006" y="2286"/>
                    </a:lnTo>
                    <a:lnTo>
                      <a:pt x="3090" y="2304"/>
                    </a:lnTo>
                    <a:lnTo>
                      <a:pt x="3174" y="2316"/>
                    </a:lnTo>
                    <a:lnTo>
                      <a:pt x="3252" y="2328"/>
                    </a:lnTo>
                    <a:lnTo>
                      <a:pt x="3336" y="2334"/>
                    </a:lnTo>
                    <a:lnTo>
                      <a:pt x="3420" y="2346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34"/>
                    </a:lnTo>
                    <a:lnTo>
                      <a:pt x="3252" y="2328"/>
                    </a:lnTo>
                    <a:lnTo>
                      <a:pt x="3174" y="2316"/>
                    </a:lnTo>
                    <a:lnTo>
                      <a:pt x="3090" y="2304"/>
                    </a:lnTo>
                    <a:lnTo>
                      <a:pt x="3006" y="2286"/>
                    </a:lnTo>
                    <a:lnTo>
                      <a:pt x="2922" y="2268"/>
                    </a:lnTo>
                    <a:lnTo>
                      <a:pt x="2838" y="2244"/>
                    </a:lnTo>
                    <a:lnTo>
                      <a:pt x="2754" y="2220"/>
                    </a:lnTo>
                    <a:lnTo>
                      <a:pt x="2670" y="2190"/>
                    </a:lnTo>
                    <a:lnTo>
                      <a:pt x="2586" y="2148"/>
                    </a:lnTo>
                    <a:lnTo>
                      <a:pt x="2502" y="2100"/>
                    </a:lnTo>
                    <a:lnTo>
                      <a:pt x="2418" y="2040"/>
                    </a:lnTo>
                    <a:lnTo>
                      <a:pt x="2334" y="1956"/>
                    </a:lnTo>
                    <a:lnTo>
                      <a:pt x="2256" y="1860"/>
                    </a:lnTo>
                    <a:lnTo>
                      <a:pt x="2172" y="1752"/>
                    </a:lnTo>
                    <a:lnTo>
                      <a:pt x="2088" y="1632"/>
                    </a:lnTo>
                    <a:lnTo>
                      <a:pt x="2004" y="1518"/>
                    </a:lnTo>
                    <a:lnTo>
                      <a:pt x="1920" y="1386"/>
                    </a:lnTo>
                    <a:lnTo>
                      <a:pt x="1836" y="1206"/>
                    </a:lnTo>
                    <a:lnTo>
                      <a:pt x="1752" y="1092"/>
                    </a:lnTo>
                    <a:lnTo>
                      <a:pt x="1668" y="912"/>
                    </a:lnTo>
                    <a:lnTo>
                      <a:pt x="1584" y="804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912"/>
                    </a:lnTo>
                    <a:lnTo>
                      <a:pt x="1752" y="1092"/>
                    </a:lnTo>
                    <a:lnTo>
                      <a:pt x="1836" y="1206"/>
                    </a:lnTo>
                    <a:lnTo>
                      <a:pt x="1920" y="1386"/>
                    </a:lnTo>
                    <a:lnTo>
                      <a:pt x="2004" y="1518"/>
                    </a:lnTo>
                    <a:lnTo>
                      <a:pt x="2088" y="1632"/>
                    </a:lnTo>
                    <a:lnTo>
                      <a:pt x="2172" y="1752"/>
                    </a:lnTo>
                    <a:lnTo>
                      <a:pt x="2256" y="1860"/>
                    </a:lnTo>
                    <a:lnTo>
                      <a:pt x="2334" y="1956"/>
                    </a:lnTo>
                    <a:lnTo>
                      <a:pt x="2418" y="2040"/>
                    </a:lnTo>
                    <a:lnTo>
                      <a:pt x="2502" y="2100"/>
                    </a:lnTo>
                    <a:lnTo>
                      <a:pt x="2586" y="2148"/>
                    </a:lnTo>
                    <a:lnTo>
                      <a:pt x="2670" y="2190"/>
                    </a:lnTo>
                    <a:lnTo>
                      <a:pt x="2754" y="2220"/>
                    </a:lnTo>
                    <a:lnTo>
                      <a:pt x="2838" y="2244"/>
                    </a:lnTo>
                    <a:lnTo>
                      <a:pt x="2922" y="2268"/>
                    </a:lnTo>
                    <a:lnTo>
                      <a:pt x="3006" y="2286"/>
                    </a:lnTo>
                    <a:lnTo>
                      <a:pt x="3090" y="2304"/>
                    </a:lnTo>
                    <a:lnTo>
                      <a:pt x="3174" y="2316"/>
                    </a:lnTo>
                    <a:lnTo>
                      <a:pt x="3252" y="2328"/>
                    </a:lnTo>
                    <a:lnTo>
                      <a:pt x="3336" y="2334"/>
                    </a:lnTo>
                    <a:lnTo>
                      <a:pt x="3420" y="2346"/>
                    </a:lnTo>
                    <a:lnTo>
                      <a:pt x="3504" y="2352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46"/>
                    </a:lnTo>
                    <a:lnTo>
                      <a:pt x="3336" y="2334"/>
                    </a:lnTo>
                    <a:lnTo>
                      <a:pt x="3252" y="2328"/>
                    </a:lnTo>
                    <a:lnTo>
                      <a:pt x="3174" y="2316"/>
                    </a:lnTo>
                    <a:lnTo>
                      <a:pt x="3090" y="2304"/>
                    </a:lnTo>
                    <a:lnTo>
                      <a:pt x="3006" y="2286"/>
                    </a:lnTo>
                    <a:lnTo>
                      <a:pt x="2922" y="2268"/>
                    </a:lnTo>
                    <a:lnTo>
                      <a:pt x="2838" y="2244"/>
                    </a:lnTo>
                    <a:lnTo>
                      <a:pt x="2754" y="2220"/>
                    </a:lnTo>
                    <a:lnTo>
                      <a:pt x="2670" y="2190"/>
                    </a:lnTo>
                    <a:lnTo>
                      <a:pt x="2586" y="2148"/>
                    </a:lnTo>
                    <a:lnTo>
                      <a:pt x="2502" y="2100"/>
                    </a:lnTo>
                    <a:lnTo>
                      <a:pt x="2418" y="2040"/>
                    </a:lnTo>
                    <a:lnTo>
                      <a:pt x="2334" y="1956"/>
                    </a:lnTo>
                    <a:lnTo>
                      <a:pt x="2256" y="1860"/>
                    </a:lnTo>
                    <a:lnTo>
                      <a:pt x="2172" y="1752"/>
                    </a:lnTo>
                    <a:lnTo>
                      <a:pt x="2088" y="1632"/>
                    </a:lnTo>
                    <a:lnTo>
                      <a:pt x="2004" y="1518"/>
                    </a:lnTo>
                    <a:lnTo>
                      <a:pt x="1920" y="1386"/>
                    </a:lnTo>
                    <a:lnTo>
                      <a:pt x="1836" y="1206"/>
                    </a:lnTo>
                    <a:lnTo>
                      <a:pt x="1752" y="1092"/>
                    </a:lnTo>
                    <a:lnTo>
                      <a:pt x="1668" y="912"/>
                    </a:lnTo>
                    <a:lnTo>
                      <a:pt x="1584" y="804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912"/>
                    </a:lnTo>
                    <a:lnTo>
                      <a:pt x="1752" y="1092"/>
                    </a:lnTo>
                    <a:lnTo>
                      <a:pt x="1836" y="1206"/>
                    </a:lnTo>
                    <a:lnTo>
                      <a:pt x="1920" y="1386"/>
                    </a:lnTo>
                    <a:lnTo>
                      <a:pt x="2004" y="1518"/>
                    </a:lnTo>
                    <a:lnTo>
                      <a:pt x="2088" y="1632"/>
                    </a:lnTo>
                    <a:lnTo>
                      <a:pt x="2172" y="1752"/>
                    </a:lnTo>
                    <a:lnTo>
                      <a:pt x="2256" y="1860"/>
                    </a:lnTo>
                    <a:lnTo>
                      <a:pt x="2334" y="1956"/>
                    </a:lnTo>
                    <a:lnTo>
                      <a:pt x="2418" y="2040"/>
                    </a:lnTo>
                    <a:lnTo>
                      <a:pt x="2502" y="2100"/>
                    </a:lnTo>
                    <a:lnTo>
                      <a:pt x="2586" y="2148"/>
                    </a:lnTo>
                    <a:lnTo>
                      <a:pt x="2670" y="2190"/>
                    </a:lnTo>
                    <a:lnTo>
                      <a:pt x="2754" y="2220"/>
                    </a:lnTo>
                    <a:lnTo>
                      <a:pt x="2838" y="2244"/>
                    </a:lnTo>
                    <a:lnTo>
                      <a:pt x="2922" y="2268"/>
                    </a:lnTo>
                    <a:lnTo>
                      <a:pt x="3006" y="2286"/>
                    </a:lnTo>
                    <a:lnTo>
                      <a:pt x="3090" y="2304"/>
                    </a:lnTo>
                    <a:lnTo>
                      <a:pt x="3174" y="2316"/>
                    </a:lnTo>
                    <a:lnTo>
                      <a:pt x="3252" y="2328"/>
                    </a:lnTo>
                    <a:lnTo>
                      <a:pt x="3336" y="2334"/>
                    </a:lnTo>
                    <a:lnTo>
                      <a:pt x="3420" y="2346"/>
                    </a:lnTo>
                    <a:lnTo>
                      <a:pt x="3504" y="2352"/>
                    </a:lnTo>
                    <a:lnTo>
                      <a:pt x="3588" y="235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52"/>
                    </a:lnTo>
                    <a:lnTo>
                      <a:pt x="3420" y="2346"/>
                    </a:lnTo>
                    <a:lnTo>
                      <a:pt x="3336" y="2334"/>
                    </a:lnTo>
                    <a:lnTo>
                      <a:pt x="3252" y="2328"/>
                    </a:lnTo>
                    <a:lnTo>
                      <a:pt x="3174" y="2316"/>
                    </a:lnTo>
                    <a:lnTo>
                      <a:pt x="3090" y="2304"/>
                    </a:lnTo>
                    <a:lnTo>
                      <a:pt x="3006" y="2286"/>
                    </a:lnTo>
                    <a:lnTo>
                      <a:pt x="2922" y="2268"/>
                    </a:lnTo>
                    <a:lnTo>
                      <a:pt x="2838" y="2244"/>
                    </a:lnTo>
                    <a:lnTo>
                      <a:pt x="2754" y="2220"/>
                    </a:lnTo>
                    <a:lnTo>
                      <a:pt x="2670" y="2190"/>
                    </a:lnTo>
                    <a:lnTo>
                      <a:pt x="2586" y="2148"/>
                    </a:lnTo>
                    <a:lnTo>
                      <a:pt x="2502" y="2100"/>
                    </a:lnTo>
                    <a:lnTo>
                      <a:pt x="2418" y="2040"/>
                    </a:lnTo>
                    <a:lnTo>
                      <a:pt x="2334" y="1956"/>
                    </a:lnTo>
                    <a:lnTo>
                      <a:pt x="2256" y="1860"/>
                    </a:lnTo>
                    <a:lnTo>
                      <a:pt x="2172" y="1752"/>
                    </a:lnTo>
                    <a:lnTo>
                      <a:pt x="2088" y="1632"/>
                    </a:lnTo>
                    <a:lnTo>
                      <a:pt x="2004" y="1518"/>
                    </a:lnTo>
                    <a:lnTo>
                      <a:pt x="1920" y="1386"/>
                    </a:lnTo>
                    <a:lnTo>
                      <a:pt x="1836" y="1206"/>
                    </a:lnTo>
                    <a:lnTo>
                      <a:pt x="1752" y="1092"/>
                    </a:lnTo>
                    <a:lnTo>
                      <a:pt x="1668" y="912"/>
                    </a:lnTo>
                    <a:lnTo>
                      <a:pt x="1584" y="804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912"/>
                    </a:lnTo>
                    <a:lnTo>
                      <a:pt x="1752" y="1092"/>
                    </a:lnTo>
                    <a:lnTo>
                      <a:pt x="1836" y="1206"/>
                    </a:lnTo>
                    <a:lnTo>
                      <a:pt x="1920" y="1386"/>
                    </a:lnTo>
                    <a:lnTo>
                      <a:pt x="2004" y="1518"/>
                    </a:lnTo>
                    <a:lnTo>
                      <a:pt x="2088" y="1632"/>
                    </a:lnTo>
                    <a:lnTo>
                      <a:pt x="2172" y="1752"/>
                    </a:lnTo>
                    <a:lnTo>
                      <a:pt x="2256" y="1860"/>
                    </a:lnTo>
                    <a:lnTo>
                      <a:pt x="2334" y="1956"/>
                    </a:lnTo>
                    <a:lnTo>
                      <a:pt x="2418" y="2040"/>
                    </a:lnTo>
                    <a:lnTo>
                      <a:pt x="2502" y="2100"/>
                    </a:lnTo>
                    <a:lnTo>
                      <a:pt x="2586" y="2148"/>
                    </a:lnTo>
                    <a:lnTo>
                      <a:pt x="2670" y="2190"/>
                    </a:lnTo>
                    <a:lnTo>
                      <a:pt x="2754" y="2220"/>
                    </a:lnTo>
                    <a:lnTo>
                      <a:pt x="2838" y="2244"/>
                    </a:lnTo>
                    <a:lnTo>
                      <a:pt x="2922" y="2268"/>
                    </a:lnTo>
                    <a:lnTo>
                      <a:pt x="3006" y="2286"/>
                    </a:lnTo>
                    <a:lnTo>
                      <a:pt x="3090" y="2304"/>
                    </a:lnTo>
                    <a:lnTo>
                      <a:pt x="3174" y="2316"/>
                    </a:lnTo>
                    <a:lnTo>
                      <a:pt x="3252" y="2328"/>
                    </a:lnTo>
                    <a:lnTo>
                      <a:pt x="3336" y="2334"/>
                    </a:lnTo>
                    <a:lnTo>
                      <a:pt x="3420" y="2346"/>
                    </a:lnTo>
                    <a:lnTo>
                      <a:pt x="3504" y="2352"/>
                    </a:lnTo>
                    <a:lnTo>
                      <a:pt x="3588" y="2358"/>
                    </a:lnTo>
                    <a:lnTo>
                      <a:pt x="3672" y="2358"/>
                    </a:lnTo>
                    <a:lnTo>
                      <a:pt x="3672" y="2388"/>
                    </a:lnTo>
                    <a:lnTo>
                      <a:pt x="3588" y="2358"/>
                    </a:lnTo>
                    <a:lnTo>
                      <a:pt x="3504" y="2352"/>
                    </a:lnTo>
                    <a:lnTo>
                      <a:pt x="3420" y="2346"/>
                    </a:lnTo>
                    <a:lnTo>
                      <a:pt x="3336" y="2334"/>
                    </a:lnTo>
                    <a:lnTo>
                      <a:pt x="3252" y="2328"/>
                    </a:lnTo>
                    <a:lnTo>
                      <a:pt x="3174" y="2316"/>
                    </a:lnTo>
                    <a:lnTo>
                      <a:pt x="3090" y="2304"/>
                    </a:lnTo>
                    <a:lnTo>
                      <a:pt x="3006" y="2286"/>
                    </a:lnTo>
                    <a:lnTo>
                      <a:pt x="2922" y="2268"/>
                    </a:lnTo>
                    <a:lnTo>
                      <a:pt x="2838" y="2244"/>
                    </a:lnTo>
                    <a:lnTo>
                      <a:pt x="2754" y="2220"/>
                    </a:lnTo>
                    <a:lnTo>
                      <a:pt x="2670" y="2190"/>
                    </a:lnTo>
                    <a:lnTo>
                      <a:pt x="2586" y="2148"/>
                    </a:lnTo>
                    <a:lnTo>
                      <a:pt x="2502" y="2100"/>
                    </a:lnTo>
                    <a:lnTo>
                      <a:pt x="2418" y="2040"/>
                    </a:lnTo>
                    <a:lnTo>
                      <a:pt x="2334" y="1956"/>
                    </a:lnTo>
                    <a:lnTo>
                      <a:pt x="2256" y="1860"/>
                    </a:lnTo>
                    <a:lnTo>
                      <a:pt x="2172" y="1752"/>
                    </a:lnTo>
                    <a:lnTo>
                      <a:pt x="2088" y="1632"/>
                    </a:lnTo>
                    <a:lnTo>
                      <a:pt x="2004" y="1518"/>
                    </a:lnTo>
                    <a:lnTo>
                      <a:pt x="1920" y="1386"/>
                    </a:lnTo>
                    <a:lnTo>
                      <a:pt x="1836" y="1206"/>
                    </a:lnTo>
                    <a:lnTo>
                      <a:pt x="1752" y="1092"/>
                    </a:lnTo>
                    <a:lnTo>
                      <a:pt x="1668" y="912"/>
                    </a:lnTo>
                    <a:lnTo>
                      <a:pt x="1584" y="804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762200" y="5562720"/>
                <a:ext cx="5829120" cy="28800"/>
              </a:xfrm>
              <a:custGeom>
                <a:avLst/>
                <a:gdLst/>
                <a:ahLst/>
                <a:rect l="l" t="t" r="r" b="b"/>
                <a:pathLst>
                  <a:path w="3672" h="18">
                    <a:moveTo>
                      <a:pt x="0" y="18"/>
                    </a:moveTo>
                    <a:lnTo>
                      <a:pt x="0" y="18"/>
                    </a:lnTo>
                    <a:lnTo>
                      <a:pt x="84" y="18"/>
                    </a:lnTo>
                    <a:lnTo>
                      <a:pt x="168" y="18"/>
                    </a:lnTo>
                    <a:lnTo>
                      <a:pt x="252" y="6"/>
                    </a:lnTo>
                    <a:lnTo>
                      <a:pt x="336" y="0"/>
                    </a:lnTo>
                    <a:lnTo>
                      <a:pt x="420" y="12"/>
                    </a:lnTo>
                    <a:lnTo>
                      <a:pt x="498" y="18"/>
                    </a:lnTo>
                    <a:lnTo>
                      <a:pt x="582" y="18"/>
                    </a:lnTo>
                    <a:lnTo>
                      <a:pt x="666" y="18"/>
                    </a:lnTo>
                    <a:lnTo>
                      <a:pt x="750" y="18"/>
                    </a:lnTo>
                    <a:lnTo>
                      <a:pt x="834" y="18"/>
                    </a:lnTo>
                    <a:lnTo>
                      <a:pt x="918" y="18"/>
                    </a:lnTo>
                    <a:lnTo>
                      <a:pt x="1002" y="18"/>
                    </a:lnTo>
                    <a:lnTo>
                      <a:pt x="1086" y="18"/>
                    </a:lnTo>
                    <a:lnTo>
                      <a:pt x="1170" y="6"/>
                    </a:lnTo>
                    <a:lnTo>
                      <a:pt x="1254" y="6"/>
                    </a:lnTo>
                    <a:lnTo>
                      <a:pt x="1338" y="6"/>
                    </a:lnTo>
                    <a:lnTo>
                      <a:pt x="1416" y="12"/>
                    </a:lnTo>
                    <a:lnTo>
                      <a:pt x="1500" y="12"/>
                    </a:lnTo>
                    <a:lnTo>
                      <a:pt x="1584" y="12"/>
                    </a:lnTo>
                    <a:lnTo>
                      <a:pt x="1668" y="12"/>
                    </a:lnTo>
                    <a:lnTo>
                      <a:pt x="1752" y="12"/>
                    </a:lnTo>
                    <a:lnTo>
                      <a:pt x="1836" y="12"/>
                    </a:lnTo>
                    <a:lnTo>
                      <a:pt x="1920" y="12"/>
                    </a:lnTo>
                    <a:lnTo>
                      <a:pt x="2004" y="12"/>
                    </a:lnTo>
                    <a:lnTo>
                      <a:pt x="2088" y="12"/>
                    </a:lnTo>
                    <a:lnTo>
                      <a:pt x="2172" y="12"/>
                    </a:lnTo>
                    <a:lnTo>
                      <a:pt x="2256" y="12"/>
                    </a:lnTo>
                    <a:lnTo>
                      <a:pt x="2334" y="12"/>
                    </a:lnTo>
                    <a:lnTo>
                      <a:pt x="2418" y="12"/>
                    </a:lnTo>
                    <a:lnTo>
                      <a:pt x="2502" y="12"/>
                    </a:lnTo>
                    <a:lnTo>
                      <a:pt x="2586" y="18"/>
                    </a:lnTo>
                    <a:lnTo>
                      <a:pt x="2670" y="18"/>
                    </a:lnTo>
                    <a:lnTo>
                      <a:pt x="2754" y="18"/>
                    </a:lnTo>
                    <a:lnTo>
                      <a:pt x="2838" y="18"/>
                    </a:lnTo>
                    <a:lnTo>
                      <a:pt x="2922" y="18"/>
                    </a:lnTo>
                    <a:lnTo>
                      <a:pt x="3006" y="18"/>
                    </a:lnTo>
                    <a:lnTo>
                      <a:pt x="3090" y="18"/>
                    </a:lnTo>
                    <a:lnTo>
                      <a:pt x="3174" y="18"/>
                    </a:lnTo>
                    <a:lnTo>
                      <a:pt x="3252" y="18"/>
                    </a:lnTo>
                    <a:lnTo>
                      <a:pt x="3336" y="18"/>
                    </a:lnTo>
                    <a:lnTo>
                      <a:pt x="3420" y="18"/>
                    </a:lnTo>
                    <a:lnTo>
                      <a:pt x="3504" y="18"/>
                    </a:lnTo>
                    <a:lnTo>
                      <a:pt x="3588" y="18"/>
                    </a:lnTo>
                    <a:lnTo>
                      <a:pt x="3672" y="18"/>
                    </a:lnTo>
                    <a:lnTo>
                      <a:pt x="3672" y="18"/>
                    </a:lnTo>
                    <a:lnTo>
                      <a:pt x="3588" y="18"/>
                    </a:lnTo>
                    <a:lnTo>
                      <a:pt x="3504" y="18"/>
                    </a:lnTo>
                    <a:lnTo>
                      <a:pt x="3420" y="18"/>
                    </a:lnTo>
                    <a:lnTo>
                      <a:pt x="3336" y="18"/>
                    </a:lnTo>
                    <a:lnTo>
                      <a:pt x="3252" y="18"/>
                    </a:lnTo>
                    <a:lnTo>
                      <a:pt x="3174" y="18"/>
                    </a:lnTo>
                    <a:lnTo>
                      <a:pt x="3090" y="18"/>
                    </a:lnTo>
                    <a:lnTo>
                      <a:pt x="3006" y="18"/>
                    </a:lnTo>
                    <a:lnTo>
                      <a:pt x="2922" y="18"/>
                    </a:lnTo>
                    <a:lnTo>
                      <a:pt x="2838" y="18"/>
                    </a:lnTo>
                    <a:lnTo>
                      <a:pt x="2754" y="18"/>
                    </a:lnTo>
                    <a:lnTo>
                      <a:pt x="2670" y="18"/>
                    </a:lnTo>
                    <a:lnTo>
                      <a:pt x="2586" y="18"/>
                    </a:lnTo>
                    <a:lnTo>
                      <a:pt x="2502" y="18"/>
                    </a:lnTo>
                    <a:lnTo>
                      <a:pt x="2418" y="18"/>
                    </a:lnTo>
                    <a:lnTo>
                      <a:pt x="2334" y="18"/>
                    </a:lnTo>
                    <a:lnTo>
                      <a:pt x="2256" y="18"/>
                    </a:lnTo>
                    <a:lnTo>
                      <a:pt x="2172" y="18"/>
                    </a:lnTo>
                    <a:lnTo>
                      <a:pt x="2088" y="18"/>
                    </a:lnTo>
                    <a:lnTo>
                      <a:pt x="2004" y="18"/>
                    </a:lnTo>
                    <a:lnTo>
                      <a:pt x="1920" y="18"/>
                    </a:lnTo>
                    <a:lnTo>
                      <a:pt x="1836" y="18"/>
                    </a:lnTo>
                    <a:lnTo>
                      <a:pt x="1752" y="18"/>
                    </a:lnTo>
                    <a:lnTo>
                      <a:pt x="1668" y="18"/>
                    </a:lnTo>
                    <a:lnTo>
                      <a:pt x="1584" y="18"/>
                    </a:lnTo>
                    <a:lnTo>
                      <a:pt x="1500" y="18"/>
                    </a:lnTo>
                    <a:lnTo>
                      <a:pt x="1416" y="18"/>
                    </a:lnTo>
                    <a:lnTo>
                      <a:pt x="1338" y="18"/>
                    </a:lnTo>
                    <a:lnTo>
                      <a:pt x="1254" y="18"/>
                    </a:lnTo>
                    <a:lnTo>
                      <a:pt x="1170" y="18"/>
                    </a:lnTo>
                    <a:lnTo>
                      <a:pt x="1086" y="18"/>
                    </a:lnTo>
                    <a:lnTo>
                      <a:pt x="1002" y="18"/>
                    </a:lnTo>
                    <a:lnTo>
                      <a:pt x="918" y="18"/>
                    </a:lnTo>
                    <a:lnTo>
                      <a:pt x="834" y="18"/>
                    </a:lnTo>
                    <a:lnTo>
                      <a:pt x="750" y="18"/>
                    </a:lnTo>
                    <a:lnTo>
                      <a:pt x="666" y="18"/>
                    </a:lnTo>
                    <a:lnTo>
                      <a:pt x="582" y="18"/>
                    </a:lnTo>
                    <a:lnTo>
                      <a:pt x="498" y="18"/>
                    </a:lnTo>
                    <a:lnTo>
                      <a:pt x="420" y="18"/>
                    </a:lnTo>
                    <a:lnTo>
                      <a:pt x="336" y="18"/>
                    </a:lnTo>
                    <a:lnTo>
                      <a:pt x="252" y="18"/>
                    </a:lnTo>
                    <a:lnTo>
                      <a:pt x="168" y="18"/>
                    </a:lnTo>
                    <a:lnTo>
                      <a:pt x="84" y="18"/>
                    </a:lnTo>
                    <a:lnTo>
                      <a:pt x="0" y="1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762200" y="5553360"/>
                <a:ext cx="5829120" cy="38160"/>
              </a:xfrm>
              <a:custGeom>
                <a:avLst/>
                <a:gdLst/>
                <a:ahLst/>
                <a:rect l="l" t="t" r="r" b="b"/>
                <a:pathLst>
                  <a:path w="3672" h="24">
                    <a:moveTo>
                      <a:pt x="0" y="24"/>
                    </a:moveTo>
                    <a:lnTo>
                      <a:pt x="0" y="24"/>
                    </a:lnTo>
                    <a:lnTo>
                      <a:pt x="84" y="18"/>
                    </a:lnTo>
                    <a:lnTo>
                      <a:pt x="168" y="18"/>
                    </a:lnTo>
                    <a:lnTo>
                      <a:pt x="252" y="12"/>
                    </a:lnTo>
                    <a:lnTo>
                      <a:pt x="336" y="0"/>
                    </a:lnTo>
                    <a:lnTo>
                      <a:pt x="420" y="18"/>
                    </a:lnTo>
                    <a:lnTo>
                      <a:pt x="498" y="24"/>
                    </a:lnTo>
                    <a:lnTo>
                      <a:pt x="582" y="18"/>
                    </a:lnTo>
                    <a:lnTo>
                      <a:pt x="666" y="18"/>
                    </a:lnTo>
                    <a:lnTo>
                      <a:pt x="750" y="24"/>
                    </a:lnTo>
                    <a:lnTo>
                      <a:pt x="834" y="24"/>
                    </a:lnTo>
                    <a:lnTo>
                      <a:pt x="918" y="24"/>
                    </a:lnTo>
                    <a:lnTo>
                      <a:pt x="1002" y="24"/>
                    </a:lnTo>
                    <a:lnTo>
                      <a:pt x="1086" y="24"/>
                    </a:lnTo>
                    <a:lnTo>
                      <a:pt x="1170" y="12"/>
                    </a:lnTo>
                    <a:lnTo>
                      <a:pt x="1254" y="12"/>
                    </a:lnTo>
                    <a:lnTo>
                      <a:pt x="1338" y="12"/>
                    </a:lnTo>
                    <a:lnTo>
                      <a:pt x="1416" y="6"/>
                    </a:lnTo>
                    <a:lnTo>
                      <a:pt x="1500" y="12"/>
                    </a:lnTo>
                    <a:lnTo>
                      <a:pt x="1584" y="18"/>
                    </a:lnTo>
                    <a:lnTo>
                      <a:pt x="1668" y="18"/>
                    </a:lnTo>
                    <a:lnTo>
                      <a:pt x="1752" y="18"/>
                    </a:lnTo>
                    <a:lnTo>
                      <a:pt x="1836" y="18"/>
                    </a:lnTo>
                    <a:lnTo>
                      <a:pt x="1920" y="18"/>
                    </a:lnTo>
                    <a:lnTo>
                      <a:pt x="2004" y="18"/>
                    </a:lnTo>
                    <a:lnTo>
                      <a:pt x="2088" y="18"/>
                    </a:lnTo>
                    <a:lnTo>
                      <a:pt x="2172" y="18"/>
                    </a:lnTo>
                    <a:lnTo>
                      <a:pt x="2256" y="18"/>
                    </a:lnTo>
                    <a:lnTo>
                      <a:pt x="2334" y="18"/>
                    </a:lnTo>
                    <a:lnTo>
                      <a:pt x="2418" y="18"/>
                    </a:lnTo>
                    <a:lnTo>
                      <a:pt x="2502" y="18"/>
                    </a:lnTo>
                    <a:lnTo>
                      <a:pt x="2586" y="24"/>
                    </a:lnTo>
                    <a:lnTo>
                      <a:pt x="2670" y="24"/>
                    </a:lnTo>
                    <a:lnTo>
                      <a:pt x="2754" y="24"/>
                    </a:lnTo>
                    <a:lnTo>
                      <a:pt x="2838" y="24"/>
                    </a:lnTo>
                    <a:lnTo>
                      <a:pt x="2922" y="24"/>
                    </a:lnTo>
                    <a:lnTo>
                      <a:pt x="3006" y="24"/>
                    </a:lnTo>
                    <a:lnTo>
                      <a:pt x="3090" y="24"/>
                    </a:lnTo>
                    <a:lnTo>
                      <a:pt x="3174" y="24"/>
                    </a:lnTo>
                    <a:lnTo>
                      <a:pt x="3252" y="24"/>
                    </a:lnTo>
                    <a:lnTo>
                      <a:pt x="3336" y="24"/>
                    </a:lnTo>
                    <a:lnTo>
                      <a:pt x="3420" y="24"/>
                    </a:lnTo>
                    <a:lnTo>
                      <a:pt x="3504" y="24"/>
                    </a:lnTo>
                    <a:lnTo>
                      <a:pt x="3588" y="24"/>
                    </a:lnTo>
                    <a:lnTo>
                      <a:pt x="3672" y="24"/>
                    </a:lnTo>
                    <a:lnTo>
                      <a:pt x="3672" y="24"/>
                    </a:lnTo>
                    <a:lnTo>
                      <a:pt x="3588" y="24"/>
                    </a:lnTo>
                    <a:lnTo>
                      <a:pt x="3504" y="24"/>
                    </a:lnTo>
                    <a:lnTo>
                      <a:pt x="3420" y="24"/>
                    </a:lnTo>
                    <a:lnTo>
                      <a:pt x="3336" y="24"/>
                    </a:lnTo>
                    <a:lnTo>
                      <a:pt x="3252" y="24"/>
                    </a:lnTo>
                    <a:lnTo>
                      <a:pt x="3174" y="24"/>
                    </a:lnTo>
                    <a:lnTo>
                      <a:pt x="3090" y="24"/>
                    </a:lnTo>
                    <a:lnTo>
                      <a:pt x="3006" y="24"/>
                    </a:lnTo>
                    <a:lnTo>
                      <a:pt x="2922" y="24"/>
                    </a:lnTo>
                    <a:lnTo>
                      <a:pt x="2838" y="24"/>
                    </a:lnTo>
                    <a:lnTo>
                      <a:pt x="2754" y="24"/>
                    </a:lnTo>
                    <a:lnTo>
                      <a:pt x="2670" y="24"/>
                    </a:lnTo>
                    <a:lnTo>
                      <a:pt x="2586" y="24"/>
                    </a:lnTo>
                    <a:lnTo>
                      <a:pt x="2502" y="18"/>
                    </a:lnTo>
                    <a:lnTo>
                      <a:pt x="2418" y="18"/>
                    </a:lnTo>
                    <a:lnTo>
                      <a:pt x="2334" y="18"/>
                    </a:lnTo>
                    <a:lnTo>
                      <a:pt x="2256" y="18"/>
                    </a:lnTo>
                    <a:lnTo>
                      <a:pt x="2172" y="18"/>
                    </a:lnTo>
                    <a:lnTo>
                      <a:pt x="2088" y="18"/>
                    </a:lnTo>
                    <a:lnTo>
                      <a:pt x="2004" y="18"/>
                    </a:lnTo>
                    <a:lnTo>
                      <a:pt x="1920" y="18"/>
                    </a:lnTo>
                    <a:lnTo>
                      <a:pt x="1836" y="18"/>
                    </a:lnTo>
                    <a:lnTo>
                      <a:pt x="1752" y="18"/>
                    </a:lnTo>
                    <a:lnTo>
                      <a:pt x="1668" y="18"/>
                    </a:lnTo>
                    <a:lnTo>
                      <a:pt x="1584" y="18"/>
                    </a:lnTo>
                    <a:lnTo>
                      <a:pt x="1500" y="18"/>
                    </a:lnTo>
                    <a:lnTo>
                      <a:pt x="1416" y="18"/>
                    </a:lnTo>
                    <a:lnTo>
                      <a:pt x="1338" y="12"/>
                    </a:lnTo>
                    <a:lnTo>
                      <a:pt x="1254" y="12"/>
                    </a:lnTo>
                    <a:lnTo>
                      <a:pt x="1170" y="12"/>
                    </a:lnTo>
                    <a:lnTo>
                      <a:pt x="1086" y="24"/>
                    </a:lnTo>
                    <a:lnTo>
                      <a:pt x="1002" y="24"/>
                    </a:lnTo>
                    <a:lnTo>
                      <a:pt x="918" y="24"/>
                    </a:lnTo>
                    <a:lnTo>
                      <a:pt x="834" y="24"/>
                    </a:lnTo>
                    <a:lnTo>
                      <a:pt x="750" y="24"/>
                    </a:lnTo>
                    <a:lnTo>
                      <a:pt x="666" y="24"/>
                    </a:lnTo>
                    <a:lnTo>
                      <a:pt x="582" y="24"/>
                    </a:lnTo>
                    <a:lnTo>
                      <a:pt x="498" y="24"/>
                    </a:lnTo>
                    <a:lnTo>
                      <a:pt x="420" y="18"/>
                    </a:lnTo>
                    <a:lnTo>
                      <a:pt x="336" y="6"/>
                    </a:lnTo>
                    <a:lnTo>
                      <a:pt x="252" y="12"/>
                    </a:lnTo>
                    <a:lnTo>
                      <a:pt x="168" y="24"/>
                    </a:lnTo>
                    <a:lnTo>
                      <a:pt x="84" y="24"/>
                    </a:lnTo>
                    <a:lnTo>
                      <a:pt x="0" y="2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762200" y="3895920"/>
                <a:ext cx="5829120" cy="1695600"/>
              </a:xfrm>
              <a:custGeom>
                <a:avLst/>
                <a:gdLst/>
                <a:ahLst/>
                <a:rect l="l" t="t" r="r" b="b"/>
                <a:pathLst>
                  <a:path w="3672" h="1068">
                    <a:moveTo>
                      <a:pt x="0" y="1068"/>
                    </a:moveTo>
                    <a:lnTo>
                      <a:pt x="0" y="600"/>
                    </a:lnTo>
                    <a:lnTo>
                      <a:pt x="84" y="0"/>
                    </a:lnTo>
                    <a:lnTo>
                      <a:pt x="168" y="186"/>
                    </a:lnTo>
                    <a:lnTo>
                      <a:pt x="252" y="336"/>
                    </a:lnTo>
                    <a:lnTo>
                      <a:pt x="336" y="420"/>
                    </a:lnTo>
                    <a:lnTo>
                      <a:pt x="420" y="636"/>
                    </a:lnTo>
                    <a:lnTo>
                      <a:pt x="498" y="642"/>
                    </a:lnTo>
                    <a:lnTo>
                      <a:pt x="582" y="822"/>
                    </a:lnTo>
                    <a:lnTo>
                      <a:pt x="666" y="900"/>
                    </a:lnTo>
                    <a:lnTo>
                      <a:pt x="750" y="822"/>
                    </a:lnTo>
                    <a:lnTo>
                      <a:pt x="834" y="852"/>
                    </a:lnTo>
                    <a:lnTo>
                      <a:pt x="918" y="882"/>
                    </a:lnTo>
                    <a:lnTo>
                      <a:pt x="1002" y="900"/>
                    </a:lnTo>
                    <a:lnTo>
                      <a:pt x="1086" y="900"/>
                    </a:lnTo>
                    <a:lnTo>
                      <a:pt x="1170" y="936"/>
                    </a:lnTo>
                    <a:lnTo>
                      <a:pt x="1254" y="966"/>
                    </a:lnTo>
                    <a:lnTo>
                      <a:pt x="1338" y="972"/>
                    </a:lnTo>
                    <a:lnTo>
                      <a:pt x="1416" y="984"/>
                    </a:lnTo>
                    <a:lnTo>
                      <a:pt x="1500" y="1014"/>
                    </a:lnTo>
                    <a:lnTo>
                      <a:pt x="1584" y="1020"/>
                    </a:lnTo>
                    <a:lnTo>
                      <a:pt x="1668" y="1038"/>
                    </a:lnTo>
                    <a:lnTo>
                      <a:pt x="1752" y="1044"/>
                    </a:lnTo>
                    <a:lnTo>
                      <a:pt x="1836" y="1050"/>
                    </a:lnTo>
                    <a:lnTo>
                      <a:pt x="1920" y="1056"/>
                    </a:lnTo>
                    <a:lnTo>
                      <a:pt x="2004" y="1056"/>
                    </a:lnTo>
                    <a:lnTo>
                      <a:pt x="2088" y="1062"/>
                    </a:lnTo>
                    <a:lnTo>
                      <a:pt x="2172" y="1062"/>
                    </a:lnTo>
                    <a:lnTo>
                      <a:pt x="2256" y="1062"/>
                    </a:lnTo>
                    <a:lnTo>
                      <a:pt x="2334" y="1062"/>
                    </a:lnTo>
                    <a:lnTo>
                      <a:pt x="2418" y="1062"/>
                    </a:lnTo>
                    <a:lnTo>
                      <a:pt x="2502" y="1062"/>
                    </a:lnTo>
                    <a:lnTo>
                      <a:pt x="2586" y="1068"/>
                    </a:lnTo>
                    <a:lnTo>
                      <a:pt x="2670" y="1068"/>
                    </a:lnTo>
                    <a:lnTo>
                      <a:pt x="2754" y="1068"/>
                    </a:lnTo>
                    <a:lnTo>
                      <a:pt x="2838" y="1068"/>
                    </a:lnTo>
                    <a:lnTo>
                      <a:pt x="2922" y="1068"/>
                    </a:lnTo>
                    <a:lnTo>
                      <a:pt x="3006" y="1068"/>
                    </a:lnTo>
                    <a:lnTo>
                      <a:pt x="3090" y="1068"/>
                    </a:lnTo>
                    <a:lnTo>
                      <a:pt x="3174" y="1068"/>
                    </a:lnTo>
                    <a:lnTo>
                      <a:pt x="3252" y="1068"/>
                    </a:lnTo>
                    <a:lnTo>
                      <a:pt x="3336" y="1068"/>
                    </a:lnTo>
                    <a:lnTo>
                      <a:pt x="3420" y="1068"/>
                    </a:lnTo>
                    <a:lnTo>
                      <a:pt x="3504" y="1068"/>
                    </a:lnTo>
                    <a:lnTo>
                      <a:pt x="3588" y="1068"/>
                    </a:lnTo>
                    <a:lnTo>
                      <a:pt x="3672" y="1068"/>
                    </a:lnTo>
                    <a:lnTo>
                      <a:pt x="3672" y="1068"/>
                    </a:lnTo>
                    <a:lnTo>
                      <a:pt x="3588" y="1068"/>
                    </a:lnTo>
                    <a:lnTo>
                      <a:pt x="3504" y="1068"/>
                    </a:lnTo>
                    <a:lnTo>
                      <a:pt x="3420" y="1068"/>
                    </a:lnTo>
                    <a:lnTo>
                      <a:pt x="3336" y="1068"/>
                    </a:lnTo>
                    <a:lnTo>
                      <a:pt x="3252" y="1068"/>
                    </a:lnTo>
                    <a:lnTo>
                      <a:pt x="3174" y="1068"/>
                    </a:lnTo>
                    <a:lnTo>
                      <a:pt x="3090" y="1068"/>
                    </a:lnTo>
                    <a:lnTo>
                      <a:pt x="3006" y="1068"/>
                    </a:lnTo>
                    <a:lnTo>
                      <a:pt x="2922" y="1068"/>
                    </a:lnTo>
                    <a:lnTo>
                      <a:pt x="2838" y="1068"/>
                    </a:lnTo>
                    <a:lnTo>
                      <a:pt x="2754" y="1068"/>
                    </a:lnTo>
                    <a:lnTo>
                      <a:pt x="2670" y="1068"/>
                    </a:lnTo>
                    <a:lnTo>
                      <a:pt x="2586" y="1068"/>
                    </a:lnTo>
                    <a:lnTo>
                      <a:pt x="2502" y="1062"/>
                    </a:lnTo>
                    <a:lnTo>
                      <a:pt x="2418" y="1062"/>
                    </a:lnTo>
                    <a:lnTo>
                      <a:pt x="2334" y="1062"/>
                    </a:lnTo>
                    <a:lnTo>
                      <a:pt x="2256" y="1062"/>
                    </a:lnTo>
                    <a:lnTo>
                      <a:pt x="2172" y="1062"/>
                    </a:lnTo>
                    <a:lnTo>
                      <a:pt x="2088" y="1062"/>
                    </a:lnTo>
                    <a:lnTo>
                      <a:pt x="2004" y="1062"/>
                    </a:lnTo>
                    <a:lnTo>
                      <a:pt x="1920" y="1062"/>
                    </a:lnTo>
                    <a:lnTo>
                      <a:pt x="1836" y="1062"/>
                    </a:lnTo>
                    <a:lnTo>
                      <a:pt x="1752" y="1062"/>
                    </a:lnTo>
                    <a:lnTo>
                      <a:pt x="1668" y="1062"/>
                    </a:lnTo>
                    <a:lnTo>
                      <a:pt x="1584" y="1062"/>
                    </a:lnTo>
                    <a:lnTo>
                      <a:pt x="1500" y="1056"/>
                    </a:lnTo>
                    <a:lnTo>
                      <a:pt x="1416" y="1050"/>
                    </a:lnTo>
                    <a:lnTo>
                      <a:pt x="1338" y="1056"/>
                    </a:lnTo>
                    <a:lnTo>
                      <a:pt x="1254" y="1056"/>
                    </a:lnTo>
                    <a:lnTo>
                      <a:pt x="1170" y="1056"/>
                    </a:lnTo>
                    <a:lnTo>
                      <a:pt x="1086" y="1068"/>
                    </a:lnTo>
                    <a:lnTo>
                      <a:pt x="1002" y="1068"/>
                    </a:lnTo>
                    <a:lnTo>
                      <a:pt x="918" y="1068"/>
                    </a:lnTo>
                    <a:lnTo>
                      <a:pt x="834" y="1068"/>
                    </a:lnTo>
                    <a:lnTo>
                      <a:pt x="750" y="1068"/>
                    </a:lnTo>
                    <a:lnTo>
                      <a:pt x="666" y="1062"/>
                    </a:lnTo>
                    <a:lnTo>
                      <a:pt x="582" y="1062"/>
                    </a:lnTo>
                    <a:lnTo>
                      <a:pt x="498" y="1068"/>
                    </a:lnTo>
                    <a:lnTo>
                      <a:pt x="420" y="1062"/>
                    </a:lnTo>
                    <a:lnTo>
                      <a:pt x="336" y="1044"/>
                    </a:lnTo>
                    <a:lnTo>
                      <a:pt x="252" y="1056"/>
                    </a:lnTo>
                    <a:lnTo>
                      <a:pt x="168" y="1062"/>
                    </a:lnTo>
                    <a:lnTo>
                      <a:pt x="84" y="1062"/>
                    </a:lnTo>
                    <a:lnTo>
                      <a:pt x="0" y="106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762200" y="2886120"/>
                <a:ext cx="5829120" cy="2705400"/>
              </a:xfrm>
              <a:custGeom>
                <a:avLst/>
                <a:gdLst/>
                <a:ahLst/>
                <a:rect l="l" t="t" r="r" b="b"/>
                <a:pathLst>
                  <a:path w="3672" h="1704">
                    <a:moveTo>
                      <a:pt x="0" y="1236"/>
                    </a:moveTo>
                    <a:lnTo>
                      <a:pt x="0" y="1236"/>
                    </a:lnTo>
                    <a:lnTo>
                      <a:pt x="84" y="210"/>
                    </a:lnTo>
                    <a:lnTo>
                      <a:pt x="168" y="0"/>
                    </a:lnTo>
                    <a:lnTo>
                      <a:pt x="252" y="258"/>
                    </a:lnTo>
                    <a:lnTo>
                      <a:pt x="336" y="474"/>
                    </a:lnTo>
                    <a:lnTo>
                      <a:pt x="420" y="900"/>
                    </a:lnTo>
                    <a:lnTo>
                      <a:pt x="498" y="960"/>
                    </a:lnTo>
                    <a:lnTo>
                      <a:pt x="582" y="1302"/>
                    </a:lnTo>
                    <a:lnTo>
                      <a:pt x="666" y="1416"/>
                    </a:lnTo>
                    <a:lnTo>
                      <a:pt x="750" y="1308"/>
                    </a:lnTo>
                    <a:lnTo>
                      <a:pt x="834" y="1326"/>
                    </a:lnTo>
                    <a:lnTo>
                      <a:pt x="918" y="1380"/>
                    </a:lnTo>
                    <a:lnTo>
                      <a:pt x="1002" y="1440"/>
                    </a:lnTo>
                    <a:lnTo>
                      <a:pt x="1086" y="1464"/>
                    </a:lnTo>
                    <a:lnTo>
                      <a:pt x="1170" y="1500"/>
                    </a:lnTo>
                    <a:lnTo>
                      <a:pt x="1254" y="1536"/>
                    </a:lnTo>
                    <a:lnTo>
                      <a:pt x="1338" y="1560"/>
                    </a:lnTo>
                    <a:lnTo>
                      <a:pt x="1416" y="1578"/>
                    </a:lnTo>
                    <a:lnTo>
                      <a:pt x="1500" y="1614"/>
                    </a:lnTo>
                    <a:lnTo>
                      <a:pt x="1584" y="1626"/>
                    </a:lnTo>
                    <a:lnTo>
                      <a:pt x="1668" y="1650"/>
                    </a:lnTo>
                    <a:lnTo>
                      <a:pt x="1752" y="1668"/>
                    </a:lnTo>
                    <a:lnTo>
                      <a:pt x="1836" y="1668"/>
                    </a:lnTo>
                    <a:lnTo>
                      <a:pt x="1920" y="1674"/>
                    </a:lnTo>
                    <a:lnTo>
                      <a:pt x="2004" y="1680"/>
                    </a:lnTo>
                    <a:lnTo>
                      <a:pt x="2088" y="1686"/>
                    </a:lnTo>
                    <a:lnTo>
                      <a:pt x="2172" y="1692"/>
                    </a:lnTo>
                    <a:lnTo>
                      <a:pt x="2256" y="1692"/>
                    </a:lnTo>
                    <a:lnTo>
                      <a:pt x="2334" y="1698"/>
                    </a:lnTo>
                    <a:lnTo>
                      <a:pt x="2418" y="1698"/>
                    </a:lnTo>
                    <a:lnTo>
                      <a:pt x="2502" y="1698"/>
                    </a:lnTo>
                    <a:lnTo>
                      <a:pt x="2586" y="1704"/>
                    </a:lnTo>
                    <a:lnTo>
                      <a:pt x="2670" y="1704"/>
                    </a:lnTo>
                    <a:lnTo>
                      <a:pt x="2754" y="1704"/>
                    </a:lnTo>
                    <a:lnTo>
                      <a:pt x="2838" y="1704"/>
                    </a:lnTo>
                    <a:lnTo>
                      <a:pt x="2922" y="1704"/>
                    </a:lnTo>
                    <a:lnTo>
                      <a:pt x="3006" y="1704"/>
                    </a:lnTo>
                    <a:lnTo>
                      <a:pt x="3090" y="1704"/>
                    </a:lnTo>
                    <a:lnTo>
                      <a:pt x="3174" y="1704"/>
                    </a:lnTo>
                    <a:lnTo>
                      <a:pt x="3252" y="1704"/>
                    </a:lnTo>
                    <a:lnTo>
                      <a:pt x="3336" y="1704"/>
                    </a:lnTo>
                    <a:lnTo>
                      <a:pt x="3420" y="1704"/>
                    </a:lnTo>
                    <a:lnTo>
                      <a:pt x="3504" y="1704"/>
                    </a:lnTo>
                    <a:lnTo>
                      <a:pt x="3588" y="1704"/>
                    </a:lnTo>
                    <a:lnTo>
                      <a:pt x="3672" y="1704"/>
                    </a:lnTo>
                    <a:lnTo>
                      <a:pt x="3672" y="1704"/>
                    </a:lnTo>
                    <a:lnTo>
                      <a:pt x="3588" y="1704"/>
                    </a:lnTo>
                    <a:lnTo>
                      <a:pt x="3504" y="1704"/>
                    </a:lnTo>
                    <a:lnTo>
                      <a:pt x="3420" y="1704"/>
                    </a:lnTo>
                    <a:lnTo>
                      <a:pt x="3336" y="1704"/>
                    </a:lnTo>
                    <a:lnTo>
                      <a:pt x="3252" y="1704"/>
                    </a:lnTo>
                    <a:lnTo>
                      <a:pt x="3174" y="1704"/>
                    </a:lnTo>
                    <a:lnTo>
                      <a:pt x="3090" y="1704"/>
                    </a:lnTo>
                    <a:lnTo>
                      <a:pt x="3006" y="1704"/>
                    </a:lnTo>
                    <a:lnTo>
                      <a:pt x="2922" y="1704"/>
                    </a:lnTo>
                    <a:lnTo>
                      <a:pt x="2838" y="1704"/>
                    </a:lnTo>
                    <a:lnTo>
                      <a:pt x="2754" y="1704"/>
                    </a:lnTo>
                    <a:lnTo>
                      <a:pt x="2670" y="1704"/>
                    </a:lnTo>
                    <a:lnTo>
                      <a:pt x="2586" y="1704"/>
                    </a:lnTo>
                    <a:lnTo>
                      <a:pt x="2502" y="1698"/>
                    </a:lnTo>
                    <a:lnTo>
                      <a:pt x="2418" y="1698"/>
                    </a:lnTo>
                    <a:lnTo>
                      <a:pt x="2334" y="1698"/>
                    </a:lnTo>
                    <a:lnTo>
                      <a:pt x="2256" y="1698"/>
                    </a:lnTo>
                    <a:lnTo>
                      <a:pt x="2172" y="1698"/>
                    </a:lnTo>
                    <a:lnTo>
                      <a:pt x="2088" y="1698"/>
                    </a:lnTo>
                    <a:lnTo>
                      <a:pt x="2004" y="1692"/>
                    </a:lnTo>
                    <a:lnTo>
                      <a:pt x="1920" y="1692"/>
                    </a:lnTo>
                    <a:lnTo>
                      <a:pt x="1836" y="1686"/>
                    </a:lnTo>
                    <a:lnTo>
                      <a:pt x="1752" y="1680"/>
                    </a:lnTo>
                    <a:lnTo>
                      <a:pt x="1668" y="1674"/>
                    </a:lnTo>
                    <a:lnTo>
                      <a:pt x="1584" y="1656"/>
                    </a:lnTo>
                    <a:lnTo>
                      <a:pt x="1500" y="1650"/>
                    </a:lnTo>
                    <a:lnTo>
                      <a:pt x="1416" y="1620"/>
                    </a:lnTo>
                    <a:lnTo>
                      <a:pt x="1338" y="1608"/>
                    </a:lnTo>
                    <a:lnTo>
                      <a:pt x="1254" y="1602"/>
                    </a:lnTo>
                    <a:lnTo>
                      <a:pt x="1170" y="1572"/>
                    </a:lnTo>
                    <a:lnTo>
                      <a:pt x="1086" y="1536"/>
                    </a:lnTo>
                    <a:lnTo>
                      <a:pt x="1002" y="1536"/>
                    </a:lnTo>
                    <a:lnTo>
                      <a:pt x="918" y="1518"/>
                    </a:lnTo>
                    <a:lnTo>
                      <a:pt x="834" y="1488"/>
                    </a:lnTo>
                    <a:lnTo>
                      <a:pt x="750" y="1458"/>
                    </a:lnTo>
                    <a:lnTo>
                      <a:pt x="666" y="1536"/>
                    </a:lnTo>
                    <a:lnTo>
                      <a:pt x="582" y="1458"/>
                    </a:lnTo>
                    <a:lnTo>
                      <a:pt x="498" y="1278"/>
                    </a:lnTo>
                    <a:lnTo>
                      <a:pt x="420" y="1272"/>
                    </a:lnTo>
                    <a:lnTo>
                      <a:pt x="336" y="1056"/>
                    </a:lnTo>
                    <a:lnTo>
                      <a:pt x="252" y="972"/>
                    </a:lnTo>
                    <a:lnTo>
                      <a:pt x="168" y="822"/>
                    </a:lnTo>
                    <a:lnTo>
                      <a:pt x="84" y="636"/>
                    </a:lnTo>
                    <a:lnTo>
                      <a:pt x="0" y="12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762200" y="2333880"/>
                <a:ext cx="5829120" cy="3257640"/>
              </a:xfrm>
              <a:custGeom>
                <a:avLst/>
                <a:gdLst/>
                <a:ahLst/>
                <a:rect l="l" t="t" r="r" b="b"/>
                <a:pathLst>
                  <a:path w="3672" h="2052">
                    <a:moveTo>
                      <a:pt x="0" y="1584"/>
                    </a:moveTo>
                    <a:lnTo>
                      <a:pt x="0" y="1584"/>
                    </a:lnTo>
                    <a:lnTo>
                      <a:pt x="84" y="558"/>
                    </a:lnTo>
                    <a:lnTo>
                      <a:pt x="168" y="6"/>
                    </a:lnTo>
                    <a:lnTo>
                      <a:pt x="252" y="0"/>
                    </a:lnTo>
                    <a:lnTo>
                      <a:pt x="336" y="318"/>
                    </a:lnTo>
                    <a:lnTo>
                      <a:pt x="420" y="894"/>
                    </a:lnTo>
                    <a:lnTo>
                      <a:pt x="498" y="1044"/>
                    </a:lnTo>
                    <a:lnTo>
                      <a:pt x="582" y="1482"/>
                    </a:lnTo>
                    <a:lnTo>
                      <a:pt x="666" y="1602"/>
                    </a:lnTo>
                    <a:lnTo>
                      <a:pt x="750" y="1518"/>
                    </a:lnTo>
                    <a:lnTo>
                      <a:pt x="834" y="1578"/>
                    </a:lnTo>
                    <a:lnTo>
                      <a:pt x="918" y="1644"/>
                    </a:lnTo>
                    <a:lnTo>
                      <a:pt x="1002" y="1728"/>
                    </a:lnTo>
                    <a:lnTo>
                      <a:pt x="1086" y="1764"/>
                    </a:lnTo>
                    <a:lnTo>
                      <a:pt x="1170" y="1812"/>
                    </a:lnTo>
                    <a:lnTo>
                      <a:pt x="1254" y="1848"/>
                    </a:lnTo>
                    <a:lnTo>
                      <a:pt x="1338" y="1872"/>
                    </a:lnTo>
                    <a:lnTo>
                      <a:pt x="1416" y="1902"/>
                    </a:lnTo>
                    <a:lnTo>
                      <a:pt x="1500" y="1944"/>
                    </a:lnTo>
                    <a:lnTo>
                      <a:pt x="1584" y="1962"/>
                    </a:lnTo>
                    <a:lnTo>
                      <a:pt x="1668" y="1992"/>
                    </a:lnTo>
                    <a:lnTo>
                      <a:pt x="1752" y="2004"/>
                    </a:lnTo>
                    <a:lnTo>
                      <a:pt x="1836" y="2004"/>
                    </a:lnTo>
                    <a:lnTo>
                      <a:pt x="1920" y="2016"/>
                    </a:lnTo>
                    <a:lnTo>
                      <a:pt x="2004" y="2022"/>
                    </a:lnTo>
                    <a:lnTo>
                      <a:pt x="2088" y="2034"/>
                    </a:lnTo>
                    <a:lnTo>
                      <a:pt x="2172" y="2040"/>
                    </a:lnTo>
                    <a:lnTo>
                      <a:pt x="2256" y="2040"/>
                    </a:lnTo>
                    <a:lnTo>
                      <a:pt x="2334" y="2046"/>
                    </a:lnTo>
                    <a:lnTo>
                      <a:pt x="2418" y="2046"/>
                    </a:lnTo>
                    <a:lnTo>
                      <a:pt x="2502" y="2046"/>
                    </a:lnTo>
                    <a:lnTo>
                      <a:pt x="2586" y="2052"/>
                    </a:lnTo>
                    <a:lnTo>
                      <a:pt x="2670" y="2052"/>
                    </a:lnTo>
                    <a:lnTo>
                      <a:pt x="2754" y="2052"/>
                    </a:lnTo>
                    <a:lnTo>
                      <a:pt x="2838" y="2052"/>
                    </a:lnTo>
                    <a:lnTo>
                      <a:pt x="2922" y="2052"/>
                    </a:lnTo>
                    <a:lnTo>
                      <a:pt x="3006" y="2052"/>
                    </a:lnTo>
                    <a:lnTo>
                      <a:pt x="3090" y="2052"/>
                    </a:lnTo>
                    <a:lnTo>
                      <a:pt x="3174" y="2052"/>
                    </a:lnTo>
                    <a:lnTo>
                      <a:pt x="3252" y="2052"/>
                    </a:lnTo>
                    <a:lnTo>
                      <a:pt x="3336" y="2052"/>
                    </a:lnTo>
                    <a:lnTo>
                      <a:pt x="3420" y="2052"/>
                    </a:lnTo>
                    <a:lnTo>
                      <a:pt x="3504" y="2052"/>
                    </a:lnTo>
                    <a:lnTo>
                      <a:pt x="3588" y="2052"/>
                    </a:lnTo>
                    <a:lnTo>
                      <a:pt x="3672" y="2052"/>
                    </a:lnTo>
                    <a:lnTo>
                      <a:pt x="3672" y="2052"/>
                    </a:lnTo>
                    <a:lnTo>
                      <a:pt x="3588" y="2052"/>
                    </a:lnTo>
                    <a:lnTo>
                      <a:pt x="3504" y="2052"/>
                    </a:lnTo>
                    <a:lnTo>
                      <a:pt x="3420" y="2052"/>
                    </a:lnTo>
                    <a:lnTo>
                      <a:pt x="3336" y="2052"/>
                    </a:lnTo>
                    <a:lnTo>
                      <a:pt x="3252" y="2052"/>
                    </a:lnTo>
                    <a:lnTo>
                      <a:pt x="3174" y="2052"/>
                    </a:lnTo>
                    <a:lnTo>
                      <a:pt x="3090" y="2052"/>
                    </a:lnTo>
                    <a:lnTo>
                      <a:pt x="3006" y="2052"/>
                    </a:lnTo>
                    <a:lnTo>
                      <a:pt x="2922" y="2052"/>
                    </a:lnTo>
                    <a:lnTo>
                      <a:pt x="2838" y="2052"/>
                    </a:lnTo>
                    <a:lnTo>
                      <a:pt x="2754" y="2052"/>
                    </a:lnTo>
                    <a:lnTo>
                      <a:pt x="2670" y="2052"/>
                    </a:lnTo>
                    <a:lnTo>
                      <a:pt x="2586" y="2052"/>
                    </a:lnTo>
                    <a:lnTo>
                      <a:pt x="2502" y="2046"/>
                    </a:lnTo>
                    <a:lnTo>
                      <a:pt x="2418" y="2046"/>
                    </a:lnTo>
                    <a:lnTo>
                      <a:pt x="2334" y="2046"/>
                    </a:lnTo>
                    <a:lnTo>
                      <a:pt x="2256" y="2040"/>
                    </a:lnTo>
                    <a:lnTo>
                      <a:pt x="2172" y="2040"/>
                    </a:lnTo>
                    <a:lnTo>
                      <a:pt x="2088" y="2034"/>
                    </a:lnTo>
                    <a:lnTo>
                      <a:pt x="2004" y="2028"/>
                    </a:lnTo>
                    <a:lnTo>
                      <a:pt x="1920" y="2022"/>
                    </a:lnTo>
                    <a:lnTo>
                      <a:pt x="1836" y="2016"/>
                    </a:lnTo>
                    <a:lnTo>
                      <a:pt x="1752" y="2016"/>
                    </a:lnTo>
                    <a:lnTo>
                      <a:pt x="1668" y="1998"/>
                    </a:lnTo>
                    <a:lnTo>
                      <a:pt x="1584" y="1974"/>
                    </a:lnTo>
                    <a:lnTo>
                      <a:pt x="1500" y="1962"/>
                    </a:lnTo>
                    <a:lnTo>
                      <a:pt x="1416" y="1926"/>
                    </a:lnTo>
                    <a:lnTo>
                      <a:pt x="1338" y="1908"/>
                    </a:lnTo>
                    <a:lnTo>
                      <a:pt x="1254" y="1884"/>
                    </a:lnTo>
                    <a:lnTo>
                      <a:pt x="1170" y="1848"/>
                    </a:lnTo>
                    <a:lnTo>
                      <a:pt x="1086" y="1812"/>
                    </a:lnTo>
                    <a:lnTo>
                      <a:pt x="1002" y="1788"/>
                    </a:lnTo>
                    <a:lnTo>
                      <a:pt x="918" y="1728"/>
                    </a:lnTo>
                    <a:lnTo>
                      <a:pt x="834" y="1674"/>
                    </a:lnTo>
                    <a:lnTo>
                      <a:pt x="750" y="1656"/>
                    </a:lnTo>
                    <a:lnTo>
                      <a:pt x="666" y="1764"/>
                    </a:lnTo>
                    <a:lnTo>
                      <a:pt x="582" y="1650"/>
                    </a:lnTo>
                    <a:lnTo>
                      <a:pt x="498" y="1308"/>
                    </a:lnTo>
                    <a:lnTo>
                      <a:pt x="420" y="1248"/>
                    </a:lnTo>
                    <a:lnTo>
                      <a:pt x="336" y="822"/>
                    </a:lnTo>
                    <a:lnTo>
                      <a:pt x="252" y="606"/>
                    </a:lnTo>
                    <a:lnTo>
                      <a:pt x="168" y="348"/>
                    </a:lnTo>
                    <a:lnTo>
                      <a:pt x="84" y="558"/>
                    </a:lnTo>
                    <a:lnTo>
                      <a:pt x="0" y="158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762200" y="1962360"/>
                <a:ext cx="5829120" cy="3629160"/>
              </a:xfrm>
              <a:custGeom>
                <a:avLst/>
                <a:gdLst/>
                <a:ahLst/>
                <a:rect l="l" t="t" r="r" b="b"/>
                <a:pathLst>
                  <a:path w="3672" h="2286">
                    <a:moveTo>
                      <a:pt x="0" y="1818"/>
                    </a:moveTo>
                    <a:lnTo>
                      <a:pt x="0" y="1818"/>
                    </a:lnTo>
                    <a:lnTo>
                      <a:pt x="84" y="792"/>
                    </a:lnTo>
                    <a:lnTo>
                      <a:pt x="168" y="240"/>
                    </a:lnTo>
                    <a:lnTo>
                      <a:pt x="252" y="0"/>
                    </a:lnTo>
                    <a:lnTo>
                      <a:pt x="336" y="78"/>
                    </a:lnTo>
                    <a:lnTo>
                      <a:pt x="420" y="840"/>
                    </a:lnTo>
                    <a:lnTo>
                      <a:pt x="498" y="954"/>
                    </a:lnTo>
                    <a:lnTo>
                      <a:pt x="582" y="1476"/>
                    </a:lnTo>
                    <a:lnTo>
                      <a:pt x="666" y="1638"/>
                    </a:lnTo>
                    <a:lnTo>
                      <a:pt x="750" y="1530"/>
                    </a:lnTo>
                    <a:lnTo>
                      <a:pt x="834" y="1620"/>
                    </a:lnTo>
                    <a:lnTo>
                      <a:pt x="918" y="1740"/>
                    </a:lnTo>
                    <a:lnTo>
                      <a:pt x="1002" y="1866"/>
                    </a:lnTo>
                    <a:lnTo>
                      <a:pt x="1086" y="1920"/>
                    </a:lnTo>
                    <a:lnTo>
                      <a:pt x="1170" y="1956"/>
                    </a:lnTo>
                    <a:lnTo>
                      <a:pt x="1254" y="2004"/>
                    </a:lnTo>
                    <a:lnTo>
                      <a:pt x="1338" y="2052"/>
                    </a:lnTo>
                    <a:lnTo>
                      <a:pt x="1416" y="2094"/>
                    </a:lnTo>
                    <a:lnTo>
                      <a:pt x="1500" y="2142"/>
                    </a:lnTo>
                    <a:lnTo>
                      <a:pt x="1584" y="2172"/>
                    </a:lnTo>
                    <a:lnTo>
                      <a:pt x="1668" y="2202"/>
                    </a:lnTo>
                    <a:lnTo>
                      <a:pt x="1752" y="2220"/>
                    </a:lnTo>
                    <a:lnTo>
                      <a:pt x="1836" y="2220"/>
                    </a:lnTo>
                    <a:lnTo>
                      <a:pt x="1920" y="2232"/>
                    </a:lnTo>
                    <a:lnTo>
                      <a:pt x="2004" y="2244"/>
                    </a:lnTo>
                    <a:lnTo>
                      <a:pt x="2088" y="2256"/>
                    </a:lnTo>
                    <a:lnTo>
                      <a:pt x="2172" y="2262"/>
                    </a:lnTo>
                    <a:lnTo>
                      <a:pt x="2256" y="2268"/>
                    </a:lnTo>
                    <a:lnTo>
                      <a:pt x="2334" y="2274"/>
                    </a:lnTo>
                    <a:lnTo>
                      <a:pt x="2418" y="2280"/>
                    </a:lnTo>
                    <a:lnTo>
                      <a:pt x="2502" y="2280"/>
                    </a:lnTo>
                    <a:lnTo>
                      <a:pt x="2586" y="2280"/>
                    </a:lnTo>
                    <a:lnTo>
                      <a:pt x="2670" y="2280"/>
                    </a:lnTo>
                    <a:lnTo>
                      <a:pt x="2754" y="2280"/>
                    </a:lnTo>
                    <a:lnTo>
                      <a:pt x="2838" y="2286"/>
                    </a:lnTo>
                    <a:lnTo>
                      <a:pt x="2922" y="2286"/>
                    </a:lnTo>
                    <a:lnTo>
                      <a:pt x="3006" y="2286"/>
                    </a:lnTo>
                    <a:lnTo>
                      <a:pt x="3090" y="2286"/>
                    </a:lnTo>
                    <a:lnTo>
                      <a:pt x="3174" y="2286"/>
                    </a:lnTo>
                    <a:lnTo>
                      <a:pt x="3252" y="2286"/>
                    </a:lnTo>
                    <a:lnTo>
                      <a:pt x="3336" y="2286"/>
                    </a:lnTo>
                    <a:lnTo>
                      <a:pt x="3420" y="2286"/>
                    </a:lnTo>
                    <a:lnTo>
                      <a:pt x="3504" y="2286"/>
                    </a:lnTo>
                    <a:lnTo>
                      <a:pt x="3588" y="2286"/>
                    </a:lnTo>
                    <a:lnTo>
                      <a:pt x="3672" y="2286"/>
                    </a:lnTo>
                    <a:lnTo>
                      <a:pt x="3672" y="2286"/>
                    </a:lnTo>
                    <a:lnTo>
                      <a:pt x="3588" y="2286"/>
                    </a:lnTo>
                    <a:lnTo>
                      <a:pt x="3504" y="2286"/>
                    </a:lnTo>
                    <a:lnTo>
                      <a:pt x="3420" y="2286"/>
                    </a:lnTo>
                    <a:lnTo>
                      <a:pt x="3336" y="2286"/>
                    </a:lnTo>
                    <a:lnTo>
                      <a:pt x="3252" y="2286"/>
                    </a:lnTo>
                    <a:lnTo>
                      <a:pt x="3174" y="2286"/>
                    </a:lnTo>
                    <a:lnTo>
                      <a:pt x="3090" y="2286"/>
                    </a:lnTo>
                    <a:lnTo>
                      <a:pt x="3006" y="2286"/>
                    </a:lnTo>
                    <a:lnTo>
                      <a:pt x="2922" y="2286"/>
                    </a:lnTo>
                    <a:lnTo>
                      <a:pt x="2838" y="2286"/>
                    </a:lnTo>
                    <a:lnTo>
                      <a:pt x="2754" y="2286"/>
                    </a:lnTo>
                    <a:lnTo>
                      <a:pt x="2670" y="2286"/>
                    </a:lnTo>
                    <a:lnTo>
                      <a:pt x="2586" y="2286"/>
                    </a:lnTo>
                    <a:lnTo>
                      <a:pt x="2502" y="2280"/>
                    </a:lnTo>
                    <a:lnTo>
                      <a:pt x="2418" y="2280"/>
                    </a:lnTo>
                    <a:lnTo>
                      <a:pt x="2334" y="2280"/>
                    </a:lnTo>
                    <a:lnTo>
                      <a:pt x="2256" y="2274"/>
                    </a:lnTo>
                    <a:lnTo>
                      <a:pt x="2172" y="2274"/>
                    </a:lnTo>
                    <a:lnTo>
                      <a:pt x="2088" y="2268"/>
                    </a:lnTo>
                    <a:lnTo>
                      <a:pt x="2004" y="2256"/>
                    </a:lnTo>
                    <a:lnTo>
                      <a:pt x="1920" y="2250"/>
                    </a:lnTo>
                    <a:lnTo>
                      <a:pt x="1836" y="2238"/>
                    </a:lnTo>
                    <a:lnTo>
                      <a:pt x="1752" y="2238"/>
                    </a:lnTo>
                    <a:lnTo>
                      <a:pt x="1668" y="2226"/>
                    </a:lnTo>
                    <a:lnTo>
                      <a:pt x="1584" y="2196"/>
                    </a:lnTo>
                    <a:lnTo>
                      <a:pt x="1500" y="2178"/>
                    </a:lnTo>
                    <a:lnTo>
                      <a:pt x="1416" y="2136"/>
                    </a:lnTo>
                    <a:lnTo>
                      <a:pt x="1338" y="2106"/>
                    </a:lnTo>
                    <a:lnTo>
                      <a:pt x="1254" y="2082"/>
                    </a:lnTo>
                    <a:lnTo>
                      <a:pt x="1170" y="2046"/>
                    </a:lnTo>
                    <a:lnTo>
                      <a:pt x="1086" y="1998"/>
                    </a:lnTo>
                    <a:lnTo>
                      <a:pt x="1002" y="1962"/>
                    </a:lnTo>
                    <a:lnTo>
                      <a:pt x="918" y="1878"/>
                    </a:lnTo>
                    <a:lnTo>
                      <a:pt x="834" y="1812"/>
                    </a:lnTo>
                    <a:lnTo>
                      <a:pt x="750" y="1752"/>
                    </a:lnTo>
                    <a:lnTo>
                      <a:pt x="666" y="1836"/>
                    </a:lnTo>
                    <a:lnTo>
                      <a:pt x="582" y="1716"/>
                    </a:lnTo>
                    <a:lnTo>
                      <a:pt x="498" y="1278"/>
                    </a:lnTo>
                    <a:lnTo>
                      <a:pt x="420" y="1128"/>
                    </a:lnTo>
                    <a:lnTo>
                      <a:pt x="336" y="552"/>
                    </a:lnTo>
                    <a:lnTo>
                      <a:pt x="252" y="234"/>
                    </a:lnTo>
                    <a:lnTo>
                      <a:pt x="168" y="240"/>
                    </a:lnTo>
                    <a:lnTo>
                      <a:pt x="84" y="792"/>
                    </a:lnTo>
                    <a:lnTo>
                      <a:pt x="0" y="181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74"/>
                    </a:lnTo>
                    <a:lnTo>
                      <a:pt x="498" y="504"/>
                    </a:lnTo>
                    <a:lnTo>
                      <a:pt x="582" y="1122"/>
                    </a:lnTo>
                    <a:lnTo>
                      <a:pt x="666" y="1278"/>
                    </a:lnTo>
                    <a:lnTo>
                      <a:pt x="750" y="1176"/>
                    </a:lnTo>
                    <a:lnTo>
                      <a:pt x="834" y="1230"/>
                    </a:lnTo>
                    <a:lnTo>
                      <a:pt x="918" y="1422"/>
                    </a:lnTo>
                    <a:lnTo>
                      <a:pt x="1002" y="1632"/>
                    </a:lnTo>
                    <a:lnTo>
                      <a:pt x="1086" y="1740"/>
                    </a:lnTo>
                    <a:lnTo>
                      <a:pt x="1170" y="1824"/>
                    </a:lnTo>
                    <a:lnTo>
                      <a:pt x="1254" y="1920"/>
                    </a:lnTo>
                    <a:lnTo>
                      <a:pt x="1338" y="1998"/>
                    </a:lnTo>
                    <a:lnTo>
                      <a:pt x="1416" y="2076"/>
                    </a:lnTo>
                    <a:lnTo>
                      <a:pt x="1500" y="2142"/>
                    </a:lnTo>
                    <a:lnTo>
                      <a:pt x="1584" y="2196"/>
                    </a:lnTo>
                    <a:lnTo>
                      <a:pt x="1668" y="2250"/>
                    </a:lnTo>
                    <a:lnTo>
                      <a:pt x="1752" y="2286"/>
                    </a:lnTo>
                    <a:lnTo>
                      <a:pt x="1836" y="2298"/>
                    </a:lnTo>
                    <a:lnTo>
                      <a:pt x="1920" y="2316"/>
                    </a:lnTo>
                    <a:lnTo>
                      <a:pt x="2004" y="2334"/>
                    </a:lnTo>
                    <a:lnTo>
                      <a:pt x="2088" y="2346"/>
                    </a:lnTo>
                    <a:lnTo>
                      <a:pt x="2172" y="2358"/>
                    </a:lnTo>
                    <a:lnTo>
                      <a:pt x="2256" y="2370"/>
                    </a:lnTo>
                    <a:lnTo>
                      <a:pt x="2334" y="2376"/>
                    </a:lnTo>
                    <a:lnTo>
                      <a:pt x="2418" y="2382"/>
                    </a:lnTo>
                    <a:lnTo>
                      <a:pt x="2502" y="2382"/>
                    </a:lnTo>
                    <a:lnTo>
                      <a:pt x="2586" y="2382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8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8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82"/>
                    </a:lnTo>
                    <a:lnTo>
                      <a:pt x="2502" y="2382"/>
                    </a:lnTo>
                    <a:lnTo>
                      <a:pt x="2418" y="2382"/>
                    </a:lnTo>
                    <a:lnTo>
                      <a:pt x="2334" y="2376"/>
                    </a:lnTo>
                    <a:lnTo>
                      <a:pt x="2256" y="2370"/>
                    </a:lnTo>
                    <a:lnTo>
                      <a:pt x="2172" y="2364"/>
                    </a:lnTo>
                    <a:lnTo>
                      <a:pt x="2088" y="2358"/>
                    </a:lnTo>
                    <a:lnTo>
                      <a:pt x="2004" y="2346"/>
                    </a:lnTo>
                    <a:lnTo>
                      <a:pt x="1920" y="2334"/>
                    </a:lnTo>
                    <a:lnTo>
                      <a:pt x="1836" y="2322"/>
                    </a:lnTo>
                    <a:lnTo>
                      <a:pt x="1752" y="2322"/>
                    </a:lnTo>
                    <a:lnTo>
                      <a:pt x="1668" y="2304"/>
                    </a:lnTo>
                    <a:lnTo>
                      <a:pt x="1584" y="2274"/>
                    </a:lnTo>
                    <a:lnTo>
                      <a:pt x="1500" y="2244"/>
                    </a:lnTo>
                    <a:lnTo>
                      <a:pt x="1416" y="2196"/>
                    </a:lnTo>
                    <a:lnTo>
                      <a:pt x="1338" y="2154"/>
                    </a:lnTo>
                    <a:lnTo>
                      <a:pt x="1254" y="2106"/>
                    </a:lnTo>
                    <a:lnTo>
                      <a:pt x="1170" y="2058"/>
                    </a:lnTo>
                    <a:lnTo>
                      <a:pt x="1086" y="2022"/>
                    </a:lnTo>
                    <a:lnTo>
                      <a:pt x="1002" y="1968"/>
                    </a:lnTo>
                    <a:lnTo>
                      <a:pt x="918" y="1842"/>
                    </a:lnTo>
                    <a:lnTo>
                      <a:pt x="834" y="1722"/>
                    </a:lnTo>
                    <a:lnTo>
                      <a:pt x="750" y="1632"/>
                    </a:lnTo>
                    <a:lnTo>
                      <a:pt x="666" y="1740"/>
                    </a:lnTo>
                    <a:lnTo>
                      <a:pt x="582" y="1578"/>
                    </a:lnTo>
                    <a:lnTo>
                      <a:pt x="498" y="1056"/>
                    </a:lnTo>
                    <a:lnTo>
                      <a:pt x="420" y="942"/>
                    </a:lnTo>
                    <a:lnTo>
                      <a:pt x="336" y="18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354"/>
                    </a:lnTo>
                    <a:lnTo>
                      <a:pt x="582" y="954"/>
                    </a:lnTo>
                    <a:lnTo>
                      <a:pt x="666" y="1158"/>
                    </a:lnTo>
                    <a:lnTo>
                      <a:pt x="750" y="1098"/>
                    </a:lnTo>
                    <a:lnTo>
                      <a:pt x="834" y="1152"/>
                    </a:lnTo>
                    <a:lnTo>
                      <a:pt x="918" y="1356"/>
                    </a:lnTo>
                    <a:lnTo>
                      <a:pt x="1002" y="1590"/>
                    </a:lnTo>
                    <a:lnTo>
                      <a:pt x="1086" y="1716"/>
                    </a:lnTo>
                    <a:lnTo>
                      <a:pt x="1170" y="1812"/>
                    </a:lnTo>
                    <a:lnTo>
                      <a:pt x="1254" y="1908"/>
                    </a:lnTo>
                    <a:lnTo>
                      <a:pt x="1338" y="1980"/>
                    </a:lnTo>
                    <a:lnTo>
                      <a:pt x="1416" y="2064"/>
                    </a:lnTo>
                    <a:lnTo>
                      <a:pt x="1500" y="2130"/>
                    </a:lnTo>
                    <a:lnTo>
                      <a:pt x="1584" y="2190"/>
                    </a:lnTo>
                    <a:lnTo>
                      <a:pt x="1668" y="2244"/>
                    </a:lnTo>
                    <a:lnTo>
                      <a:pt x="1752" y="2280"/>
                    </a:lnTo>
                    <a:lnTo>
                      <a:pt x="1836" y="2298"/>
                    </a:lnTo>
                    <a:lnTo>
                      <a:pt x="1920" y="2316"/>
                    </a:lnTo>
                    <a:lnTo>
                      <a:pt x="2004" y="2334"/>
                    </a:lnTo>
                    <a:lnTo>
                      <a:pt x="2088" y="2346"/>
                    </a:lnTo>
                    <a:lnTo>
                      <a:pt x="2172" y="2358"/>
                    </a:lnTo>
                    <a:lnTo>
                      <a:pt x="2256" y="2370"/>
                    </a:lnTo>
                    <a:lnTo>
                      <a:pt x="2334" y="2376"/>
                    </a:lnTo>
                    <a:lnTo>
                      <a:pt x="2418" y="2382"/>
                    </a:lnTo>
                    <a:lnTo>
                      <a:pt x="2502" y="2382"/>
                    </a:lnTo>
                    <a:lnTo>
                      <a:pt x="2586" y="2382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8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8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82"/>
                    </a:lnTo>
                    <a:lnTo>
                      <a:pt x="2502" y="2382"/>
                    </a:lnTo>
                    <a:lnTo>
                      <a:pt x="2418" y="2382"/>
                    </a:lnTo>
                    <a:lnTo>
                      <a:pt x="2334" y="2376"/>
                    </a:lnTo>
                    <a:lnTo>
                      <a:pt x="2256" y="2370"/>
                    </a:lnTo>
                    <a:lnTo>
                      <a:pt x="2172" y="2358"/>
                    </a:lnTo>
                    <a:lnTo>
                      <a:pt x="2088" y="2346"/>
                    </a:lnTo>
                    <a:lnTo>
                      <a:pt x="2004" y="2334"/>
                    </a:lnTo>
                    <a:lnTo>
                      <a:pt x="1920" y="2316"/>
                    </a:lnTo>
                    <a:lnTo>
                      <a:pt x="1836" y="2298"/>
                    </a:lnTo>
                    <a:lnTo>
                      <a:pt x="1752" y="2286"/>
                    </a:lnTo>
                    <a:lnTo>
                      <a:pt x="1668" y="2250"/>
                    </a:lnTo>
                    <a:lnTo>
                      <a:pt x="1584" y="2196"/>
                    </a:lnTo>
                    <a:lnTo>
                      <a:pt x="1500" y="2142"/>
                    </a:lnTo>
                    <a:lnTo>
                      <a:pt x="1416" y="2076"/>
                    </a:lnTo>
                    <a:lnTo>
                      <a:pt x="1338" y="1998"/>
                    </a:lnTo>
                    <a:lnTo>
                      <a:pt x="1254" y="1920"/>
                    </a:lnTo>
                    <a:lnTo>
                      <a:pt x="1170" y="1824"/>
                    </a:lnTo>
                    <a:lnTo>
                      <a:pt x="1086" y="1740"/>
                    </a:lnTo>
                    <a:lnTo>
                      <a:pt x="1002" y="1632"/>
                    </a:lnTo>
                    <a:lnTo>
                      <a:pt x="918" y="1422"/>
                    </a:lnTo>
                    <a:lnTo>
                      <a:pt x="834" y="1230"/>
                    </a:lnTo>
                    <a:lnTo>
                      <a:pt x="750" y="1176"/>
                    </a:lnTo>
                    <a:lnTo>
                      <a:pt x="666" y="1278"/>
                    </a:lnTo>
                    <a:lnTo>
                      <a:pt x="582" y="1122"/>
                    </a:lnTo>
                    <a:lnTo>
                      <a:pt x="498" y="504"/>
                    </a:lnTo>
                    <a:lnTo>
                      <a:pt x="420" y="47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846"/>
                    </a:lnTo>
                    <a:lnTo>
                      <a:pt x="666" y="1092"/>
                    </a:lnTo>
                    <a:lnTo>
                      <a:pt x="750" y="1008"/>
                    </a:lnTo>
                    <a:lnTo>
                      <a:pt x="834" y="1062"/>
                    </a:lnTo>
                    <a:lnTo>
                      <a:pt x="918" y="1296"/>
                    </a:lnTo>
                    <a:lnTo>
                      <a:pt x="1002" y="1542"/>
                    </a:lnTo>
                    <a:lnTo>
                      <a:pt x="1086" y="1668"/>
                    </a:lnTo>
                    <a:lnTo>
                      <a:pt x="1170" y="1764"/>
                    </a:lnTo>
                    <a:lnTo>
                      <a:pt x="1254" y="1866"/>
                    </a:lnTo>
                    <a:lnTo>
                      <a:pt x="1338" y="1950"/>
                    </a:lnTo>
                    <a:lnTo>
                      <a:pt x="1416" y="2034"/>
                    </a:lnTo>
                    <a:lnTo>
                      <a:pt x="1500" y="2082"/>
                    </a:lnTo>
                    <a:lnTo>
                      <a:pt x="1584" y="2178"/>
                    </a:lnTo>
                    <a:lnTo>
                      <a:pt x="1668" y="2238"/>
                    </a:lnTo>
                    <a:lnTo>
                      <a:pt x="1752" y="2280"/>
                    </a:lnTo>
                    <a:lnTo>
                      <a:pt x="1836" y="2292"/>
                    </a:lnTo>
                    <a:lnTo>
                      <a:pt x="1920" y="2316"/>
                    </a:lnTo>
                    <a:lnTo>
                      <a:pt x="2004" y="2334"/>
                    </a:lnTo>
                    <a:lnTo>
                      <a:pt x="2088" y="2346"/>
                    </a:lnTo>
                    <a:lnTo>
                      <a:pt x="2172" y="2358"/>
                    </a:lnTo>
                    <a:lnTo>
                      <a:pt x="2256" y="2370"/>
                    </a:lnTo>
                    <a:lnTo>
                      <a:pt x="2334" y="2376"/>
                    </a:lnTo>
                    <a:lnTo>
                      <a:pt x="2418" y="2382"/>
                    </a:lnTo>
                    <a:lnTo>
                      <a:pt x="2502" y="2382"/>
                    </a:lnTo>
                    <a:lnTo>
                      <a:pt x="2586" y="2382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8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8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82"/>
                    </a:lnTo>
                    <a:lnTo>
                      <a:pt x="2502" y="2382"/>
                    </a:lnTo>
                    <a:lnTo>
                      <a:pt x="2418" y="2382"/>
                    </a:lnTo>
                    <a:lnTo>
                      <a:pt x="2334" y="2376"/>
                    </a:lnTo>
                    <a:lnTo>
                      <a:pt x="2256" y="2370"/>
                    </a:lnTo>
                    <a:lnTo>
                      <a:pt x="2172" y="2358"/>
                    </a:lnTo>
                    <a:lnTo>
                      <a:pt x="2088" y="2346"/>
                    </a:lnTo>
                    <a:lnTo>
                      <a:pt x="2004" y="2334"/>
                    </a:lnTo>
                    <a:lnTo>
                      <a:pt x="1920" y="2316"/>
                    </a:lnTo>
                    <a:lnTo>
                      <a:pt x="1836" y="2298"/>
                    </a:lnTo>
                    <a:lnTo>
                      <a:pt x="1752" y="2280"/>
                    </a:lnTo>
                    <a:lnTo>
                      <a:pt x="1668" y="2244"/>
                    </a:lnTo>
                    <a:lnTo>
                      <a:pt x="1584" y="2190"/>
                    </a:lnTo>
                    <a:lnTo>
                      <a:pt x="1500" y="2130"/>
                    </a:lnTo>
                    <a:lnTo>
                      <a:pt x="1416" y="2064"/>
                    </a:lnTo>
                    <a:lnTo>
                      <a:pt x="1338" y="1980"/>
                    </a:lnTo>
                    <a:lnTo>
                      <a:pt x="1254" y="1908"/>
                    </a:lnTo>
                    <a:lnTo>
                      <a:pt x="1170" y="1812"/>
                    </a:lnTo>
                    <a:lnTo>
                      <a:pt x="1086" y="1716"/>
                    </a:lnTo>
                    <a:lnTo>
                      <a:pt x="1002" y="1590"/>
                    </a:lnTo>
                    <a:lnTo>
                      <a:pt x="918" y="1356"/>
                    </a:lnTo>
                    <a:lnTo>
                      <a:pt x="834" y="1152"/>
                    </a:lnTo>
                    <a:lnTo>
                      <a:pt x="750" y="1098"/>
                    </a:lnTo>
                    <a:lnTo>
                      <a:pt x="666" y="1158"/>
                    </a:lnTo>
                    <a:lnTo>
                      <a:pt x="582" y="954"/>
                    </a:lnTo>
                    <a:lnTo>
                      <a:pt x="498" y="354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828"/>
                    </a:lnTo>
                    <a:lnTo>
                      <a:pt x="750" y="720"/>
                    </a:lnTo>
                    <a:lnTo>
                      <a:pt x="834" y="804"/>
                    </a:lnTo>
                    <a:lnTo>
                      <a:pt x="918" y="1098"/>
                    </a:lnTo>
                    <a:lnTo>
                      <a:pt x="1002" y="1404"/>
                    </a:lnTo>
                    <a:lnTo>
                      <a:pt x="1086" y="1554"/>
                    </a:lnTo>
                    <a:lnTo>
                      <a:pt x="1170" y="1656"/>
                    </a:lnTo>
                    <a:lnTo>
                      <a:pt x="1254" y="1770"/>
                    </a:lnTo>
                    <a:lnTo>
                      <a:pt x="1338" y="1878"/>
                    </a:lnTo>
                    <a:lnTo>
                      <a:pt x="1416" y="1998"/>
                    </a:lnTo>
                    <a:lnTo>
                      <a:pt x="1500" y="2070"/>
                    </a:lnTo>
                    <a:lnTo>
                      <a:pt x="1584" y="2172"/>
                    </a:lnTo>
                    <a:lnTo>
                      <a:pt x="1668" y="2232"/>
                    </a:lnTo>
                    <a:lnTo>
                      <a:pt x="1752" y="2274"/>
                    </a:lnTo>
                    <a:lnTo>
                      <a:pt x="1836" y="2292"/>
                    </a:lnTo>
                    <a:lnTo>
                      <a:pt x="1920" y="2310"/>
                    </a:lnTo>
                    <a:lnTo>
                      <a:pt x="2004" y="2334"/>
                    </a:lnTo>
                    <a:lnTo>
                      <a:pt x="2088" y="2346"/>
                    </a:lnTo>
                    <a:lnTo>
                      <a:pt x="2172" y="2358"/>
                    </a:lnTo>
                    <a:lnTo>
                      <a:pt x="2256" y="2370"/>
                    </a:lnTo>
                    <a:lnTo>
                      <a:pt x="2334" y="2376"/>
                    </a:lnTo>
                    <a:lnTo>
                      <a:pt x="2418" y="2382"/>
                    </a:lnTo>
                    <a:lnTo>
                      <a:pt x="2502" y="2382"/>
                    </a:lnTo>
                    <a:lnTo>
                      <a:pt x="2586" y="2382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8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8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82"/>
                    </a:lnTo>
                    <a:lnTo>
                      <a:pt x="2502" y="2382"/>
                    </a:lnTo>
                    <a:lnTo>
                      <a:pt x="2418" y="2382"/>
                    </a:lnTo>
                    <a:lnTo>
                      <a:pt x="2334" y="2376"/>
                    </a:lnTo>
                    <a:lnTo>
                      <a:pt x="2256" y="2370"/>
                    </a:lnTo>
                    <a:lnTo>
                      <a:pt x="2172" y="2358"/>
                    </a:lnTo>
                    <a:lnTo>
                      <a:pt x="2088" y="2346"/>
                    </a:lnTo>
                    <a:lnTo>
                      <a:pt x="2004" y="2334"/>
                    </a:lnTo>
                    <a:lnTo>
                      <a:pt x="1920" y="2316"/>
                    </a:lnTo>
                    <a:lnTo>
                      <a:pt x="1836" y="2292"/>
                    </a:lnTo>
                    <a:lnTo>
                      <a:pt x="1752" y="2280"/>
                    </a:lnTo>
                    <a:lnTo>
                      <a:pt x="1668" y="2238"/>
                    </a:lnTo>
                    <a:lnTo>
                      <a:pt x="1584" y="2178"/>
                    </a:lnTo>
                    <a:lnTo>
                      <a:pt x="1500" y="2082"/>
                    </a:lnTo>
                    <a:lnTo>
                      <a:pt x="1416" y="2034"/>
                    </a:lnTo>
                    <a:lnTo>
                      <a:pt x="1338" y="1950"/>
                    </a:lnTo>
                    <a:lnTo>
                      <a:pt x="1254" y="1866"/>
                    </a:lnTo>
                    <a:lnTo>
                      <a:pt x="1170" y="1764"/>
                    </a:lnTo>
                    <a:lnTo>
                      <a:pt x="1086" y="1668"/>
                    </a:lnTo>
                    <a:lnTo>
                      <a:pt x="1002" y="1542"/>
                    </a:lnTo>
                    <a:lnTo>
                      <a:pt x="918" y="1296"/>
                    </a:lnTo>
                    <a:lnTo>
                      <a:pt x="834" y="1062"/>
                    </a:lnTo>
                    <a:lnTo>
                      <a:pt x="750" y="1008"/>
                    </a:lnTo>
                    <a:lnTo>
                      <a:pt x="666" y="1092"/>
                    </a:lnTo>
                    <a:lnTo>
                      <a:pt x="582" y="846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594"/>
                    </a:lnTo>
                    <a:lnTo>
                      <a:pt x="834" y="666"/>
                    </a:lnTo>
                    <a:lnTo>
                      <a:pt x="918" y="960"/>
                    </a:lnTo>
                    <a:lnTo>
                      <a:pt x="1002" y="1308"/>
                    </a:lnTo>
                    <a:lnTo>
                      <a:pt x="1086" y="1476"/>
                    </a:lnTo>
                    <a:lnTo>
                      <a:pt x="1170" y="1602"/>
                    </a:lnTo>
                    <a:lnTo>
                      <a:pt x="1254" y="1734"/>
                    </a:lnTo>
                    <a:lnTo>
                      <a:pt x="1338" y="1842"/>
                    </a:lnTo>
                    <a:lnTo>
                      <a:pt x="1416" y="1980"/>
                    </a:lnTo>
                    <a:lnTo>
                      <a:pt x="1500" y="2058"/>
                    </a:lnTo>
                    <a:lnTo>
                      <a:pt x="1584" y="2154"/>
                    </a:lnTo>
                    <a:lnTo>
                      <a:pt x="1668" y="2226"/>
                    </a:lnTo>
                    <a:lnTo>
                      <a:pt x="1752" y="2268"/>
                    </a:lnTo>
                    <a:lnTo>
                      <a:pt x="1836" y="2286"/>
                    </a:lnTo>
                    <a:lnTo>
                      <a:pt x="1920" y="2310"/>
                    </a:lnTo>
                    <a:lnTo>
                      <a:pt x="2004" y="2334"/>
                    </a:lnTo>
                    <a:lnTo>
                      <a:pt x="2088" y="2346"/>
                    </a:lnTo>
                    <a:lnTo>
                      <a:pt x="2172" y="2358"/>
                    </a:lnTo>
                    <a:lnTo>
                      <a:pt x="2256" y="2370"/>
                    </a:lnTo>
                    <a:lnTo>
                      <a:pt x="2334" y="2376"/>
                    </a:lnTo>
                    <a:lnTo>
                      <a:pt x="2418" y="2382"/>
                    </a:lnTo>
                    <a:lnTo>
                      <a:pt x="2502" y="2382"/>
                    </a:lnTo>
                    <a:lnTo>
                      <a:pt x="2586" y="2382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8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8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82"/>
                    </a:lnTo>
                    <a:lnTo>
                      <a:pt x="2502" y="2382"/>
                    </a:lnTo>
                    <a:lnTo>
                      <a:pt x="2418" y="2382"/>
                    </a:lnTo>
                    <a:lnTo>
                      <a:pt x="2334" y="2376"/>
                    </a:lnTo>
                    <a:lnTo>
                      <a:pt x="2256" y="2370"/>
                    </a:lnTo>
                    <a:lnTo>
                      <a:pt x="2172" y="2358"/>
                    </a:lnTo>
                    <a:lnTo>
                      <a:pt x="2088" y="2346"/>
                    </a:lnTo>
                    <a:lnTo>
                      <a:pt x="2004" y="2334"/>
                    </a:lnTo>
                    <a:lnTo>
                      <a:pt x="1920" y="2310"/>
                    </a:lnTo>
                    <a:lnTo>
                      <a:pt x="1836" y="2292"/>
                    </a:lnTo>
                    <a:lnTo>
                      <a:pt x="1752" y="2274"/>
                    </a:lnTo>
                    <a:lnTo>
                      <a:pt x="1668" y="2232"/>
                    </a:lnTo>
                    <a:lnTo>
                      <a:pt x="1584" y="2172"/>
                    </a:lnTo>
                    <a:lnTo>
                      <a:pt x="1500" y="2070"/>
                    </a:lnTo>
                    <a:lnTo>
                      <a:pt x="1416" y="1998"/>
                    </a:lnTo>
                    <a:lnTo>
                      <a:pt x="1338" y="1878"/>
                    </a:lnTo>
                    <a:lnTo>
                      <a:pt x="1254" y="1770"/>
                    </a:lnTo>
                    <a:lnTo>
                      <a:pt x="1170" y="1656"/>
                    </a:lnTo>
                    <a:lnTo>
                      <a:pt x="1086" y="1554"/>
                    </a:lnTo>
                    <a:lnTo>
                      <a:pt x="1002" y="1404"/>
                    </a:lnTo>
                    <a:lnTo>
                      <a:pt x="918" y="1098"/>
                    </a:lnTo>
                    <a:lnTo>
                      <a:pt x="834" y="804"/>
                    </a:lnTo>
                    <a:lnTo>
                      <a:pt x="750" y="720"/>
                    </a:lnTo>
                    <a:lnTo>
                      <a:pt x="666" y="82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414"/>
                    </a:lnTo>
                    <a:lnTo>
                      <a:pt x="918" y="726"/>
                    </a:lnTo>
                    <a:lnTo>
                      <a:pt x="1002" y="1128"/>
                    </a:lnTo>
                    <a:lnTo>
                      <a:pt x="1086" y="1368"/>
                    </a:lnTo>
                    <a:lnTo>
                      <a:pt x="1170" y="1524"/>
                    </a:lnTo>
                    <a:lnTo>
                      <a:pt x="1254" y="1674"/>
                    </a:lnTo>
                    <a:lnTo>
                      <a:pt x="1338" y="1818"/>
                    </a:lnTo>
                    <a:lnTo>
                      <a:pt x="1416" y="1962"/>
                    </a:lnTo>
                    <a:lnTo>
                      <a:pt x="1500" y="2034"/>
                    </a:lnTo>
                    <a:lnTo>
                      <a:pt x="1584" y="2142"/>
                    </a:lnTo>
                    <a:lnTo>
                      <a:pt x="1668" y="2214"/>
                    </a:lnTo>
                    <a:lnTo>
                      <a:pt x="1752" y="2256"/>
                    </a:lnTo>
                    <a:lnTo>
                      <a:pt x="1836" y="2280"/>
                    </a:lnTo>
                    <a:lnTo>
                      <a:pt x="1920" y="2304"/>
                    </a:lnTo>
                    <a:lnTo>
                      <a:pt x="2004" y="2328"/>
                    </a:lnTo>
                    <a:lnTo>
                      <a:pt x="2088" y="2346"/>
                    </a:lnTo>
                    <a:lnTo>
                      <a:pt x="2172" y="2358"/>
                    </a:lnTo>
                    <a:lnTo>
                      <a:pt x="2256" y="2364"/>
                    </a:lnTo>
                    <a:lnTo>
                      <a:pt x="2334" y="2370"/>
                    </a:lnTo>
                    <a:lnTo>
                      <a:pt x="2418" y="2376"/>
                    </a:lnTo>
                    <a:lnTo>
                      <a:pt x="2502" y="2382"/>
                    </a:lnTo>
                    <a:lnTo>
                      <a:pt x="2586" y="2382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8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8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82"/>
                    </a:lnTo>
                    <a:lnTo>
                      <a:pt x="2502" y="2382"/>
                    </a:lnTo>
                    <a:lnTo>
                      <a:pt x="2418" y="2382"/>
                    </a:lnTo>
                    <a:lnTo>
                      <a:pt x="2334" y="2376"/>
                    </a:lnTo>
                    <a:lnTo>
                      <a:pt x="2256" y="2370"/>
                    </a:lnTo>
                    <a:lnTo>
                      <a:pt x="2172" y="2358"/>
                    </a:lnTo>
                    <a:lnTo>
                      <a:pt x="2088" y="2346"/>
                    </a:lnTo>
                    <a:lnTo>
                      <a:pt x="2004" y="2334"/>
                    </a:lnTo>
                    <a:lnTo>
                      <a:pt x="1920" y="2310"/>
                    </a:lnTo>
                    <a:lnTo>
                      <a:pt x="1836" y="2286"/>
                    </a:lnTo>
                    <a:lnTo>
                      <a:pt x="1752" y="2268"/>
                    </a:lnTo>
                    <a:lnTo>
                      <a:pt x="1668" y="2226"/>
                    </a:lnTo>
                    <a:lnTo>
                      <a:pt x="1584" y="2154"/>
                    </a:lnTo>
                    <a:lnTo>
                      <a:pt x="1500" y="2058"/>
                    </a:lnTo>
                    <a:lnTo>
                      <a:pt x="1416" y="1980"/>
                    </a:lnTo>
                    <a:lnTo>
                      <a:pt x="1338" y="1842"/>
                    </a:lnTo>
                    <a:lnTo>
                      <a:pt x="1254" y="1734"/>
                    </a:lnTo>
                    <a:lnTo>
                      <a:pt x="1170" y="1602"/>
                    </a:lnTo>
                    <a:lnTo>
                      <a:pt x="1086" y="1476"/>
                    </a:lnTo>
                    <a:lnTo>
                      <a:pt x="1002" y="1308"/>
                    </a:lnTo>
                    <a:lnTo>
                      <a:pt x="918" y="960"/>
                    </a:lnTo>
                    <a:lnTo>
                      <a:pt x="834" y="666"/>
                    </a:lnTo>
                    <a:lnTo>
                      <a:pt x="750" y="594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570"/>
                    </a:lnTo>
                    <a:lnTo>
                      <a:pt x="1002" y="1008"/>
                    </a:lnTo>
                    <a:lnTo>
                      <a:pt x="1086" y="1278"/>
                    </a:lnTo>
                    <a:lnTo>
                      <a:pt x="1170" y="1452"/>
                    </a:lnTo>
                    <a:lnTo>
                      <a:pt x="1254" y="1620"/>
                    </a:lnTo>
                    <a:lnTo>
                      <a:pt x="1338" y="1776"/>
                    </a:lnTo>
                    <a:lnTo>
                      <a:pt x="1416" y="1932"/>
                    </a:lnTo>
                    <a:lnTo>
                      <a:pt x="1500" y="1998"/>
                    </a:lnTo>
                    <a:lnTo>
                      <a:pt x="1584" y="2118"/>
                    </a:lnTo>
                    <a:lnTo>
                      <a:pt x="1668" y="2184"/>
                    </a:lnTo>
                    <a:lnTo>
                      <a:pt x="1752" y="2226"/>
                    </a:lnTo>
                    <a:lnTo>
                      <a:pt x="1836" y="2262"/>
                    </a:lnTo>
                    <a:lnTo>
                      <a:pt x="1920" y="2292"/>
                    </a:lnTo>
                    <a:lnTo>
                      <a:pt x="2004" y="2322"/>
                    </a:lnTo>
                    <a:lnTo>
                      <a:pt x="2088" y="2340"/>
                    </a:lnTo>
                    <a:lnTo>
                      <a:pt x="2172" y="2352"/>
                    </a:lnTo>
                    <a:lnTo>
                      <a:pt x="2256" y="2364"/>
                    </a:lnTo>
                    <a:lnTo>
                      <a:pt x="2334" y="2370"/>
                    </a:lnTo>
                    <a:lnTo>
                      <a:pt x="2418" y="2376"/>
                    </a:lnTo>
                    <a:lnTo>
                      <a:pt x="2502" y="2382"/>
                    </a:lnTo>
                    <a:lnTo>
                      <a:pt x="2586" y="2382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8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8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82"/>
                    </a:lnTo>
                    <a:lnTo>
                      <a:pt x="2502" y="2382"/>
                    </a:lnTo>
                    <a:lnTo>
                      <a:pt x="2418" y="2376"/>
                    </a:lnTo>
                    <a:lnTo>
                      <a:pt x="2334" y="2370"/>
                    </a:lnTo>
                    <a:lnTo>
                      <a:pt x="2256" y="2364"/>
                    </a:lnTo>
                    <a:lnTo>
                      <a:pt x="2172" y="2358"/>
                    </a:lnTo>
                    <a:lnTo>
                      <a:pt x="2088" y="2346"/>
                    </a:lnTo>
                    <a:lnTo>
                      <a:pt x="2004" y="2328"/>
                    </a:lnTo>
                    <a:lnTo>
                      <a:pt x="1920" y="2304"/>
                    </a:lnTo>
                    <a:lnTo>
                      <a:pt x="1836" y="2280"/>
                    </a:lnTo>
                    <a:lnTo>
                      <a:pt x="1752" y="2256"/>
                    </a:lnTo>
                    <a:lnTo>
                      <a:pt x="1668" y="2214"/>
                    </a:lnTo>
                    <a:lnTo>
                      <a:pt x="1584" y="2142"/>
                    </a:lnTo>
                    <a:lnTo>
                      <a:pt x="1500" y="2034"/>
                    </a:lnTo>
                    <a:lnTo>
                      <a:pt x="1416" y="1962"/>
                    </a:lnTo>
                    <a:lnTo>
                      <a:pt x="1338" y="1818"/>
                    </a:lnTo>
                    <a:lnTo>
                      <a:pt x="1254" y="1674"/>
                    </a:lnTo>
                    <a:lnTo>
                      <a:pt x="1170" y="1524"/>
                    </a:lnTo>
                    <a:lnTo>
                      <a:pt x="1086" y="1368"/>
                    </a:lnTo>
                    <a:lnTo>
                      <a:pt x="1002" y="1128"/>
                    </a:lnTo>
                    <a:lnTo>
                      <a:pt x="918" y="726"/>
                    </a:lnTo>
                    <a:lnTo>
                      <a:pt x="834" y="41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726"/>
                    </a:lnTo>
                    <a:lnTo>
                      <a:pt x="1086" y="1062"/>
                    </a:lnTo>
                    <a:lnTo>
                      <a:pt x="1170" y="1314"/>
                    </a:lnTo>
                    <a:lnTo>
                      <a:pt x="1254" y="1554"/>
                    </a:lnTo>
                    <a:lnTo>
                      <a:pt x="1338" y="1728"/>
                    </a:lnTo>
                    <a:lnTo>
                      <a:pt x="1416" y="1896"/>
                    </a:lnTo>
                    <a:lnTo>
                      <a:pt x="1500" y="1974"/>
                    </a:lnTo>
                    <a:lnTo>
                      <a:pt x="1584" y="2100"/>
                    </a:lnTo>
                    <a:lnTo>
                      <a:pt x="1668" y="2172"/>
                    </a:lnTo>
                    <a:lnTo>
                      <a:pt x="1752" y="2214"/>
                    </a:lnTo>
                    <a:lnTo>
                      <a:pt x="1836" y="2256"/>
                    </a:lnTo>
                    <a:lnTo>
                      <a:pt x="1920" y="2292"/>
                    </a:lnTo>
                    <a:lnTo>
                      <a:pt x="2004" y="2322"/>
                    </a:lnTo>
                    <a:lnTo>
                      <a:pt x="2088" y="2340"/>
                    </a:lnTo>
                    <a:lnTo>
                      <a:pt x="2172" y="2352"/>
                    </a:lnTo>
                    <a:lnTo>
                      <a:pt x="2256" y="2364"/>
                    </a:lnTo>
                    <a:lnTo>
                      <a:pt x="2334" y="2370"/>
                    </a:lnTo>
                    <a:lnTo>
                      <a:pt x="2418" y="2376"/>
                    </a:lnTo>
                    <a:lnTo>
                      <a:pt x="2502" y="2382"/>
                    </a:lnTo>
                    <a:lnTo>
                      <a:pt x="2586" y="2382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8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8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82"/>
                    </a:lnTo>
                    <a:lnTo>
                      <a:pt x="2502" y="2382"/>
                    </a:lnTo>
                    <a:lnTo>
                      <a:pt x="2418" y="2376"/>
                    </a:lnTo>
                    <a:lnTo>
                      <a:pt x="2334" y="2370"/>
                    </a:lnTo>
                    <a:lnTo>
                      <a:pt x="2256" y="2364"/>
                    </a:lnTo>
                    <a:lnTo>
                      <a:pt x="2172" y="2352"/>
                    </a:lnTo>
                    <a:lnTo>
                      <a:pt x="2088" y="2340"/>
                    </a:lnTo>
                    <a:lnTo>
                      <a:pt x="2004" y="2322"/>
                    </a:lnTo>
                    <a:lnTo>
                      <a:pt x="1920" y="2292"/>
                    </a:lnTo>
                    <a:lnTo>
                      <a:pt x="1836" y="2262"/>
                    </a:lnTo>
                    <a:lnTo>
                      <a:pt x="1752" y="2226"/>
                    </a:lnTo>
                    <a:lnTo>
                      <a:pt x="1668" y="2184"/>
                    </a:lnTo>
                    <a:lnTo>
                      <a:pt x="1584" y="2118"/>
                    </a:lnTo>
                    <a:lnTo>
                      <a:pt x="1500" y="1998"/>
                    </a:lnTo>
                    <a:lnTo>
                      <a:pt x="1416" y="1932"/>
                    </a:lnTo>
                    <a:lnTo>
                      <a:pt x="1338" y="1776"/>
                    </a:lnTo>
                    <a:lnTo>
                      <a:pt x="1254" y="1620"/>
                    </a:lnTo>
                    <a:lnTo>
                      <a:pt x="1170" y="1452"/>
                    </a:lnTo>
                    <a:lnTo>
                      <a:pt x="1086" y="1278"/>
                    </a:lnTo>
                    <a:lnTo>
                      <a:pt x="1002" y="1008"/>
                    </a:lnTo>
                    <a:lnTo>
                      <a:pt x="918" y="570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702"/>
                    </a:lnTo>
                    <a:lnTo>
                      <a:pt x="1170" y="1080"/>
                    </a:lnTo>
                    <a:lnTo>
                      <a:pt x="1254" y="1446"/>
                    </a:lnTo>
                    <a:lnTo>
                      <a:pt x="1338" y="1668"/>
                    </a:lnTo>
                    <a:lnTo>
                      <a:pt x="1416" y="1854"/>
                    </a:lnTo>
                    <a:lnTo>
                      <a:pt x="1500" y="1938"/>
                    </a:lnTo>
                    <a:lnTo>
                      <a:pt x="1584" y="2070"/>
                    </a:lnTo>
                    <a:lnTo>
                      <a:pt x="1668" y="2148"/>
                    </a:lnTo>
                    <a:lnTo>
                      <a:pt x="1752" y="2202"/>
                    </a:lnTo>
                    <a:lnTo>
                      <a:pt x="1836" y="2244"/>
                    </a:lnTo>
                    <a:lnTo>
                      <a:pt x="1920" y="2286"/>
                    </a:lnTo>
                    <a:lnTo>
                      <a:pt x="2004" y="2316"/>
                    </a:lnTo>
                    <a:lnTo>
                      <a:pt x="2088" y="2334"/>
                    </a:lnTo>
                    <a:lnTo>
                      <a:pt x="2172" y="2352"/>
                    </a:lnTo>
                    <a:lnTo>
                      <a:pt x="2256" y="2358"/>
                    </a:lnTo>
                    <a:lnTo>
                      <a:pt x="2334" y="2370"/>
                    </a:lnTo>
                    <a:lnTo>
                      <a:pt x="2418" y="2376"/>
                    </a:lnTo>
                    <a:lnTo>
                      <a:pt x="2502" y="2382"/>
                    </a:lnTo>
                    <a:lnTo>
                      <a:pt x="2586" y="2382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8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8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82"/>
                    </a:lnTo>
                    <a:lnTo>
                      <a:pt x="2502" y="2382"/>
                    </a:lnTo>
                    <a:lnTo>
                      <a:pt x="2418" y="2376"/>
                    </a:lnTo>
                    <a:lnTo>
                      <a:pt x="2334" y="2370"/>
                    </a:lnTo>
                    <a:lnTo>
                      <a:pt x="2256" y="2364"/>
                    </a:lnTo>
                    <a:lnTo>
                      <a:pt x="2172" y="2352"/>
                    </a:lnTo>
                    <a:lnTo>
                      <a:pt x="2088" y="2340"/>
                    </a:lnTo>
                    <a:lnTo>
                      <a:pt x="2004" y="2322"/>
                    </a:lnTo>
                    <a:lnTo>
                      <a:pt x="1920" y="2292"/>
                    </a:lnTo>
                    <a:lnTo>
                      <a:pt x="1836" y="2256"/>
                    </a:lnTo>
                    <a:lnTo>
                      <a:pt x="1752" y="2214"/>
                    </a:lnTo>
                    <a:lnTo>
                      <a:pt x="1668" y="2172"/>
                    </a:lnTo>
                    <a:lnTo>
                      <a:pt x="1584" y="2100"/>
                    </a:lnTo>
                    <a:lnTo>
                      <a:pt x="1500" y="1974"/>
                    </a:lnTo>
                    <a:lnTo>
                      <a:pt x="1416" y="1896"/>
                    </a:lnTo>
                    <a:lnTo>
                      <a:pt x="1338" y="1728"/>
                    </a:lnTo>
                    <a:lnTo>
                      <a:pt x="1254" y="1554"/>
                    </a:lnTo>
                    <a:lnTo>
                      <a:pt x="1170" y="1314"/>
                    </a:lnTo>
                    <a:lnTo>
                      <a:pt x="1086" y="1062"/>
                    </a:lnTo>
                    <a:lnTo>
                      <a:pt x="1002" y="726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98"/>
                    </a:lnTo>
                    <a:lnTo>
                      <a:pt x="1254" y="1212"/>
                    </a:lnTo>
                    <a:lnTo>
                      <a:pt x="1338" y="1446"/>
                    </a:lnTo>
                    <a:lnTo>
                      <a:pt x="1416" y="1656"/>
                    </a:lnTo>
                    <a:lnTo>
                      <a:pt x="1500" y="1746"/>
                    </a:lnTo>
                    <a:lnTo>
                      <a:pt x="1584" y="1914"/>
                    </a:lnTo>
                    <a:lnTo>
                      <a:pt x="1668" y="2040"/>
                    </a:lnTo>
                    <a:lnTo>
                      <a:pt x="1752" y="2118"/>
                    </a:lnTo>
                    <a:lnTo>
                      <a:pt x="1836" y="2208"/>
                    </a:lnTo>
                    <a:lnTo>
                      <a:pt x="1920" y="2256"/>
                    </a:lnTo>
                    <a:lnTo>
                      <a:pt x="2004" y="2292"/>
                    </a:lnTo>
                    <a:lnTo>
                      <a:pt x="2088" y="2322"/>
                    </a:lnTo>
                    <a:lnTo>
                      <a:pt x="2172" y="2340"/>
                    </a:lnTo>
                    <a:lnTo>
                      <a:pt x="2256" y="2352"/>
                    </a:lnTo>
                    <a:lnTo>
                      <a:pt x="2334" y="2364"/>
                    </a:lnTo>
                    <a:lnTo>
                      <a:pt x="2418" y="2370"/>
                    </a:lnTo>
                    <a:lnTo>
                      <a:pt x="2502" y="2376"/>
                    </a:lnTo>
                    <a:lnTo>
                      <a:pt x="2586" y="2382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2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8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82"/>
                    </a:lnTo>
                    <a:lnTo>
                      <a:pt x="2502" y="2382"/>
                    </a:lnTo>
                    <a:lnTo>
                      <a:pt x="2418" y="2376"/>
                    </a:lnTo>
                    <a:lnTo>
                      <a:pt x="2334" y="2370"/>
                    </a:lnTo>
                    <a:lnTo>
                      <a:pt x="2256" y="2358"/>
                    </a:lnTo>
                    <a:lnTo>
                      <a:pt x="2172" y="2352"/>
                    </a:lnTo>
                    <a:lnTo>
                      <a:pt x="2088" y="2334"/>
                    </a:lnTo>
                    <a:lnTo>
                      <a:pt x="2004" y="2316"/>
                    </a:lnTo>
                    <a:lnTo>
                      <a:pt x="1920" y="2286"/>
                    </a:lnTo>
                    <a:lnTo>
                      <a:pt x="1836" y="2244"/>
                    </a:lnTo>
                    <a:lnTo>
                      <a:pt x="1752" y="2202"/>
                    </a:lnTo>
                    <a:lnTo>
                      <a:pt x="1668" y="2148"/>
                    </a:lnTo>
                    <a:lnTo>
                      <a:pt x="1584" y="2070"/>
                    </a:lnTo>
                    <a:lnTo>
                      <a:pt x="1500" y="1938"/>
                    </a:lnTo>
                    <a:lnTo>
                      <a:pt x="1416" y="1854"/>
                    </a:lnTo>
                    <a:lnTo>
                      <a:pt x="1338" y="1668"/>
                    </a:lnTo>
                    <a:lnTo>
                      <a:pt x="1254" y="1446"/>
                    </a:lnTo>
                    <a:lnTo>
                      <a:pt x="1170" y="1080"/>
                    </a:lnTo>
                    <a:lnTo>
                      <a:pt x="1086" y="70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152"/>
                    </a:lnTo>
                    <a:lnTo>
                      <a:pt x="1338" y="1410"/>
                    </a:lnTo>
                    <a:lnTo>
                      <a:pt x="1416" y="1632"/>
                    </a:lnTo>
                    <a:lnTo>
                      <a:pt x="1500" y="1740"/>
                    </a:lnTo>
                    <a:lnTo>
                      <a:pt x="1584" y="1908"/>
                    </a:lnTo>
                    <a:lnTo>
                      <a:pt x="1668" y="2034"/>
                    </a:lnTo>
                    <a:lnTo>
                      <a:pt x="1752" y="2112"/>
                    </a:lnTo>
                    <a:lnTo>
                      <a:pt x="1836" y="2208"/>
                    </a:lnTo>
                    <a:lnTo>
                      <a:pt x="1920" y="2256"/>
                    </a:lnTo>
                    <a:lnTo>
                      <a:pt x="2004" y="2292"/>
                    </a:lnTo>
                    <a:lnTo>
                      <a:pt x="2088" y="2316"/>
                    </a:lnTo>
                    <a:lnTo>
                      <a:pt x="2172" y="2340"/>
                    </a:lnTo>
                    <a:lnTo>
                      <a:pt x="2256" y="2352"/>
                    </a:lnTo>
                    <a:lnTo>
                      <a:pt x="2334" y="2364"/>
                    </a:lnTo>
                    <a:lnTo>
                      <a:pt x="2418" y="2370"/>
                    </a:lnTo>
                    <a:lnTo>
                      <a:pt x="2502" y="2376"/>
                    </a:lnTo>
                    <a:lnTo>
                      <a:pt x="2586" y="2382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2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2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82"/>
                    </a:lnTo>
                    <a:lnTo>
                      <a:pt x="2502" y="2376"/>
                    </a:lnTo>
                    <a:lnTo>
                      <a:pt x="2418" y="2370"/>
                    </a:lnTo>
                    <a:lnTo>
                      <a:pt x="2334" y="2364"/>
                    </a:lnTo>
                    <a:lnTo>
                      <a:pt x="2256" y="2352"/>
                    </a:lnTo>
                    <a:lnTo>
                      <a:pt x="2172" y="2340"/>
                    </a:lnTo>
                    <a:lnTo>
                      <a:pt x="2088" y="2322"/>
                    </a:lnTo>
                    <a:lnTo>
                      <a:pt x="2004" y="2292"/>
                    </a:lnTo>
                    <a:lnTo>
                      <a:pt x="1920" y="2256"/>
                    </a:lnTo>
                    <a:lnTo>
                      <a:pt x="1836" y="2208"/>
                    </a:lnTo>
                    <a:lnTo>
                      <a:pt x="1752" y="2118"/>
                    </a:lnTo>
                    <a:lnTo>
                      <a:pt x="1668" y="2040"/>
                    </a:lnTo>
                    <a:lnTo>
                      <a:pt x="1584" y="1914"/>
                    </a:lnTo>
                    <a:lnTo>
                      <a:pt x="1500" y="1746"/>
                    </a:lnTo>
                    <a:lnTo>
                      <a:pt x="1416" y="1656"/>
                    </a:lnTo>
                    <a:lnTo>
                      <a:pt x="1338" y="1446"/>
                    </a:lnTo>
                    <a:lnTo>
                      <a:pt x="1254" y="1212"/>
                    </a:lnTo>
                    <a:lnTo>
                      <a:pt x="1170" y="798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248"/>
                    </a:lnTo>
                    <a:lnTo>
                      <a:pt x="1416" y="1542"/>
                    </a:lnTo>
                    <a:lnTo>
                      <a:pt x="1500" y="1668"/>
                    </a:lnTo>
                    <a:lnTo>
                      <a:pt x="1584" y="1860"/>
                    </a:lnTo>
                    <a:lnTo>
                      <a:pt x="1668" y="2004"/>
                    </a:lnTo>
                    <a:lnTo>
                      <a:pt x="1752" y="2094"/>
                    </a:lnTo>
                    <a:lnTo>
                      <a:pt x="1836" y="2190"/>
                    </a:lnTo>
                    <a:lnTo>
                      <a:pt x="1920" y="2244"/>
                    </a:lnTo>
                    <a:lnTo>
                      <a:pt x="2004" y="2286"/>
                    </a:lnTo>
                    <a:lnTo>
                      <a:pt x="2088" y="2310"/>
                    </a:lnTo>
                    <a:lnTo>
                      <a:pt x="2172" y="2334"/>
                    </a:lnTo>
                    <a:lnTo>
                      <a:pt x="2256" y="2346"/>
                    </a:lnTo>
                    <a:lnTo>
                      <a:pt x="2334" y="2358"/>
                    </a:lnTo>
                    <a:lnTo>
                      <a:pt x="2418" y="2370"/>
                    </a:lnTo>
                    <a:lnTo>
                      <a:pt x="2502" y="2376"/>
                    </a:lnTo>
                    <a:lnTo>
                      <a:pt x="2586" y="2376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2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2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82"/>
                    </a:lnTo>
                    <a:lnTo>
                      <a:pt x="2502" y="2376"/>
                    </a:lnTo>
                    <a:lnTo>
                      <a:pt x="2418" y="2370"/>
                    </a:lnTo>
                    <a:lnTo>
                      <a:pt x="2334" y="2364"/>
                    </a:lnTo>
                    <a:lnTo>
                      <a:pt x="2256" y="2352"/>
                    </a:lnTo>
                    <a:lnTo>
                      <a:pt x="2172" y="2340"/>
                    </a:lnTo>
                    <a:lnTo>
                      <a:pt x="2088" y="2316"/>
                    </a:lnTo>
                    <a:lnTo>
                      <a:pt x="2004" y="2292"/>
                    </a:lnTo>
                    <a:lnTo>
                      <a:pt x="1920" y="2256"/>
                    </a:lnTo>
                    <a:lnTo>
                      <a:pt x="1836" y="2208"/>
                    </a:lnTo>
                    <a:lnTo>
                      <a:pt x="1752" y="2112"/>
                    </a:lnTo>
                    <a:lnTo>
                      <a:pt x="1668" y="2034"/>
                    </a:lnTo>
                    <a:lnTo>
                      <a:pt x="1584" y="1908"/>
                    </a:lnTo>
                    <a:lnTo>
                      <a:pt x="1500" y="1740"/>
                    </a:lnTo>
                    <a:lnTo>
                      <a:pt x="1416" y="1632"/>
                    </a:lnTo>
                    <a:lnTo>
                      <a:pt x="1338" y="1410"/>
                    </a:lnTo>
                    <a:lnTo>
                      <a:pt x="1254" y="1152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290"/>
                    </a:lnTo>
                    <a:lnTo>
                      <a:pt x="1500" y="1548"/>
                    </a:lnTo>
                    <a:lnTo>
                      <a:pt x="1584" y="1812"/>
                    </a:lnTo>
                    <a:lnTo>
                      <a:pt x="1668" y="1980"/>
                    </a:lnTo>
                    <a:lnTo>
                      <a:pt x="1752" y="2076"/>
                    </a:lnTo>
                    <a:lnTo>
                      <a:pt x="1836" y="2178"/>
                    </a:lnTo>
                    <a:lnTo>
                      <a:pt x="1920" y="2238"/>
                    </a:lnTo>
                    <a:lnTo>
                      <a:pt x="2004" y="2280"/>
                    </a:lnTo>
                    <a:lnTo>
                      <a:pt x="2088" y="2310"/>
                    </a:lnTo>
                    <a:lnTo>
                      <a:pt x="2172" y="2334"/>
                    </a:lnTo>
                    <a:lnTo>
                      <a:pt x="2256" y="2346"/>
                    </a:lnTo>
                    <a:lnTo>
                      <a:pt x="2334" y="2358"/>
                    </a:lnTo>
                    <a:lnTo>
                      <a:pt x="2418" y="2370"/>
                    </a:lnTo>
                    <a:lnTo>
                      <a:pt x="2502" y="2376"/>
                    </a:lnTo>
                    <a:lnTo>
                      <a:pt x="2586" y="2376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2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2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76"/>
                    </a:lnTo>
                    <a:lnTo>
                      <a:pt x="2502" y="2376"/>
                    </a:lnTo>
                    <a:lnTo>
                      <a:pt x="2418" y="2370"/>
                    </a:lnTo>
                    <a:lnTo>
                      <a:pt x="2334" y="2358"/>
                    </a:lnTo>
                    <a:lnTo>
                      <a:pt x="2256" y="2346"/>
                    </a:lnTo>
                    <a:lnTo>
                      <a:pt x="2172" y="2334"/>
                    </a:lnTo>
                    <a:lnTo>
                      <a:pt x="2088" y="2310"/>
                    </a:lnTo>
                    <a:lnTo>
                      <a:pt x="2004" y="2286"/>
                    </a:lnTo>
                    <a:lnTo>
                      <a:pt x="1920" y="2244"/>
                    </a:lnTo>
                    <a:lnTo>
                      <a:pt x="1836" y="2190"/>
                    </a:lnTo>
                    <a:lnTo>
                      <a:pt x="1752" y="2094"/>
                    </a:lnTo>
                    <a:lnTo>
                      <a:pt x="1668" y="2004"/>
                    </a:lnTo>
                    <a:lnTo>
                      <a:pt x="1584" y="1860"/>
                    </a:lnTo>
                    <a:lnTo>
                      <a:pt x="1500" y="1668"/>
                    </a:lnTo>
                    <a:lnTo>
                      <a:pt x="1416" y="1542"/>
                    </a:lnTo>
                    <a:lnTo>
                      <a:pt x="1338" y="1248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1200"/>
                    </a:lnTo>
                    <a:lnTo>
                      <a:pt x="1584" y="1626"/>
                    </a:lnTo>
                    <a:lnTo>
                      <a:pt x="1668" y="1890"/>
                    </a:lnTo>
                    <a:lnTo>
                      <a:pt x="1752" y="2016"/>
                    </a:lnTo>
                    <a:lnTo>
                      <a:pt x="1836" y="2142"/>
                    </a:lnTo>
                    <a:lnTo>
                      <a:pt x="1920" y="2214"/>
                    </a:lnTo>
                    <a:lnTo>
                      <a:pt x="2004" y="2268"/>
                    </a:lnTo>
                    <a:lnTo>
                      <a:pt x="2088" y="2304"/>
                    </a:lnTo>
                    <a:lnTo>
                      <a:pt x="2172" y="2328"/>
                    </a:lnTo>
                    <a:lnTo>
                      <a:pt x="2256" y="2346"/>
                    </a:lnTo>
                    <a:lnTo>
                      <a:pt x="2334" y="2358"/>
                    </a:lnTo>
                    <a:lnTo>
                      <a:pt x="2418" y="2370"/>
                    </a:lnTo>
                    <a:lnTo>
                      <a:pt x="2502" y="2376"/>
                    </a:lnTo>
                    <a:lnTo>
                      <a:pt x="2586" y="2376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2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2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76"/>
                    </a:lnTo>
                    <a:lnTo>
                      <a:pt x="2502" y="2376"/>
                    </a:lnTo>
                    <a:lnTo>
                      <a:pt x="2418" y="2370"/>
                    </a:lnTo>
                    <a:lnTo>
                      <a:pt x="2334" y="2358"/>
                    </a:lnTo>
                    <a:lnTo>
                      <a:pt x="2256" y="2346"/>
                    </a:lnTo>
                    <a:lnTo>
                      <a:pt x="2172" y="2334"/>
                    </a:lnTo>
                    <a:lnTo>
                      <a:pt x="2088" y="2310"/>
                    </a:lnTo>
                    <a:lnTo>
                      <a:pt x="2004" y="2280"/>
                    </a:lnTo>
                    <a:lnTo>
                      <a:pt x="1920" y="2238"/>
                    </a:lnTo>
                    <a:lnTo>
                      <a:pt x="1836" y="2178"/>
                    </a:lnTo>
                    <a:lnTo>
                      <a:pt x="1752" y="2076"/>
                    </a:lnTo>
                    <a:lnTo>
                      <a:pt x="1668" y="1980"/>
                    </a:lnTo>
                    <a:lnTo>
                      <a:pt x="1584" y="1812"/>
                    </a:lnTo>
                    <a:lnTo>
                      <a:pt x="1500" y="1548"/>
                    </a:lnTo>
                    <a:lnTo>
                      <a:pt x="1416" y="1290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1122"/>
                    </a:lnTo>
                    <a:lnTo>
                      <a:pt x="1668" y="1680"/>
                    </a:lnTo>
                    <a:lnTo>
                      <a:pt x="1752" y="1902"/>
                    </a:lnTo>
                    <a:lnTo>
                      <a:pt x="1836" y="2082"/>
                    </a:lnTo>
                    <a:lnTo>
                      <a:pt x="1920" y="2178"/>
                    </a:lnTo>
                    <a:lnTo>
                      <a:pt x="2004" y="2244"/>
                    </a:lnTo>
                    <a:lnTo>
                      <a:pt x="2088" y="2286"/>
                    </a:lnTo>
                    <a:lnTo>
                      <a:pt x="2172" y="2316"/>
                    </a:lnTo>
                    <a:lnTo>
                      <a:pt x="2256" y="2340"/>
                    </a:lnTo>
                    <a:lnTo>
                      <a:pt x="2334" y="2358"/>
                    </a:lnTo>
                    <a:lnTo>
                      <a:pt x="2418" y="2370"/>
                    </a:lnTo>
                    <a:lnTo>
                      <a:pt x="2502" y="2376"/>
                    </a:lnTo>
                    <a:lnTo>
                      <a:pt x="2586" y="2376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2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2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76"/>
                    </a:lnTo>
                    <a:lnTo>
                      <a:pt x="2502" y="2376"/>
                    </a:lnTo>
                    <a:lnTo>
                      <a:pt x="2418" y="2370"/>
                    </a:lnTo>
                    <a:lnTo>
                      <a:pt x="2334" y="2358"/>
                    </a:lnTo>
                    <a:lnTo>
                      <a:pt x="2256" y="2346"/>
                    </a:lnTo>
                    <a:lnTo>
                      <a:pt x="2172" y="2328"/>
                    </a:lnTo>
                    <a:lnTo>
                      <a:pt x="2088" y="2304"/>
                    </a:lnTo>
                    <a:lnTo>
                      <a:pt x="2004" y="2268"/>
                    </a:lnTo>
                    <a:lnTo>
                      <a:pt x="1920" y="2214"/>
                    </a:lnTo>
                    <a:lnTo>
                      <a:pt x="1836" y="2142"/>
                    </a:lnTo>
                    <a:lnTo>
                      <a:pt x="1752" y="2016"/>
                    </a:lnTo>
                    <a:lnTo>
                      <a:pt x="1668" y="1890"/>
                    </a:lnTo>
                    <a:lnTo>
                      <a:pt x="1584" y="1626"/>
                    </a:lnTo>
                    <a:lnTo>
                      <a:pt x="1500" y="1200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1224"/>
                    </a:lnTo>
                    <a:lnTo>
                      <a:pt x="1752" y="1674"/>
                    </a:lnTo>
                    <a:lnTo>
                      <a:pt x="1836" y="1962"/>
                    </a:lnTo>
                    <a:lnTo>
                      <a:pt x="1920" y="2112"/>
                    </a:lnTo>
                    <a:lnTo>
                      <a:pt x="2004" y="2208"/>
                    </a:lnTo>
                    <a:lnTo>
                      <a:pt x="2088" y="2262"/>
                    </a:lnTo>
                    <a:lnTo>
                      <a:pt x="2172" y="2304"/>
                    </a:lnTo>
                    <a:lnTo>
                      <a:pt x="2256" y="2328"/>
                    </a:lnTo>
                    <a:lnTo>
                      <a:pt x="2334" y="2352"/>
                    </a:lnTo>
                    <a:lnTo>
                      <a:pt x="2418" y="2364"/>
                    </a:lnTo>
                    <a:lnTo>
                      <a:pt x="2502" y="2376"/>
                    </a:lnTo>
                    <a:lnTo>
                      <a:pt x="2586" y="2376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2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2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76"/>
                    </a:lnTo>
                    <a:lnTo>
                      <a:pt x="2502" y="2376"/>
                    </a:lnTo>
                    <a:lnTo>
                      <a:pt x="2418" y="2370"/>
                    </a:lnTo>
                    <a:lnTo>
                      <a:pt x="2334" y="2358"/>
                    </a:lnTo>
                    <a:lnTo>
                      <a:pt x="2256" y="2340"/>
                    </a:lnTo>
                    <a:lnTo>
                      <a:pt x="2172" y="2316"/>
                    </a:lnTo>
                    <a:lnTo>
                      <a:pt x="2088" y="2286"/>
                    </a:lnTo>
                    <a:lnTo>
                      <a:pt x="2004" y="2244"/>
                    </a:lnTo>
                    <a:lnTo>
                      <a:pt x="1920" y="2178"/>
                    </a:lnTo>
                    <a:lnTo>
                      <a:pt x="1836" y="2082"/>
                    </a:lnTo>
                    <a:lnTo>
                      <a:pt x="1752" y="1902"/>
                    </a:lnTo>
                    <a:lnTo>
                      <a:pt x="1668" y="1680"/>
                    </a:lnTo>
                    <a:lnTo>
                      <a:pt x="1584" y="1122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912"/>
                    </a:lnTo>
                    <a:lnTo>
                      <a:pt x="1752" y="1272"/>
                    </a:lnTo>
                    <a:lnTo>
                      <a:pt x="1836" y="1752"/>
                    </a:lnTo>
                    <a:lnTo>
                      <a:pt x="1920" y="2010"/>
                    </a:lnTo>
                    <a:lnTo>
                      <a:pt x="2004" y="2154"/>
                    </a:lnTo>
                    <a:lnTo>
                      <a:pt x="2088" y="2238"/>
                    </a:lnTo>
                    <a:lnTo>
                      <a:pt x="2172" y="2292"/>
                    </a:lnTo>
                    <a:lnTo>
                      <a:pt x="2256" y="2322"/>
                    </a:lnTo>
                    <a:lnTo>
                      <a:pt x="2334" y="2346"/>
                    </a:lnTo>
                    <a:lnTo>
                      <a:pt x="2418" y="2364"/>
                    </a:lnTo>
                    <a:lnTo>
                      <a:pt x="2502" y="2376"/>
                    </a:lnTo>
                    <a:lnTo>
                      <a:pt x="2586" y="2376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2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2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76"/>
                    </a:lnTo>
                    <a:lnTo>
                      <a:pt x="2502" y="2376"/>
                    </a:lnTo>
                    <a:lnTo>
                      <a:pt x="2418" y="2364"/>
                    </a:lnTo>
                    <a:lnTo>
                      <a:pt x="2334" y="2352"/>
                    </a:lnTo>
                    <a:lnTo>
                      <a:pt x="2256" y="2328"/>
                    </a:lnTo>
                    <a:lnTo>
                      <a:pt x="2172" y="2304"/>
                    </a:lnTo>
                    <a:lnTo>
                      <a:pt x="2088" y="2262"/>
                    </a:lnTo>
                    <a:lnTo>
                      <a:pt x="2004" y="2208"/>
                    </a:lnTo>
                    <a:lnTo>
                      <a:pt x="1920" y="2112"/>
                    </a:lnTo>
                    <a:lnTo>
                      <a:pt x="1836" y="1962"/>
                    </a:lnTo>
                    <a:lnTo>
                      <a:pt x="1752" y="1674"/>
                    </a:lnTo>
                    <a:lnTo>
                      <a:pt x="1668" y="1224"/>
                    </a:lnTo>
                    <a:lnTo>
                      <a:pt x="1584" y="804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912"/>
                    </a:lnTo>
                    <a:lnTo>
                      <a:pt x="1752" y="1092"/>
                    </a:lnTo>
                    <a:lnTo>
                      <a:pt x="1836" y="1494"/>
                    </a:lnTo>
                    <a:lnTo>
                      <a:pt x="1920" y="1956"/>
                    </a:lnTo>
                    <a:lnTo>
                      <a:pt x="2004" y="2142"/>
                    </a:lnTo>
                    <a:lnTo>
                      <a:pt x="2088" y="2238"/>
                    </a:lnTo>
                    <a:lnTo>
                      <a:pt x="2172" y="2292"/>
                    </a:lnTo>
                    <a:lnTo>
                      <a:pt x="2256" y="2322"/>
                    </a:lnTo>
                    <a:lnTo>
                      <a:pt x="2334" y="2346"/>
                    </a:lnTo>
                    <a:lnTo>
                      <a:pt x="2418" y="2364"/>
                    </a:lnTo>
                    <a:lnTo>
                      <a:pt x="2502" y="2376"/>
                    </a:lnTo>
                    <a:lnTo>
                      <a:pt x="2586" y="2376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2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2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76"/>
                    </a:lnTo>
                    <a:lnTo>
                      <a:pt x="2502" y="2376"/>
                    </a:lnTo>
                    <a:lnTo>
                      <a:pt x="2418" y="2364"/>
                    </a:lnTo>
                    <a:lnTo>
                      <a:pt x="2334" y="2346"/>
                    </a:lnTo>
                    <a:lnTo>
                      <a:pt x="2256" y="2322"/>
                    </a:lnTo>
                    <a:lnTo>
                      <a:pt x="2172" y="2292"/>
                    </a:lnTo>
                    <a:lnTo>
                      <a:pt x="2088" y="2238"/>
                    </a:lnTo>
                    <a:lnTo>
                      <a:pt x="2004" y="2154"/>
                    </a:lnTo>
                    <a:lnTo>
                      <a:pt x="1920" y="2010"/>
                    </a:lnTo>
                    <a:lnTo>
                      <a:pt x="1836" y="1752"/>
                    </a:lnTo>
                    <a:lnTo>
                      <a:pt x="1752" y="1272"/>
                    </a:lnTo>
                    <a:lnTo>
                      <a:pt x="1668" y="912"/>
                    </a:lnTo>
                    <a:lnTo>
                      <a:pt x="1584" y="804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912"/>
                    </a:lnTo>
                    <a:lnTo>
                      <a:pt x="1752" y="1092"/>
                    </a:lnTo>
                    <a:lnTo>
                      <a:pt x="1836" y="1206"/>
                    </a:lnTo>
                    <a:lnTo>
                      <a:pt x="1920" y="1686"/>
                    </a:lnTo>
                    <a:lnTo>
                      <a:pt x="2004" y="2076"/>
                    </a:lnTo>
                    <a:lnTo>
                      <a:pt x="2088" y="2220"/>
                    </a:lnTo>
                    <a:lnTo>
                      <a:pt x="2172" y="2286"/>
                    </a:lnTo>
                    <a:lnTo>
                      <a:pt x="2256" y="2322"/>
                    </a:lnTo>
                    <a:lnTo>
                      <a:pt x="2334" y="2346"/>
                    </a:lnTo>
                    <a:lnTo>
                      <a:pt x="2418" y="2364"/>
                    </a:lnTo>
                    <a:lnTo>
                      <a:pt x="2502" y="2376"/>
                    </a:lnTo>
                    <a:lnTo>
                      <a:pt x="2586" y="2376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2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2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76"/>
                    </a:lnTo>
                    <a:lnTo>
                      <a:pt x="2502" y="2376"/>
                    </a:lnTo>
                    <a:lnTo>
                      <a:pt x="2418" y="2364"/>
                    </a:lnTo>
                    <a:lnTo>
                      <a:pt x="2334" y="2346"/>
                    </a:lnTo>
                    <a:lnTo>
                      <a:pt x="2256" y="2322"/>
                    </a:lnTo>
                    <a:lnTo>
                      <a:pt x="2172" y="2292"/>
                    </a:lnTo>
                    <a:lnTo>
                      <a:pt x="2088" y="2238"/>
                    </a:lnTo>
                    <a:lnTo>
                      <a:pt x="2004" y="2142"/>
                    </a:lnTo>
                    <a:lnTo>
                      <a:pt x="1920" y="1956"/>
                    </a:lnTo>
                    <a:lnTo>
                      <a:pt x="1836" y="1494"/>
                    </a:lnTo>
                    <a:lnTo>
                      <a:pt x="1752" y="1092"/>
                    </a:lnTo>
                    <a:lnTo>
                      <a:pt x="1668" y="912"/>
                    </a:lnTo>
                    <a:lnTo>
                      <a:pt x="1584" y="804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912"/>
                    </a:lnTo>
                    <a:lnTo>
                      <a:pt x="1752" y="1092"/>
                    </a:lnTo>
                    <a:lnTo>
                      <a:pt x="1836" y="1206"/>
                    </a:lnTo>
                    <a:lnTo>
                      <a:pt x="1920" y="1386"/>
                    </a:lnTo>
                    <a:lnTo>
                      <a:pt x="2004" y="1800"/>
                    </a:lnTo>
                    <a:lnTo>
                      <a:pt x="2088" y="2124"/>
                    </a:lnTo>
                    <a:lnTo>
                      <a:pt x="2172" y="2256"/>
                    </a:lnTo>
                    <a:lnTo>
                      <a:pt x="2256" y="2316"/>
                    </a:lnTo>
                    <a:lnTo>
                      <a:pt x="2334" y="2346"/>
                    </a:lnTo>
                    <a:lnTo>
                      <a:pt x="2418" y="2364"/>
                    </a:lnTo>
                    <a:lnTo>
                      <a:pt x="2502" y="2376"/>
                    </a:lnTo>
                    <a:lnTo>
                      <a:pt x="2586" y="2376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2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2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76"/>
                    </a:lnTo>
                    <a:lnTo>
                      <a:pt x="2502" y="2376"/>
                    </a:lnTo>
                    <a:lnTo>
                      <a:pt x="2418" y="2364"/>
                    </a:lnTo>
                    <a:lnTo>
                      <a:pt x="2334" y="2346"/>
                    </a:lnTo>
                    <a:lnTo>
                      <a:pt x="2256" y="2322"/>
                    </a:lnTo>
                    <a:lnTo>
                      <a:pt x="2172" y="2286"/>
                    </a:lnTo>
                    <a:lnTo>
                      <a:pt x="2088" y="2220"/>
                    </a:lnTo>
                    <a:lnTo>
                      <a:pt x="2004" y="2076"/>
                    </a:lnTo>
                    <a:lnTo>
                      <a:pt x="1920" y="1686"/>
                    </a:lnTo>
                    <a:lnTo>
                      <a:pt x="1836" y="1206"/>
                    </a:lnTo>
                    <a:lnTo>
                      <a:pt x="1752" y="1092"/>
                    </a:lnTo>
                    <a:lnTo>
                      <a:pt x="1668" y="912"/>
                    </a:lnTo>
                    <a:lnTo>
                      <a:pt x="1584" y="804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912"/>
                    </a:lnTo>
                    <a:lnTo>
                      <a:pt x="1752" y="1092"/>
                    </a:lnTo>
                    <a:lnTo>
                      <a:pt x="1836" y="1206"/>
                    </a:lnTo>
                    <a:lnTo>
                      <a:pt x="1920" y="1386"/>
                    </a:lnTo>
                    <a:lnTo>
                      <a:pt x="2004" y="1518"/>
                    </a:lnTo>
                    <a:lnTo>
                      <a:pt x="2088" y="1890"/>
                    </a:lnTo>
                    <a:lnTo>
                      <a:pt x="2172" y="2190"/>
                    </a:lnTo>
                    <a:lnTo>
                      <a:pt x="2256" y="2292"/>
                    </a:lnTo>
                    <a:lnTo>
                      <a:pt x="2334" y="2340"/>
                    </a:lnTo>
                    <a:lnTo>
                      <a:pt x="2418" y="2364"/>
                    </a:lnTo>
                    <a:lnTo>
                      <a:pt x="2502" y="2376"/>
                    </a:lnTo>
                    <a:lnTo>
                      <a:pt x="2586" y="2376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2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2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76"/>
                    </a:lnTo>
                    <a:lnTo>
                      <a:pt x="2502" y="2376"/>
                    </a:lnTo>
                    <a:lnTo>
                      <a:pt x="2418" y="2364"/>
                    </a:lnTo>
                    <a:lnTo>
                      <a:pt x="2334" y="2346"/>
                    </a:lnTo>
                    <a:lnTo>
                      <a:pt x="2256" y="2316"/>
                    </a:lnTo>
                    <a:lnTo>
                      <a:pt x="2172" y="2256"/>
                    </a:lnTo>
                    <a:lnTo>
                      <a:pt x="2088" y="2124"/>
                    </a:lnTo>
                    <a:lnTo>
                      <a:pt x="2004" y="1800"/>
                    </a:lnTo>
                    <a:lnTo>
                      <a:pt x="1920" y="1386"/>
                    </a:lnTo>
                    <a:lnTo>
                      <a:pt x="1836" y="1206"/>
                    </a:lnTo>
                    <a:lnTo>
                      <a:pt x="1752" y="1092"/>
                    </a:lnTo>
                    <a:lnTo>
                      <a:pt x="1668" y="912"/>
                    </a:lnTo>
                    <a:lnTo>
                      <a:pt x="1584" y="804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912"/>
                    </a:lnTo>
                    <a:lnTo>
                      <a:pt x="1752" y="1092"/>
                    </a:lnTo>
                    <a:lnTo>
                      <a:pt x="1836" y="1206"/>
                    </a:lnTo>
                    <a:lnTo>
                      <a:pt x="1920" y="1386"/>
                    </a:lnTo>
                    <a:lnTo>
                      <a:pt x="2004" y="1518"/>
                    </a:lnTo>
                    <a:lnTo>
                      <a:pt x="2088" y="1632"/>
                    </a:lnTo>
                    <a:lnTo>
                      <a:pt x="2172" y="1992"/>
                    </a:lnTo>
                    <a:lnTo>
                      <a:pt x="2256" y="2244"/>
                    </a:lnTo>
                    <a:lnTo>
                      <a:pt x="2334" y="2322"/>
                    </a:lnTo>
                    <a:lnTo>
                      <a:pt x="2418" y="2358"/>
                    </a:lnTo>
                    <a:lnTo>
                      <a:pt x="2502" y="2376"/>
                    </a:lnTo>
                    <a:lnTo>
                      <a:pt x="2586" y="2376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2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2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76"/>
                    </a:lnTo>
                    <a:lnTo>
                      <a:pt x="2502" y="2376"/>
                    </a:lnTo>
                    <a:lnTo>
                      <a:pt x="2418" y="2364"/>
                    </a:lnTo>
                    <a:lnTo>
                      <a:pt x="2334" y="2340"/>
                    </a:lnTo>
                    <a:lnTo>
                      <a:pt x="2256" y="2292"/>
                    </a:lnTo>
                    <a:lnTo>
                      <a:pt x="2172" y="2190"/>
                    </a:lnTo>
                    <a:lnTo>
                      <a:pt x="2088" y="1890"/>
                    </a:lnTo>
                    <a:lnTo>
                      <a:pt x="2004" y="1518"/>
                    </a:lnTo>
                    <a:lnTo>
                      <a:pt x="1920" y="1386"/>
                    </a:lnTo>
                    <a:lnTo>
                      <a:pt x="1836" y="1206"/>
                    </a:lnTo>
                    <a:lnTo>
                      <a:pt x="1752" y="1092"/>
                    </a:lnTo>
                    <a:lnTo>
                      <a:pt x="1668" y="912"/>
                    </a:lnTo>
                    <a:lnTo>
                      <a:pt x="1584" y="804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912"/>
                    </a:lnTo>
                    <a:lnTo>
                      <a:pt x="1752" y="1092"/>
                    </a:lnTo>
                    <a:lnTo>
                      <a:pt x="1836" y="1206"/>
                    </a:lnTo>
                    <a:lnTo>
                      <a:pt x="1920" y="1386"/>
                    </a:lnTo>
                    <a:lnTo>
                      <a:pt x="2004" y="1518"/>
                    </a:lnTo>
                    <a:lnTo>
                      <a:pt x="2088" y="1632"/>
                    </a:lnTo>
                    <a:lnTo>
                      <a:pt x="2172" y="1752"/>
                    </a:lnTo>
                    <a:lnTo>
                      <a:pt x="2256" y="2076"/>
                    </a:lnTo>
                    <a:lnTo>
                      <a:pt x="2334" y="2286"/>
                    </a:lnTo>
                    <a:lnTo>
                      <a:pt x="2418" y="2352"/>
                    </a:lnTo>
                    <a:lnTo>
                      <a:pt x="2502" y="2376"/>
                    </a:lnTo>
                    <a:lnTo>
                      <a:pt x="2586" y="2376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2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2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76"/>
                    </a:lnTo>
                    <a:lnTo>
                      <a:pt x="2502" y="2376"/>
                    </a:lnTo>
                    <a:lnTo>
                      <a:pt x="2418" y="2358"/>
                    </a:lnTo>
                    <a:lnTo>
                      <a:pt x="2334" y="2322"/>
                    </a:lnTo>
                    <a:lnTo>
                      <a:pt x="2256" y="2244"/>
                    </a:lnTo>
                    <a:lnTo>
                      <a:pt x="2172" y="1992"/>
                    </a:lnTo>
                    <a:lnTo>
                      <a:pt x="2088" y="1632"/>
                    </a:lnTo>
                    <a:lnTo>
                      <a:pt x="2004" y="1518"/>
                    </a:lnTo>
                    <a:lnTo>
                      <a:pt x="1920" y="1386"/>
                    </a:lnTo>
                    <a:lnTo>
                      <a:pt x="1836" y="1206"/>
                    </a:lnTo>
                    <a:lnTo>
                      <a:pt x="1752" y="1092"/>
                    </a:lnTo>
                    <a:lnTo>
                      <a:pt x="1668" y="912"/>
                    </a:lnTo>
                    <a:lnTo>
                      <a:pt x="1584" y="804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912"/>
                    </a:lnTo>
                    <a:lnTo>
                      <a:pt x="1752" y="1092"/>
                    </a:lnTo>
                    <a:lnTo>
                      <a:pt x="1836" y="1206"/>
                    </a:lnTo>
                    <a:lnTo>
                      <a:pt x="1920" y="1386"/>
                    </a:lnTo>
                    <a:lnTo>
                      <a:pt x="2004" y="1518"/>
                    </a:lnTo>
                    <a:lnTo>
                      <a:pt x="2088" y="1632"/>
                    </a:lnTo>
                    <a:lnTo>
                      <a:pt x="2172" y="1752"/>
                    </a:lnTo>
                    <a:lnTo>
                      <a:pt x="2256" y="1860"/>
                    </a:lnTo>
                    <a:lnTo>
                      <a:pt x="2334" y="2154"/>
                    </a:lnTo>
                    <a:lnTo>
                      <a:pt x="2418" y="2328"/>
                    </a:lnTo>
                    <a:lnTo>
                      <a:pt x="2502" y="2370"/>
                    </a:lnTo>
                    <a:lnTo>
                      <a:pt x="2586" y="2376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2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2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76"/>
                    </a:lnTo>
                    <a:lnTo>
                      <a:pt x="2502" y="2376"/>
                    </a:lnTo>
                    <a:lnTo>
                      <a:pt x="2418" y="2352"/>
                    </a:lnTo>
                    <a:lnTo>
                      <a:pt x="2334" y="2286"/>
                    </a:lnTo>
                    <a:lnTo>
                      <a:pt x="2256" y="2076"/>
                    </a:lnTo>
                    <a:lnTo>
                      <a:pt x="2172" y="1752"/>
                    </a:lnTo>
                    <a:lnTo>
                      <a:pt x="2088" y="1632"/>
                    </a:lnTo>
                    <a:lnTo>
                      <a:pt x="2004" y="1518"/>
                    </a:lnTo>
                    <a:lnTo>
                      <a:pt x="1920" y="1386"/>
                    </a:lnTo>
                    <a:lnTo>
                      <a:pt x="1836" y="1206"/>
                    </a:lnTo>
                    <a:lnTo>
                      <a:pt x="1752" y="1092"/>
                    </a:lnTo>
                    <a:lnTo>
                      <a:pt x="1668" y="912"/>
                    </a:lnTo>
                    <a:lnTo>
                      <a:pt x="1584" y="804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912"/>
                    </a:lnTo>
                    <a:lnTo>
                      <a:pt x="1752" y="1092"/>
                    </a:lnTo>
                    <a:lnTo>
                      <a:pt x="1836" y="1206"/>
                    </a:lnTo>
                    <a:lnTo>
                      <a:pt x="1920" y="1386"/>
                    </a:lnTo>
                    <a:lnTo>
                      <a:pt x="2004" y="1518"/>
                    </a:lnTo>
                    <a:lnTo>
                      <a:pt x="2088" y="1632"/>
                    </a:lnTo>
                    <a:lnTo>
                      <a:pt x="2172" y="1752"/>
                    </a:lnTo>
                    <a:lnTo>
                      <a:pt x="2256" y="1860"/>
                    </a:lnTo>
                    <a:lnTo>
                      <a:pt x="2334" y="1956"/>
                    </a:lnTo>
                    <a:lnTo>
                      <a:pt x="2418" y="2220"/>
                    </a:lnTo>
                    <a:lnTo>
                      <a:pt x="2502" y="2352"/>
                    </a:lnTo>
                    <a:lnTo>
                      <a:pt x="2586" y="2376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2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2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76"/>
                    </a:lnTo>
                    <a:lnTo>
                      <a:pt x="2502" y="2370"/>
                    </a:lnTo>
                    <a:lnTo>
                      <a:pt x="2418" y="2328"/>
                    </a:lnTo>
                    <a:lnTo>
                      <a:pt x="2334" y="2154"/>
                    </a:lnTo>
                    <a:lnTo>
                      <a:pt x="2256" y="1860"/>
                    </a:lnTo>
                    <a:lnTo>
                      <a:pt x="2172" y="1752"/>
                    </a:lnTo>
                    <a:lnTo>
                      <a:pt x="2088" y="1632"/>
                    </a:lnTo>
                    <a:lnTo>
                      <a:pt x="2004" y="1518"/>
                    </a:lnTo>
                    <a:lnTo>
                      <a:pt x="1920" y="1386"/>
                    </a:lnTo>
                    <a:lnTo>
                      <a:pt x="1836" y="1206"/>
                    </a:lnTo>
                    <a:lnTo>
                      <a:pt x="1752" y="1092"/>
                    </a:lnTo>
                    <a:lnTo>
                      <a:pt x="1668" y="912"/>
                    </a:lnTo>
                    <a:lnTo>
                      <a:pt x="1584" y="804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912"/>
                    </a:lnTo>
                    <a:lnTo>
                      <a:pt x="1752" y="1092"/>
                    </a:lnTo>
                    <a:lnTo>
                      <a:pt x="1836" y="1206"/>
                    </a:lnTo>
                    <a:lnTo>
                      <a:pt x="1920" y="1386"/>
                    </a:lnTo>
                    <a:lnTo>
                      <a:pt x="2004" y="1518"/>
                    </a:lnTo>
                    <a:lnTo>
                      <a:pt x="2088" y="1632"/>
                    </a:lnTo>
                    <a:lnTo>
                      <a:pt x="2172" y="1752"/>
                    </a:lnTo>
                    <a:lnTo>
                      <a:pt x="2256" y="1860"/>
                    </a:lnTo>
                    <a:lnTo>
                      <a:pt x="2334" y="1956"/>
                    </a:lnTo>
                    <a:lnTo>
                      <a:pt x="2418" y="2040"/>
                    </a:lnTo>
                    <a:lnTo>
                      <a:pt x="2502" y="2268"/>
                    </a:lnTo>
                    <a:lnTo>
                      <a:pt x="2586" y="2364"/>
                    </a:lnTo>
                    <a:lnTo>
                      <a:pt x="2670" y="2382"/>
                    </a:lnTo>
                    <a:lnTo>
                      <a:pt x="2754" y="2382"/>
                    </a:lnTo>
                    <a:lnTo>
                      <a:pt x="2838" y="2382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2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76"/>
                    </a:lnTo>
                    <a:lnTo>
                      <a:pt x="2502" y="2352"/>
                    </a:lnTo>
                    <a:lnTo>
                      <a:pt x="2418" y="2220"/>
                    </a:lnTo>
                    <a:lnTo>
                      <a:pt x="2334" y="1956"/>
                    </a:lnTo>
                    <a:lnTo>
                      <a:pt x="2256" y="1860"/>
                    </a:lnTo>
                    <a:lnTo>
                      <a:pt x="2172" y="1752"/>
                    </a:lnTo>
                    <a:lnTo>
                      <a:pt x="2088" y="1632"/>
                    </a:lnTo>
                    <a:lnTo>
                      <a:pt x="2004" y="1518"/>
                    </a:lnTo>
                    <a:lnTo>
                      <a:pt x="1920" y="1386"/>
                    </a:lnTo>
                    <a:lnTo>
                      <a:pt x="1836" y="1206"/>
                    </a:lnTo>
                    <a:lnTo>
                      <a:pt x="1752" y="1092"/>
                    </a:lnTo>
                    <a:lnTo>
                      <a:pt x="1668" y="912"/>
                    </a:lnTo>
                    <a:lnTo>
                      <a:pt x="1584" y="804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912"/>
                    </a:lnTo>
                    <a:lnTo>
                      <a:pt x="1752" y="1092"/>
                    </a:lnTo>
                    <a:lnTo>
                      <a:pt x="1836" y="1206"/>
                    </a:lnTo>
                    <a:lnTo>
                      <a:pt x="1920" y="1386"/>
                    </a:lnTo>
                    <a:lnTo>
                      <a:pt x="2004" y="1518"/>
                    </a:lnTo>
                    <a:lnTo>
                      <a:pt x="2088" y="1632"/>
                    </a:lnTo>
                    <a:lnTo>
                      <a:pt x="2172" y="1752"/>
                    </a:lnTo>
                    <a:lnTo>
                      <a:pt x="2256" y="1860"/>
                    </a:lnTo>
                    <a:lnTo>
                      <a:pt x="2334" y="1956"/>
                    </a:lnTo>
                    <a:lnTo>
                      <a:pt x="2418" y="2040"/>
                    </a:lnTo>
                    <a:lnTo>
                      <a:pt x="2502" y="2100"/>
                    </a:lnTo>
                    <a:lnTo>
                      <a:pt x="2586" y="2298"/>
                    </a:lnTo>
                    <a:lnTo>
                      <a:pt x="2670" y="2376"/>
                    </a:lnTo>
                    <a:lnTo>
                      <a:pt x="2754" y="2382"/>
                    </a:lnTo>
                    <a:lnTo>
                      <a:pt x="2838" y="2382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2"/>
                    </a:lnTo>
                    <a:lnTo>
                      <a:pt x="2754" y="2382"/>
                    </a:lnTo>
                    <a:lnTo>
                      <a:pt x="2670" y="2382"/>
                    </a:lnTo>
                    <a:lnTo>
                      <a:pt x="2586" y="2364"/>
                    </a:lnTo>
                    <a:lnTo>
                      <a:pt x="2502" y="2268"/>
                    </a:lnTo>
                    <a:lnTo>
                      <a:pt x="2418" y="2040"/>
                    </a:lnTo>
                    <a:lnTo>
                      <a:pt x="2334" y="1956"/>
                    </a:lnTo>
                    <a:lnTo>
                      <a:pt x="2256" y="1860"/>
                    </a:lnTo>
                    <a:lnTo>
                      <a:pt x="2172" y="1752"/>
                    </a:lnTo>
                    <a:lnTo>
                      <a:pt x="2088" y="1632"/>
                    </a:lnTo>
                    <a:lnTo>
                      <a:pt x="2004" y="1518"/>
                    </a:lnTo>
                    <a:lnTo>
                      <a:pt x="1920" y="1386"/>
                    </a:lnTo>
                    <a:lnTo>
                      <a:pt x="1836" y="1206"/>
                    </a:lnTo>
                    <a:lnTo>
                      <a:pt x="1752" y="1092"/>
                    </a:lnTo>
                    <a:lnTo>
                      <a:pt x="1668" y="912"/>
                    </a:lnTo>
                    <a:lnTo>
                      <a:pt x="1584" y="804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912"/>
                    </a:lnTo>
                    <a:lnTo>
                      <a:pt x="1752" y="1092"/>
                    </a:lnTo>
                    <a:lnTo>
                      <a:pt x="1836" y="1206"/>
                    </a:lnTo>
                    <a:lnTo>
                      <a:pt x="1920" y="1386"/>
                    </a:lnTo>
                    <a:lnTo>
                      <a:pt x="2004" y="1518"/>
                    </a:lnTo>
                    <a:lnTo>
                      <a:pt x="2088" y="1632"/>
                    </a:lnTo>
                    <a:lnTo>
                      <a:pt x="2172" y="1752"/>
                    </a:lnTo>
                    <a:lnTo>
                      <a:pt x="2256" y="1860"/>
                    </a:lnTo>
                    <a:lnTo>
                      <a:pt x="2334" y="1956"/>
                    </a:lnTo>
                    <a:lnTo>
                      <a:pt x="2418" y="2040"/>
                    </a:lnTo>
                    <a:lnTo>
                      <a:pt x="2502" y="2100"/>
                    </a:lnTo>
                    <a:lnTo>
                      <a:pt x="2586" y="2148"/>
                    </a:lnTo>
                    <a:lnTo>
                      <a:pt x="2670" y="2322"/>
                    </a:lnTo>
                    <a:lnTo>
                      <a:pt x="2754" y="2376"/>
                    </a:lnTo>
                    <a:lnTo>
                      <a:pt x="2838" y="2382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2"/>
                    </a:lnTo>
                    <a:lnTo>
                      <a:pt x="2754" y="2382"/>
                    </a:lnTo>
                    <a:lnTo>
                      <a:pt x="2670" y="2376"/>
                    </a:lnTo>
                    <a:lnTo>
                      <a:pt x="2586" y="2298"/>
                    </a:lnTo>
                    <a:lnTo>
                      <a:pt x="2502" y="2100"/>
                    </a:lnTo>
                    <a:lnTo>
                      <a:pt x="2418" y="2040"/>
                    </a:lnTo>
                    <a:lnTo>
                      <a:pt x="2334" y="1956"/>
                    </a:lnTo>
                    <a:lnTo>
                      <a:pt x="2256" y="1860"/>
                    </a:lnTo>
                    <a:lnTo>
                      <a:pt x="2172" y="1752"/>
                    </a:lnTo>
                    <a:lnTo>
                      <a:pt x="2088" y="1632"/>
                    </a:lnTo>
                    <a:lnTo>
                      <a:pt x="2004" y="1518"/>
                    </a:lnTo>
                    <a:lnTo>
                      <a:pt x="1920" y="1386"/>
                    </a:lnTo>
                    <a:lnTo>
                      <a:pt x="1836" y="1206"/>
                    </a:lnTo>
                    <a:lnTo>
                      <a:pt x="1752" y="1092"/>
                    </a:lnTo>
                    <a:lnTo>
                      <a:pt x="1668" y="912"/>
                    </a:lnTo>
                    <a:lnTo>
                      <a:pt x="1584" y="804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912"/>
                    </a:lnTo>
                    <a:lnTo>
                      <a:pt x="1752" y="1092"/>
                    </a:lnTo>
                    <a:lnTo>
                      <a:pt x="1836" y="1206"/>
                    </a:lnTo>
                    <a:lnTo>
                      <a:pt x="1920" y="1386"/>
                    </a:lnTo>
                    <a:lnTo>
                      <a:pt x="2004" y="1518"/>
                    </a:lnTo>
                    <a:lnTo>
                      <a:pt x="2088" y="1632"/>
                    </a:lnTo>
                    <a:lnTo>
                      <a:pt x="2172" y="1752"/>
                    </a:lnTo>
                    <a:lnTo>
                      <a:pt x="2256" y="1860"/>
                    </a:lnTo>
                    <a:lnTo>
                      <a:pt x="2334" y="1956"/>
                    </a:lnTo>
                    <a:lnTo>
                      <a:pt x="2418" y="2040"/>
                    </a:lnTo>
                    <a:lnTo>
                      <a:pt x="2502" y="2100"/>
                    </a:lnTo>
                    <a:lnTo>
                      <a:pt x="2586" y="2148"/>
                    </a:lnTo>
                    <a:lnTo>
                      <a:pt x="2670" y="2190"/>
                    </a:lnTo>
                    <a:lnTo>
                      <a:pt x="2754" y="2340"/>
                    </a:lnTo>
                    <a:lnTo>
                      <a:pt x="2838" y="2382"/>
                    </a:lnTo>
                    <a:lnTo>
                      <a:pt x="2922" y="2388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2"/>
                    </a:lnTo>
                    <a:lnTo>
                      <a:pt x="2754" y="2376"/>
                    </a:lnTo>
                    <a:lnTo>
                      <a:pt x="2670" y="2322"/>
                    </a:lnTo>
                    <a:lnTo>
                      <a:pt x="2586" y="2148"/>
                    </a:lnTo>
                    <a:lnTo>
                      <a:pt x="2502" y="2100"/>
                    </a:lnTo>
                    <a:lnTo>
                      <a:pt x="2418" y="2040"/>
                    </a:lnTo>
                    <a:lnTo>
                      <a:pt x="2334" y="1956"/>
                    </a:lnTo>
                    <a:lnTo>
                      <a:pt x="2256" y="1860"/>
                    </a:lnTo>
                    <a:lnTo>
                      <a:pt x="2172" y="1752"/>
                    </a:lnTo>
                    <a:lnTo>
                      <a:pt x="2088" y="1632"/>
                    </a:lnTo>
                    <a:lnTo>
                      <a:pt x="2004" y="1518"/>
                    </a:lnTo>
                    <a:lnTo>
                      <a:pt x="1920" y="1386"/>
                    </a:lnTo>
                    <a:lnTo>
                      <a:pt x="1836" y="1206"/>
                    </a:lnTo>
                    <a:lnTo>
                      <a:pt x="1752" y="1092"/>
                    </a:lnTo>
                    <a:lnTo>
                      <a:pt x="1668" y="912"/>
                    </a:lnTo>
                    <a:lnTo>
                      <a:pt x="1584" y="804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912"/>
                    </a:lnTo>
                    <a:lnTo>
                      <a:pt x="1752" y="1092"/>
                    </a:lnTo>
                    <a:lnTo>
                      <a:pt x="1836" y="1206"/>
                    </a:lnTo>
                    <a:lnTo>
                      <a:pt x="1920" y="1386"/>
                    </a:lnTo>
                    <a:lnTo>
                      <a:pt x="2004" y="1518"/>
                    </a:lnTo>
                    <a:lnTo>
                      <a:pt x="2088" y="1632"/>
                    </a:lnTo>
                    <a:lnTo>
                      <a:pt x="2172" y="1752"/>
                    </a:lnTo>
                    <a:lnTo>
                      <a:pt x="2256" y="1860"/>
                    </a:lnTo>
                    <a:lnTo>
                      <a:pt x="2334" y="1956"/>
                    </a:lnTo>
                    <a:lnTo>
                      <a:pt x="2418" y="2040"/>
                    </a:lnTo>
                    <a:lnTo>
                      <a:pt x="2502" y="2100"/>
                    </a:lnTo>
                    <a:lnTo>
                      <a:pt x="2586" y="2148"/>
                    </a:lnTo>
                    <a:lnTo>
                      <a:pt x="2670" y="2190"/>
                    </a:lnTo>
                    <a:lnTo>
                      <a:pt x="2754" y="2220"/>
                    </a:lnTo>
                    <a:lnTo>
                      <a:pt x="2838" y="2352"/>
                    </a:lnTo>
                    <a:lnTo>
                      <a:pt x="2922" y="2382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8"/>
                    </a:lnTo>
                    <a:lnTo>
                      <a:pt x="2838" y="2382"/>
                    </a:lnTo>
                    <a:lnTo>
                      <a:pt x="2754" y="2340"/>
                    </a:lnTo>
                    <a:lnTo>
                      <a:pt x="2670" y="2190"/>
                    </a:lnTo>
                    <a:lnTo>
                      <a:pt x="2586" y="2148"/>
                    </a:lnTo>
                    <a:lnTo>
                      <a:pt x="2502" y="2100"/>
                    </a:lnTo>
                    <a:lnTo>
                      <a:pt x="2418" y="2040"/>
                    </a:lnTo>
                    <a:lnTo>
                      <a:pt x="2334" y="1956"/>
                    </a:lnTo>
                    <a:lnTo>
                      <a:pt x="2256" y="1860"/>
                    </a:lnTo>
                    <a:lnTo>
                      <a:pt x="2172" y="1752"/>
                    </a:lnTo>
                    <a:lnTo>
                      <a:pt x="2088" y="1632"/>
                    </a:lnTo>
                    <a:lnTo>
                      <a:pt x="2004" y="1518"/>
                    </a:lnTo>
                    <a:lnTo>
                      <a:pt x="1920" y="1386"/>
                    </a:lnTo>
                    <a:lnTo>
                      <a:pt x="1836" y="1206"/>
                    </a:lnTo>
                    <a:lnTo>
                      <a:pt x="1752" y="1092"/>
                    </a:lnTo>
                    <a:lnTo>
                      <a:pt x="1668" y="912"/>
                    </a:lnTo>
                    <a:lnTo>
                      <a:pt x="1584" y="804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912"/>
                    </a:lnTo>
                    <a:lnTo>
                      <a:pt x="1752" y="1092"/>
                    </a:lnTo>
                    <a:lnTo>
                      <a:pt x="1836" y="1206"/>
                    </a:lnTo>
                    <a:lnTo>
                      <a:pt x="1920" y="1386"/>
                    </a:lnTo>
                    <a:lnTo>
                      <a:pt x="2004" y="1518"/>
                    </a:lnTo>
                    <a:lnTo>
                      <a:pt x="2088" y="1632"/>
                    </a:lnTo>
                    <a:lnTo>
                      <a:pt x="2172" y="1752"/>
                    </a:lnTo>
                    <a:lnTo>
                      <a:pt x="2256" y="1860"/>
                    </a:lnTo>
                    <a:lnTo>
                      <a:pt x="2334" y="1956"/>
                    </a:lnTo>
                    <a:lnTo>
                      <a:pt x="2418" y="2040"/>
                    </a:lnTo>
                    <a:lnTo>
                      <a:pt x="2502" y="2100"/>
                    </a:lnTo>
                    <a:lnTo>
                      <a:pt x="2586" y="2148"/>
                    </a:lnTo>
                    <a:lnTo>
                      <a:pt x="2670" y="2190"/>
                    </a:lnTo>
                    <a:lnTo>
                      <a:pt x="2754" y="2220"/>
                    </a:lnTo>
                    <a:lnTo>
                      <a:pt x="2838" y="2244"/>
                    </a:lnTo>
                    <a:lnTo>
                      <a:pt x="2922" y="2364"/>
                    </a:lnTo>
                    <a:lnTo>
                      <a:pt x="3006" y="2388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82"/>
                    </a:lnTo>
                    <a:lnTo>
                      <a:pt x="2838" y="2352"/>
                    </a:lnTo>
                    <a:lnTo>
                      <a:pt x="2754" y="2220"/>
                    </a:lnTo>
                    <a:lnTo>
                      <a:pt x="2670" y="2190"/>
                    </a:lnTo>
                    <a:lnTo>
                      <a:pt x="2586" y="2148"/>
                    </a:lnTo>
                    <a:lnTo>
                      <a:pt x="2502" y="2100"/>
                    </a:lnTo>
                    <a:lnTo>
                      <a:pt x="2418" y="2040"/>
                    </a:lnTo>
                    <a:lnTo>
                      <a:pt x="2334" y="1956"/>
                    </a:lnTo>
                    <a:lnTo>
                      <a:pt x="2256" y="1860"/>
                    </a:lnTo>
                    <a:lnTo>
                      <a:pt x="2172" y="1752"/>
                    </a:lnTo>
                    <a:lnTo>
                      <a:pt x="2088" y="1632"/>
                    </a:lnTo>
                    <a:lnTo>
                      <a:pt x="2004" y="1518"/>
                    </a:lnTo>
                    <a:lnTo>
                      <a:pt x="1920" y="1386"/>
                    </a:lnTo>
                    <a:lnTo>
                      <a:pt x="1836" y="1206"/>
                    </a:lnTo>
                    <a:lnTo>
                      <a:pt x="1752" y="1092"/>
                    </a:lnTo>
                    <a:lnTo>
                      <a:pt x="1668" y="912"/>
                    </a:lnTo>
                    <a:lnTo>
                      <a:pt x="1584" y="804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912"/>
                    </a:lnTo>
                    <a:lnTo>
                      <a:pt x="1752" y="1092"/>
                    </a:lnTo>
                    <a:lnTo>
                      <a:pt x="1836" y="1206"/>
                    </a:lnTo>
                    <a:lnTo>
                      <a:pt x="1920" y="1386"/>
                    </a:lnTo>
                    <a:lnTo>
                      <a:pt x="2004" y="1518"/>
                    </a:lnTo>
                    <a:lnTo>
                      <a:pt x="2088" y="1632"/>
                    </a:lnTo>
                    <a:lnTo>
                      <a:pt x="2172" y="1752"/>
                    </a:lnTo>
                    <a:lnTo>
                      <a:pt x="2256" y="1860"/>
                    </a:lnTo>
                    <a:lnTo>
                      <a:pt x="2334" y="1956"/>
                    </a:lnTo>
                    <a:lnTo>
                      <a:pt x="2418" y="2040"/>
                    </a:lnTo>
                    <a:lnTo>
                      <a:pt x="2502" y="2100"/>
                    </a:lnTo>
                    <a:lnTo>
                      <a:pt x="2586" y="2148"/>
                    </a:lnTo>
                    <a:lnTo>
                      <a:pt x="2670" y="2190"/>
                    </a:lnTo>
                    <a:lnTo>
                      <a:pt x="2754" y="2220"/>
                    </a:lnTo>
                    <a:lnTo>
                      <a:pt x="2838" y="2244"/>
                    </a:lnTo>
                    <a:lnTo>
                      <a:pt x="2922" y="2268"/>
                    </a:lnTo>
                    <a:lnTo>
                      <a:pt x="3006" y="2370"/>
                    </a:lnTo>
                    <a:lnTo>
                      <a:pt x="3090" y="2388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88"/>
                    </a:lnTo>
                    <a:lnTo>
                      <a:pt x="2922" y="2364"/>
                    </a:lnTo>
                    <a:lnTo>
                      <a:pt x="2838" y="2244"/>
                    </a:lnTo>
                    <a:lnTo>
                      <a:pt x="2754" y="2220"/>
                    </a:lnTo>
                    <a:lnTo>
                      <a:pt x="2670" y="2190"/>
                    </a:lnTo>
                    <a:lnTo>
                      <a:pt x="2586" y="2148"/>
                    </a:lnTo>
                    <a:lnTo>
                      <a:pt x="2502" y="2100"/>
                    </a:lnTo>
                    <a:lnTo>
                      <a:pt x="2418" y="2040"/>
                    </a:lnTo>
                    <a:lnTo>
                      <a:pt x="2334" y="1956"/>
                    </a:lnTo>
                    <a:lnTo>
                      <a:pt x="2256" y="1860"/>
                    </a:lnTo>
                    <a:lnTo>
                      <a:pt x="2172" y="1752"/>
                    </a:lnTo>
                    <a:lnTo>
                      <a:pt x="2088" y="1632"/>
                    </a:lnTo>
                    <a:lnTo>
                      <a:pt x="2004" y="1518"/>
                    </a:lnTo>
                    <a:lnTo>
                      <a:pt x="1920" y="1386"/>
                    </a:lnTo>
                    <a:lnTo>
                      <a:pt x="1836" y="1206"/>
                    </a:lnTo>
                    <a:lnTo>
                      <a:pt x="1752" y="1092"/>
                    </a:lnTo>
                    <a:lnTo>
                      <a:pt x="1668" y="912"/>
                    </a:lnTo>
                    <a:lnTo>
                      <a:pt x="1584" y="804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912"/>
                    </a:lnTo>
                    <a:lnTo>
                      <a:pt x="1752" y="1092"/>
                    </a:lnTo>
                    <a:lnTo>
                      <a:pt x="1836" y="1206"/>
                    </a:lnTo>
                    <a:lnTo>
                      <a:pt x="1920" y="1386"/>
                    </a:lnTo>
                    <a:lnTo>
                      <a:pt x="2004" y="1518"/>
                    </a:lnTo>
                    <a:lnTo>
                      <a:pt x="2088" y="1632"/>
                    </a:lnTo>
                    <a:lnTo>
                      <a:pt x="2172" y="1752"/>
                    </a:lnTo>
                    <a:lnTo>
                      <a:pt x="2256" y="1860"/>
                    </a:lnTo>
                    <a:lnTo>
                      <a:pt x="2334" y="1956"/>
                    </a:lnTo>
                    <a:lnTo>
                      <a:pt x="2418" y="2040"/>
                    </a:lnTo>
                    <a:lnTo>
                      <a:pt x="2502" y="2100"/>
                    </a:lnTo>
                    <a:lnTo>
                      <a:pt x="2586" y="2148"/>
                    </a:lnTo>
                    <a:lnTo>
                      <a:pt x="2670" y="2190"/>
                    </a:lnTo>
                    <a:lnTo>
                      <a:pt x="2754" y="2220"/>
                    </a:lnTo>
                    <a:lnTo>
                      <a:pt x="2838" y="2244"/>
                    </a:lnTo>
                    <a:lnTo>
                      <a:pt x="2922" y="2268"/>
                    </a:lnTo>
                    <a:lnTo>
                      <a:pt x="3006" y="2286"/>
                    </a:lnTo>
                    <a:lnTo>
                      <a:pt x="3090" y="2376"/>
                    </a:lnTo>
                    <a:lnTo>
                      <a:pt x="3174" y="2388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88"/>
                    </a:lnTo>
                    <a:lnTo>
                      <a:pt x="3006" y="2370"/>
                    </a:lnTo>
                    <a:lnTo>
                      <a:pt x="2922" y="2268"/>
                    </a:lnTo>
                    <a:lnTo>
                      <a:pt x="2838" y="2244"/>
                    </a:lnTo>
                    <a:lnTo>
                      <a:pt x="2754" y="2220"/>
                    </a:lnTo>
                    <a:lnTo>
                      <a:pt x="2670" y="2190"/>
                    </a:lnTo>
                    <a:lnTo>
                      <a:pt x="2586" y="2148"/>
                    </a:lnTo>
                    <a:lnTo>
                      <a:pt x="2502" y="2100"/>
                    </a:lnTo>
                    <a:lnTo>
                      <a:pt x="2418" y="2040"/>
                    </a:lnTo>
                    <a:lnTo>
                      <a:pt x="2334" y="1956"/>
                    </a:lnTo>
                    <a:lnTo>
                      <a:pt x="2256" y="1860"/>
                    </a:lnTo>
                    <a:lnTo>
                      <a:pt x="2172" y="1752"/>
                    </a:lnTo>
                    <a:lnTo>
                      <a:pt x="2088" y="1632"/>
                    </a:lnTo>
                    <a:lnTo>
                      <a:pt x="2004" y="1518"/>
                    </a:lnTo>
                    <a:lnTo>
                      <a:pt x="1920" y="1386"/>
                    </a:lnTo>
                    <a:lnTo>
                      <a:pt x="1836" y="1206"/>
                    </a:lnTo>
                    <a:lnTo>
                      <a:pt x="1752" y="1092"/>
                    </a:lnTo>
                    <a:lnTo>
                      <a:pt x="1668" y="912"/>
                    </a:lnTo>
                    <a:lnTo>
                      <a:pt x="1584" y="804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912"/>
                    </a:lnTo>
                    <a:lnTo>
                      <a:pt x="1752" y="1092"/>
                    </a:lnTo>
                    <a:lnTo>
                      <a:pt x="1836" y="1206"/>
                    </a:lnTo>
                    <a:lnTo>
                      <a:pt x="1920" y="1386"/>
                    </a:lnTo>
                    <a:lnTo>
                      <a:pt x="2004" y="1518"/>
                    </a:lnTo>
                    <a:lnTo>
                      <a:pt x="2088" y="1632"/>
                    </a:lnTo>
                    <a:lnTo>
                      <a:pt x="2172" y="1752"/>
                    </a:lnTo>
                    <a:lnTo>
                      <a:pt x="2256" y="1860"/>
                    </a:lnTo>
                    <a:lnTo>
                      <a:pt x="2334" y="1956"/>
                    </a:lnTo>
                    <a:lnTo>
                      <a:pt x="2418" y="2040"/>
                    </a:lnTo>
                    <a:lnTo>
                      <a:pt x="2502" y="2100"/>
                    </a:lnTo>
                    <a:lnTo>
                      <a:pt x="2586" y="2148"/>
                    </a:lnTo>
                    <a:lnTo>
                      <a:pt x="2670" y="2190"/>
                    </a:lnTo>
                    <a:lnTo>
                      <a:pt x="2754" y="2220"/>
                    </a:lnTo>
                    <a:lnTo>
                      <a:pt x="2838" y="2244"/>
                    </a:lnTo>
                    <a:lnTo>
                      <a:pt x="2922" y="2268"/>
                    </a:lnTo>
                    <a:lnTo>
                      <a:pt x="3006" y="2286"/>
                    </a:lnTo>
                    <a:lnTo>
                      <a:pt x="3090" y="2304"/>
                    </a:lnTo>
                    <a:lnTo>
                      <a:pt x="3174" y="2382"/>
                    </a:lnTo>
                    <a:lnTo>
                      <a:pt x="3252" y="2388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8"/>
                    </a:lnTo>
                    <a:lnTo>
                      <a:pt x="3090" y="2376"/>
                    </a:lnTo>
                    <a:lnTo>
                      <a:pt x="3006" y="2286"/>
                    </a:lnTo>
                    <a:lnTo>
                      <a:pt x="2922" y="2268"/>
                    </a:lnTo>
                    <a:lnTo>
                      <a:pt x="2838" y="2244"/>
                    </a:lnTo>
                    <a:lnTo>
                      <a:pt x="2754" y="2220"/>
                    </a:lnTo>
                    <a:lnTo>
                      <a:pt x="2670" y="2190"/>
                    </a:lnTo>
                    <a:lnTo>
                      <a:pt x="2586" y="2148"/>
                    </a:lnTo>
                    <a:lnTo>
                      <a:pt x="2502" y="2100"/>
                    </a:lnTo>
                    <a:lnTo>
                      <a:pt x="2418" y="2040"/>
                    </a:lnTo>
                    <a:lnTo>
                      <a:pt x="2334" y="1956"/>
                    </a:lnTo>
                    <a:lnTo>
                      <a:pt x="2256" y="1860"/>
                    </a:lnTo>
                    <a:lnTo>
                      <a:pt x="2172" y="1752"/>
                    </a:lnTo>
                    <a:lnTo>
                      <a:pt x="2088" y="1632"/>
                    </a:lnTo>
                    <a:lnTo>
                      <a:pt x="2004" y="1518"/>
                    </a:lnTo>
                    <a:lnTo>
                      <a:pt x="1920" y="1386"/>
                    </a:lnTo>
                    <a:lnTo>
                      <a:pt x="1836" y="1206"/>
                    </a:lnTo>
                    <a:lnTo>
                      <a:pt x="1752" y="1092"/>
                    </a:lnTo>
                    <a:lnTo>
                      <a:pt x="1668" y="912"/>
                    </a:lnTo>
                    <a:lnTo>
                      <a:pt x="1584" y="804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912"/>
                    </a:lnTo>
                    <a:lnTo>
                      <a:pt x="1752" y="1092"/>
                    </a:lnTo>
                    <a:lnTo>
                      <a:pt x="1836" y="1206"/>
                    </a:lnTo>
                    <a:lnTo>
                      <a:pt x="1920" y="1386"/>
                    </a:lnTo>
                    <a:lnTo>
                      <a:pt x="2004" y="1518"/>
                    </a:lnTo>
                    <a:lnTo>
                      <a:pt x="2088" y="1632"/>
                    </a:lnTo>
                    <a:lnTo>
                      <a:pt x="2172" y="1752"/>
                    </a:lnTo>
                    <a:lnTo>
                      <a:pt x="2256" y="1860"/>
                    </a:lnTo>
                    <a:lnTo>
                      <a:pt x="2334" y="1956"/>
                    </a:lnTo>
                    <a:lnTo>
                      <a:pt x="2418" y="2040"/>
                    </a:lnTo>
                    <a:lnTo>
                      <a:pt x="2502" y="2100"/>
                    </a:lnTo>
                    <a:lnTo>
                      <a:pt x="2586" y="2148"/>
                    </a:lnTo>
                    <a:lnTo>
                      <a:pt x="2670" y="2190"/>
                    </a:lnTo>
                    <a:lnTo>
                      <a:pt x="2754" y="2220"/>
                    </a:lnTo>
                    <a:lnTo>
                      <a:pt x="2838" y="2244"/>
                    </a:lnTo>
                    <a:lnTo>
                      <a:pt x="2922" y="2268"/>
                    </a:lnTo>
                    <a:lnTo>
                      <a:pt x="3006" y="2286"/>
                    </a:lnTo>
                    <a:lnTo>
                      <a:pt x="3090" y="2304"/>
                    </a:lnTo>
                    <a:lnTo>
                      <a:pt x="3174" y="2316"/>
                    </a:lnTo>
                    <a:lnTo>
                      <a:pt x="3252" y="2382"/>
                    </a:lnTo>
                    <a:lnTo>
                      <a:pt x="3336" y="2388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8"/>
                    </a:lnTo>
                    <a:lnTo>
                      <a:pt x="3174" y="2382"/>
                    </a:lnTo>
                    <a:lnTo>
                      <a:pt x="3090" y="2304"/>
                    </a:lnTo>
                    <a:lnTo>
                      <a:pt x="3006" y="2286"/>
                    </a:lnTo>
                    <a:lnTo>
                      <a:pt x="2922" y="2268"/>
                    </a:lnTo>
                    <a:lnTo>
                      <a:pt x="2838" y="2244"/>
                    </a:lnTo>
                    <a:lnTo>
                      <a:pt x="2754" y="2220"/>
                    </a:lnTo>
                    <a:lnTo>
                      <a:pt x="2670" y="2190"/>
                    </a:lnTo>
                    <a:lnTo>
                      <a:pt x="2586" y="2148"/>
                    </a:lnTo>
                    <a:lnTo>
                      <a:pt x="2502" y="2100"/>
                    </a:lnTo>
                    <a:lnTo>
                      <a:pt x="2418" y="2040"/>
                    </a:lnTo>
                    <a:lnTo>
                      <a:pt x="2334" y="1956"/>
                    </a:lnTo>
                    <a:lnTo>
                      <a:pt x="2256" y="1860"/>
                    </a:lnTo>
                    <a:lnTo>
                      <a:pt x="2172" y="1752"/>
                    </a:lnTo>
                    <a:lnTo>
                      <a:pt x="2088" y="1632"/>
                    </a:lnTo>
                    <a:lnTo>
                      <a:pt x="2004" y="1518"/>
                    </a:lnTo>
                    <a:lnTo>
                      <a:pt x="1920" y="1386"/>
                    </a:lnTo>
                    <a:lnTo>
                      <a:pt x="1836" y="1206"/>
                    </a:lnTo>
                    <a:lnTo>
                      <a:pt x="1752" y="1092"/>
                    </a:lnTo>
                    <a:lnTo>
                      <a:pt x="1668" y="912"/>
                    </a:lnTo>
                    <a:lnTo>
                      <a:pt x="1584" y="804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912"/>
                    </a:lnTo>
                    <a:lnTo>
                      <a:pt x="1752" y="1092"/>
                    </a:lnTo>
                    <a:lnTo>
                      <a:pt x="1836" y="1206"/>
                    </a:lnTo>
                    <a:lnTo>
                      <a:pt x="1920" y="1386"/>
                    </a:lnTo>
                    <a:lnTo>
                      <a:pt x="2004" y="1518"/>
                    </a:lnTo>
                    <a:lnTo>
                      <a:pt x="2088" y="1632"/>
                    </a:lnTo>
                    <a:lnTo>
                      <a:pt x="2172" y="1752"/>
                    </a:lnTo>
                    <a:lnTo>
                      <a:pt x="2256" y="1860"/>
                    </a:lnTo>
                    <a:lnTo>
                      <a:pt x="2334" y="1956"/>
                    </a:lnTo>
                    <a:lnTo>
                      <a:pt x="2418" y="2040"/>
                    </a:lnTo>
                    <a:lnTo>
                      <a:pt x="2502" y="2100"/>
                    </a:lnTo>
                    <a:lnTo>
                      <a:pt x="2586" y="2148"/>
                    </a:lnTo>
                    <a:lnTo>
                      <a:pt x="2670" y="2190"/>
                    </a:lnTo>
                    <a:lnTo>
                      <a:pt x="2754" y="2220"/>
                    </a:lnTo>
                    <a:lnTo>
                      <a:pt x="2838" y="2244"/>
                    </a:lnTo>
                    <a:lnTo>
                      <a:pt x="2922" y="2268"/>
                    </a:lnTo>
                    <a:lnTo>
                      <a:pt x="3006" y="2286"/>
                    </a:lnTo>
                    <a:lnTo>
                      <a:pt x="3090" y="2304"/>
                    </a:lnTo>
                    <a:lnTo>
                      <a:pt x="3174" y="2316"/>
                    </a:lnTo>
                    <a:lnTo>
                      <a:pt x="3252" y="2328"/>
                    </a:lnTo>
                    <a:lnTo>
                      <a:pt x="3336" y="2382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8"/>
                    </a:lnTo>
                    <a:lnTo>
                      <a:pt x="3252" y="2382"/>
                    </a:lnTo>
                    <a:lnTo>
                      <a:pt x="3174" y="2316"/>
                    </a:lnTo>
                    <a:lnTo>
                      <a:pt x="3090" y="2304"/>
                    </a:lnTo>
                    <a:lnTo>
                      <a:pt x="3006" y="2286"/>
                    </a:lnTo>
                    <a:lnTo>
                      <a:pt x="2922" y="2268"/>
                    </a:lnTo>
                    <a:lnTo>
                      <a:pt x="2838" y="2244"/>
                    </a:lnTo>
                    <a:lnTo>
                      <a:pt x="2754" y="2220"/>
                    </a:lnTo>
                    <a:lnTo>
                      <a:pt x="2670" y="2190"/>
                    </a:lnTo>
                    <a:lnTo>
                      <a:pt x="2586" y="2148"/>
                    </a:lnTo>
                    <a:lnTo>
                      <a:pt x="2502" y="2100"/>
                    </a:lnTo>
                    <a:lnTo>
                      <a:pt x="2418" y="2040"/>
                    </a:lnTo>
                    <a:lnTo>
                      <a:pt x="2334" y="1956"/>
                    </a:lnTo>
                    <a:lnTo>
                      <a:pt x="2256" y="1860"/>
                    </a:lnTo>
                    <a:lnTo>
                      <a:pt x="2172" y="1752"/>
                    </a:lnTo>
                    <a:lnTo>
                      <a:pt x="2088" y="1632"/>
                    </a:lnTo>
                    <a:lnTo>
                      <a:pt x="2004" y="1518"/>
                    </a:lnTo>
                    <a:lnTo>
                      <a:pt x="1920" y="1386"/>
                    </a:lnTo>
                    <a:lnTo>
                      <a:pt x="1836" y="1206"/>
                    </a:lnTo>
                    <a:lnTo>
                      <a:pt x="1752" y="1092"/>
                    </a:lnTo>
                    <a:lnTo>
                      <a:pt x="1668" y="912"/>
                    </a:lnTo>
                    <a:lnTo>
                      <a:pt x="1584" y="804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912"/>
                    </a:lnTo>
                    <a:lnTo>
                      <a:pt x="1752" y="1092"/>
                    </a:lnTo>
                    <a:lnTo>
                      <a:pt x="1836" y="1206"/>
                    </a:lnTo>
                    <a:lnTo>
                      <a:pt x="1920" y="1386"/>
                    </a:lnTo>
                    <a:lnTo>
                      <a:pt x="2004" y="1518"/>
                    </a:lnTo>
                    <a:lnTo>
                      <a:pt x="2088" y="1632"/>
                    </a:lnTo>
                    <a:lnTo>
                      <a:pt x="2172" y="1752"/>
                    </a:lnTo>
                    <a:lnTo>
                      <a:pt x="2256" y="1860"/>
                    </a:lnTo>
                    <a:lnTo>
                      <a:pt x="2334" y="1956"/>
                    </a:lnTo>
                    <a:lnTo>
                      <a:pt x="2418" y="2040"/>
                    </a:lnTo>
                    <a:lnTo>
                      <a:pt x="2502" y="2100"/>
                    </a:lnTo>
                    <a:lnTo>
                      <a:pt x="2586" y="2148"/>
                    </a:lnTo>
                    <a:lnTo>
                      <a:pt x="2670" y="2190"/>
                    </a:lnTo>
                    <a:lnTo>
                      <a:pt x="2754" y="2220"/>
                    </a:lnTo>
                    <a:lnTo>
                      <a:pt x="2838" y="2244"/>
                    </a:lnTo>
                    <a:lnTo>
                      <a:pt x="2922" y="2268"/>
                    </a:lnTo>
                    <a:lnTo>
                      <a:pt x="3006" y="2286"/>
                    </a:lnTo>
                    <a:lnTo>
                      <a:pt x="3090" y="2304"/>
                    </a:lnTo>
                    <a:lnTo>
                      <a:pt x="3174" y="2316"/>
                    </a:lnTo>
                    <a:lnTo>
                      <a:pt x="3252" y="2328"/>
                    </a:lnTo>
                    <a:lnTo>
                      <a:pt x="3336" y="2334"/>
                    </a:lnTo>
                    <a:lnTo>
                      <a:pt x="3420" y="2388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82"/>
                    </a:lnTo>
                    <a:lnTo>
                      <a:pt x="3252" y="2328"/>
                    </a:lnTo>
                    <a:lnTo>
                      <a:pt x="3174" y="2316"/>
                    </a:lnTo>
                    <a:lnTo>
                      <a:pt x="3090" y="2304"/>
                    </a:lnTo>
                    <a:lnTo>
                      <a:pt x="3006" y="2286"/>
                    </a:lnTo>
                    <a:lnTo>
                      <a:pt x="2922" y="2268"/>
                    </a:lnTo>
                    <a:lnTo>
                      <a:pt x="2838" y="2244"/>
                    </a:lnTo>
                    <a:lnTo>
                      <a:pt x="2754" y="2220"/>
                    </a:lnTo>
                    <a:lnTo>
                      <a:pt x="2670" y="2190"/>
                    </a:lnTo>
                    <a:lnTo>
                      <a:pt x="2586" y="2148"/>
                    </a:lnTo>
                    <a:lnTo>
                      <a:pt x="2502" y="2100"/>
                    </a:lnTo>
                    <a:lnTo>
                      <a:pt x="2418" y="2040"/>
                    </a:lnTo>
                    <a:lnTo>
                      <a:pt x="2334" y="1956"/>
                    </a:lnTo>
                    <a:lnTo>
                      <a:pt x="2256" y="1860"/>
                    </a:lnTo>
                    <a:lnTo>
                      <a:pt x="2172" y="1752"/>
                    </a:lnTo>
                    <a:lnTo>
                      <a:pt x="2088" y="1632"/>
                    </a:lnTo>
                    <a:lnTo>
                      <a:pt x="2004" y="1518"/>
                    </a:lnTo>
                    <a:lnTo>
                      <a:pt x="1920" y="1386"/>
                    </a:lnTo>
                    <a:lnTo>
                      <a:pt x="1836" y="1206"/>
                    </a:lnTo>
                    <a:lnTo>
                      <a:pt x="1752" y="1092"/>
                    </a:lnTo>
                    <a:lnTo>
                      <a:pt x="1668" y="912"/>
                    </a:lnTo>
                    <a:lnTo>
                      <a:pt x="1584" y="804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912"/>
                    </a:lnTo>
                    <a:lnTo>
                      <a:pt x="1752" y="1092"/>
                    </a:lnTo>
                    <a:lnTo>
                      <a:pt x="1836" y="1206"/>
                    </a:lnTo>
                    <a:lnTo>
                      <a:pt x="1920" y="1386"/>
                    </a:lnTo>
                    <a:lnTo>
                      <a:pt x="2004" y="1518"/>
                    </a:lnTo>
                    <a:lnTo>
                      <a:pt x="2088" y="1632"/>
                    </a:lnTo>
                    <a:lnTo>
                      <a:pt x="2172" y="1752"/>
                    </a:lnTo>
                    <a:lnTo>
                      <a:pt x="2256" y="1860"/>
                    </a:lnTo>
                    <a:lnTo>
                      <a:pt x="2334" y="1956"/>
                    </a:lnTo>
                    <a:lnTo>
                      <a:pt x="2418" y="2040"/>
                    </a:lnTo>
                    <a:lnTo>
                      <a:pt x="2502" y="2100"/>
                    </a:lnTo>
                    <a:lnTo>
                      <a:pt x="2586" y="2148"/>
                    </a:lnTo>
                    <a:lnTo>
                      <a:pt x="2670" y="2190"/>
                    </a:lnTo>
                    <a:lnTo>
                      <a:pt x="2754" y="2220"/>
                    </a:lnTo>
                    <a:lnTo>
                      <a:pt x="2838" y="2244"/>
                    </a:lnTo>
                    <a:lnTo>
                      <a:pt x="2922" y="2268"/>
                    </a:lnTo>
                    <a:lnTo>
                      <a:pt x="3006" y="2286"/>
                    </a:lnTo>
                    <a:lnTo>
                      <a:pt x="3090" y="2304"/>
                    </a:lnTo>
                    <a:lnTo>
                      <a:pt x="3174" y="2316"/>
                    </a:lnTo>
                    <a:lnTo>
                      <a:pt x="3252" y="2328"/>
                    </a:lnTo>
                    <a:lnTo>
                      <a:pt x="3336" y="2334"/>
                    </a:lnTo>
                    <a:lnTo>
                      <a:pt x="3420" y="2346"/>
                    </a:lnTo>
                    <a:lnTo>
                      <a:pt x="3504" y="2388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88"/>
                    </a:lnTo>
                    <a:lnTo>
                      <a:pt x="3336" y="2334"/>
                    </a:lnTo>
                    <a:lnTo>
                      <a:pt x="3252" y="2328"/>
                    </a:lnTo>
                    <a:lnTo>
                      <a:pt x="3174" y="2316"/>
                    </a:lnTo>
                    <a:lnTo>
                      <a:pt x="3090" y="2304"/>
                    </a:lnTo>
                    <a:lnTo>
                      <a:pt x="3006" y="2286"/>
                    </a:lnTo>
                    <a:lnTo>
                      <a:pt x="2922" y="2268"/>
                    </a:lnTo>
                    <a:lnTo>
                      <a:pt x="2838" y="2244"/>
                    </a:lnTo>
                    <a:lnTo>
                      <a:pt x="2754" y="2220"/>
                    </a:lnTo>
                    <a:lnTo>
                      <a:pt x="2670" y="2190"/>
                    </a:lnTo>
                    <a:lnTo>
                      <a:pt x="2586" y="2148"/>
                    </a:lnTo>
                    <a:lnTo>
                      <a:pt x="2502" y="2100"/>
                    </a:lnTo>
                    <a:lnTo>
                      <a:pt x="2418" y="2040"/>
                    </a:lnTo>
                    <a:lnTo>
                      <a:pt x="2334" y="1956"/>
                    </a:lnTo>
                    <a:lnTo>
                      <a:pt x="2256" y="1860"/>
                    </a:lnTo>
                    <a:lnTo>
                      <a:pt x="2172" y="1752"/>
                    </a:lnTo>
                    <a:lnTo>
                      <a:pt x="2088" y="1632"/>
                    </a:lnTo>
                    <a:lnTo>
                      <a:pt x="2004" y="1518"/>
                    </a:lnTo>
                    <a:lnTo>
                      <a:pt x="1920" y="1386"/>
                    </a:lnTo>
                    <a:lnTo>
                      <a:pt x="1836" y="1206"/>
                    </a:lnTo>
                    <a:lnTo>
                      <a:pt x="1752" y="1092"/>
                    </a:lnTo>
                    <a:lnTo>
                      <a:pt x="1668" y="912"/>
                    </a:lnTo>
                    <a:lnTo>
                      <a:pt x="1584" y="804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912"/>
                    </a:lnTo>
                    <a:lnTo>
                      <a:pt x="1752" y="1092"/>
                    </a:lnTo>
                    <a:lnTo>
                      <a:pt x="1836" y="1206"/>
                    </a:lnTo>
                    <a:lnTo>
                      <a:pt x="1920" y="1386"/>
                    </a:lnTo>
                    <a:lnTo>
                      <a:pt x="2004" y="1518"/>
                    </a:lnTo>
                    <a:lnTo>
                      <a:pt x="2088" y="1632"/>
                    </a:lnTo>
                    <a:lnTo>
                      <a:pt x="2172" y="1752"/>
                    </a:lnTo>
                    <a:lnTo>
                      <a:pt x="2256" y="1860"/>
                    </a:lnTo>
                    <a:lnTo>
                      <a:pt x="2334" y="1956"/>
                    </a:lnTo>
                    <a:lnTo>
                      <a:pt x="2418" y="2040"/>
                    </a:lnTo>
                    <a:lnTo>
                      <a:pt x="2502" y="2100"/>
                    </a:lnTo>
                    <a:lnTo>
                      <a:pt x="2586" y="2148"/>
                    </a:lnTo>
                    <a:lnTo>
                      <a:pt x="2670" y="2190"/>
                    </a:lnTo>
                    <a:lnTo>
                      <a:pt x="2754" y="2220"/>
                    </a:lnTo>
                    <a:lnTo>
                      <a:pt x="2838" y="2244"/>
                    </a:lnTo>
                    <a:lnTo>
                      <a:pt x="2922" y="2268"/>
                    </a:lnTo>
                    <a:lnTo>
                      <a:pt x="3006" y="2286"/>
                    </a:lnTo>
                    <a:lnTo>
                      <a:pt x="3090" y="2304"/>
                    </a:lnTo>
                    <a:lnTo>
                      <a:pt x="3174" y="2316"/>
                    </a:lnTo>
                    <a:lnTo>
                      <a:pt x="3252" y="2328"/>
                    </a:lnTo>
                    <a:lnTo>
                      <a:pt x="3336" y="2334"/>
                    </a:lnTo>
                    <a:lnTo>
                      <a:pt x="3420" y="2346"/>
                    </a:lnTo>
                    <a:lnTo>
                      <a:pt x="3504" y="2352"/>
                    </a:lnTo>
                    <a:lnTo>
                      <a:pt x="3588" y="238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88"/>
                    </a:lnTo>
                    <a:lnTo>
                      <a:pt x="3420" y="2346"/>
                    </a:lnTo>
                    <a:lnTo>
                      <a:pt x="3336" y="2334"/>
                    </a:lnTo>
                    <a:lnTo>
                      <a:pt x="3252" y="2328"/>
                    </a:lnTo>
                    <a:lnTo>
                      <a:pt x="3174" y="2316"/>
                    </a:lnTo>
                    <a:lnTo>
                      <a:pt x="3090" y="2304"/>
                    </a:lnTo>
                    <a:lnTo>
                      <a:pt x="3006" y="2286"/>
                    </a:lnTo>
                    <a:lnTo>
                      <a:pt x="2922" y="2268"/>
                    </a:lnTo>
                    <a:lnTo>
                      <a:pt x="2838" y="2244"/>
                    </a:lnTo>
                    <a:lnTo>
                      <a:pt x="2754" y="2220"/>
                    </a:lnTo>
                    <a:lnTo>
                      <a:pt x="2670" y="2190"/>
                    </a:lnTo>
                    <a:lnTo>
                      <a:pt x="2586" y="2148"/>
                    </a:lnTo>
                    <a:lnTo>
                      <a:pt x="2502" y="2100"/>
                    </a:lnTo>
                    <a:lnTo>
                      <a:pt x="2418" y="2040"/>
                    </a:lnTo>
                    <a:lnTo>
                      <a:pt x="2334" y="1956"/>
                    </a:lnTo>
                    <a:lnTo>
                      <a:pt x="2256" y="1860"/>
                    </a:lnTo>
                    <a:lnTo>
                      <a:pt x="2172" y="1752"/>
                    </a:lnTo>
                    <a:lnTo>
                      <a:pt x="2088" y="1632"/>
                    </a:lnTo>
                    <a:lnTo>
                      <a:pt x="2004" y="1518"/>
                    </a:lnTo>
                    <a:lnTo>
                      <a:pt x="1920" y="1386"/>
                    </a:lnTo>
                    <a:lnTo>
                      <a:pt x="1836" y="1206"/>
                    </a:lnTo>
                    <a:lnTo>
                      <a:pt x="1752" y="1092"/>
                    </a:lnTo>
                    <a:lnTo>
                      <a:pt x="1668" y="912"/>
                    </a:lnTo>
                    <a:lnTo>
                      <a:pt x="1584" y="804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912"/>
                    </a:lnTo>
                    <a:lnTo>
                      <a:pt x="1752" y="1092"/>
                    </a:lnTo>
                    <a:lnTo>
                      <a:pt x="1836" y="1206"/>
                    </a:lnTo>
                    <a:lnTo>
                      <a:pt x="1920" y="1386"/>
                    </a:lnTo>
                    <a:lnTo>
                      <a:pt x="2004" y="1518"/>
                    </a:lnTo>
                    <a:lnTo>
                      <a:pt x="2088" y="1632"/>
                    </a:lnTo>
                    <a:lnTo>
                      <a:pt x="2172" y="1752"/>
                    </a:lnTo>
                    <a:lnTo>
                      <a:pt x="2256" y="1860"/>
                    </a:lnTo>
                    <a:lnTo>
                      <a:pt x="2334" y="1956"/>
                    </a:lnTo>
                    <a:lnTo>
                      <a:pt x="2418" y="2040"/>
                    </a:lnTo>
                    <a:lnTo>
                      <a:pt x="2502" y="2100"/>
                    </a:lnTo>
                    <a:lnTo>
                      <a:pt x="2586" y="2148"/>
                    </a:lnTo>
                    <a:lnTo>
                      <a:pt x="2670" y="2190"/>
                    </a:lnTo>
                    <a:lnTo>
                      <a:pt x="2754" y="2220"/>
                    </a:lnTo>
                    <a:lnTo>
                      <a:pt x="2838" y="2244"/>
                    </a:lnTo>
                    <a:lnTo>
                      <a:pt x="2922" y="2268"/>
                    </a:lnTo>
                    <a:lnTo>
                      <a:pt x="3006" y="2286"/>
                    </a:lnTo>
                    <a:lnTo>
                      <a:pt x="3090" y="2304"/>
                    </a:lnTo>
                    <a:lnTo>
                      <a:pt x="3174" y="2316"/>
                    </a:lnTo>
                    <a:lnTo>
                      <a:pt x="3252" y="2328"/>
                    </a:lnTo>
                    <a:lnTo>
                      <a:pt x="3336" y="2334"/>
                    </a:lnTo>
                    <a:lnTo>
                      <a:pt x="3420" y="2346"/>
                    </a:lnTo>
                    <a:lnTo>
                      <a:pt x="3504" y="2352"/>
                    </a:lnTo>
                    <a:lnTo>
                      <a:pt x="3588" y="2358"/>
                    </a:lnTo>
                    <a:lnTo>
                      <a:pt x="3672" y="2388"/>
                    </a:lnTo>
                    <a:lnTo>
                      <a:pt x="3672" y="2388"/>
                    </a:lnTo>
                    <a:lnTo>
                      <a:pt x="3588" y="2388"/>
                    </a:lnTo>
                    <a:lnTo>
                      <a:pt x="3504" y="2352"/>
                    </a:lnTo>
                    <a:lnTo>
                      <a:pt x="3420" y="2346"/>
                    </a:lnTo>
                    <a:lnTo>
                      <a:pt x="3336" y="2334"/>
                    </a:lnTo>
                    <a:lnTo>
                      <a:pt x="3252" y="2328"/>
                    </a:lnTo>
                    <a:lnTo>
                      <a:pt x="3174" y="2316"/>
                    </a:lnTo>
                    <a:lnTo>
                      <a:pt x="3090" y="2304"/>
                    </a:lnTo>
                    <a:lnTo>
                      <a:pt x="3006" y="2286"/>
                    </a:lnTo>
                    <a:lnTo>
                      <a:pt x="2922" y="2268"/>
                    </a:lnTo>
                    <a:lnTo>
                      <a:pt x="2838" y="2244"/>
                    </a:lnTo>
                    <a:lnTo>
                      <a:pt x="2754" y="2220"/>
                    </a:lnTo>
                    <a:lnTo>
                      <a:pt x="2670" y="2190"/>
                    </a:lnTo>
                    <a:lnTo>
                      <a:pt x="2586" y="2148"/>
                    </a:lnTo>
                    <a:lnTo>
                      <a:pt x="2502" y="2100"/>
                    </a:lnTo>
                    <a:lnTo>
                      <a:pt x="2418" y="2040"/>
                    </a:lnTo>
                    <a:lnTo>
                      <a:pt x="2334" y="1956"/>
                    </a:lnTo>
                    <a:lnTo>
                      <a:pt x="2256" y="1860"/>
                    </a:lnTo>
                    <a:lnTo>
                      <a:pt x="2172" y="1752"/>
                    </a:lnTo>
                    <a:lnTo>
                      <a:pt x="2088" y="1632"/>
                    </a:lnTo>
                    <a:lnTo>
                      <a:pt x="2004" y="1518"/>
                    </a:lnTo>
                    <a:lnTo>
                      <a:pt x="1920" y="1386"/>
                    </a:lnTo>
                    <a:lnTo>
                      <a:pt x="1836" y="1206"/>
                    </a:lnTo>
                    <a:lnTo>
                      <a:pt x="1752" y="1092"/>
                    </a:lnTo>
                    <a:lnTo>
                      <a:pt x="1668" y="912"/>
                    </a:lnTo>
                    <a:lnTo>
                      <a:pt x="1584" y="804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762200" y="1800360"/>
                <a:ext cx="5829120" cy="3791160"/>
              </a:xfrm>
              <a:custGeom>
                <a:avLst/>
                <a:gdLst/>
                <a:ahLst/>
                <a:rect l="l" t="t" r="r" b="b"/>
                <a:pathLst>
                  <a:path w="3672" h="2388">
                    <a:moveTo>
                      <a:pt x="0" y="1920"/>
                    </a:moveTo>
                    <a:lnTo>
                      <a:pt x="0" y="1920"/>
                    </a:lnTo>
                    <a:lnTo>
                      <a:pt x="84" y="894"/>
                    </a:lnTo>
                    <a:lnTo>
                      <a:pt x="168" y="342"/>
                    </a:lnTo>
                    <a:lnTo>
                      <a:pt x="252" y="102"/>
                    </a:lnTo>
                    <a:lnTo>
                      <a:pt x="336" y="0"/>
                    </a:lnTo>
                    <a:lnTo>
                      <a:pt x="420" y="414"/>
                    </a:lnTo>
                    <a:lnTo>
                      <a:pt x="498" y="282"/>
                    </a:lnTo>
                    <a:lnTo>
                      <a:pt x="582" y="768"/>
                    </a:lnTo>
                    <a:lnTo>
                      <a:pt x="666" y="768"/>
                    </a:lnTo>
                    <a:lnTo>
                      <a:pt x="750" y="468"/>
                    </a:lnTo>
                    <a:lnTo>
                      <a:pt x="834" y="324"/>
                    </a:lnTo>
                    <a:lnTo>
                      <a:pt x="918" y="432"/>
                    </a:lnTo>
                    <a:lnTo>
                      <a:pt x="1002" y="600"/>
                    </a:lnTo>
                    <a:lnTo>
                      <a:pt x="1086" y="522"/>
                    </a:lnTo>
                    <a:lnTo>
                      <a:pt x="1170" y="732"/>
                    </a:lnTo>
                    <a:lnTo>
                      <a:pt x="1254" y="1050"/>
                    </a:lnTo>
                    <a:lnTo>
                      <a:pt x="1338" y="1062"/>
                    </a:lnTo>
                    <a:lnTo>
                      <a:pt x="1416" y="1056"/>
                    </a:lnTo>
                    <a:lnTo>
                      <a:pt x="1500" y="834"/>
                    </a:lnTo>
                    <a:lnTo>
                      <a:pt x="1584" y="804"/>
                    </a:lnTo>
                    <a:lnTo>
                      <a:pt x="1668" y="912"/>
                    </a:lnTo>
                    <a:lnTo>
                      <a:pt x="1752" y="1092"/>
                    </a:lnTo>
                    <a:lnTo>
                      <a:pt x="1836" y="1206"/>
                    </a:lnTo>
                    <a:lnTo>
                      <a:pt x="1920" y="1386"/>
                    </a:lnTo>
                    <a:lnTo>
                      <a:pt x="2004" y="1518"/>
                    </a:lnTo>
                    <a:lnTo>
                      <a:pt x="2088" y="1632"/>
                    </a:lnTo>
                    <a:lnTo>
                      <a:pt x="2172" y="1752"/>
                    </a:lnTo>
                    <a:lnTo>
                      <a:pt x="2256" y="1860"/>
                    </a:lnTo>
                    <a:lnTo>
                      <a:pt x="2334" y="1956"/>
                    </a:lnTo>
                    <a:lnTo>
                      <a:pt x="2418" y="2040"/>
                    </a:lnTo>
                    <a:lnTo>
                      <a:pt x="2502" y="2100"/>
                    </a:lnTo>
                    <a:lnTo>
                      <a:pt x="2586" y="2148"/>
                    </a:lnTo>
                    <a:lnTo>
                      <a:pt x="2670" y="2190"/>
                    </a:lnTo>
                    <a:lnTo>
                      <a:pt x="2754" y="2220"/>
                    </a:lnTo>
                    <a:lnTo>
                      <a:pt x="2838" y="2244"/>
                    </a:lnTo>
                    <a:lnTo>
                      <a:pt x="2922" y="2268"/>
                    </a:lnTo>
                    <a:lnTo>
                      <a:pt x="3006" y="2286"/>
                    </a:lnTo>
                    <a:lnTo>
                      <a:pt x="3090" y="2304"/>
                    </a:lnTo>
                    <a:lnTo>
                      <a:pt x="3174" y="2316"/>
                    </a:lnTo>
                    <a:lnTo>
                      <a:pt x="3252" y="2328"/>
                    </a:lnTo>
                    <a:lnTo>
                      <a:pt x="3336" y="2334"/>
                    </a:lnTo>
                    <a:lnTo>
                      <a:pt x="3420" y="2346"/>
                    </a:lnTo>
                    <a:lnTo>
                      <a:pt x="3504" y="2352"/>
                    </a:lnTo>
                    <a:lnTo>
                      <a:pt x="3588" y="2358"/>
                    </a:lnTo>
                    <a:lnTo>
                      <a:pt x="3672" y="2358"/>
                    </a:lnTo>
                    <a:lnTo>
                      <a:pt x="3672" y="2388"/>
                    </a:lnTo>
                    <a:lnTo>
                      <a:pt x="3588" y="2358"/>
                    </a:lnTo>
                    <a:lnTo>
                      <a:pt x="3504" y="2352"/>
                    </a:lnTo>
                    <a:lnTo>
                      <a:pt x="3420" y="2346"/>
                    </a:lnTo>
                    <a:lnTo>
                      <a:pt x="3336" y="2334"/>
                    </a:lnTo>
                    <a:lnTo>
                      <a:pt x="3252" y="2328"/>
                    </a:lnTo>
                    <a:lnTo>
                      <a:pt x="3174" y="2316"/>
                    </a:lnTo>
                    <a:lnTo>
                      <a:pt x="3090" y="2304"/>
                    </a:lnTo>
                    <a:lnTo>
                      <a:pt x="3006" y="2286"/>
                    </a:lnTo>
                    <a:lnTo>
                      <a:pt x="2922" y="2268"/>
                    </a:lnTo>
                    <a:lnTo>
                      <a:pt x="2838" y="2244"/>
                    </a:lnTo>
                    <a:lnTo>
                      <a:pt x="2754" y="2220"/>
                    </a:lnTo>
                    <a:lnTo>
                      <a:pt x="2670" y="2190"/>
                    </a:lnTo>
                    <a:lnTo>
                      <a:pt x="2586" y="2148"/>
                    </a:lnTo>
                    <a:lnTo>
                      <a:pt x="2502" y="2100"/>
                    </a:lnTo>
                    <a:lnTo>
                      <a:pt x="2418" y="2040"/>
                    </a:lnTo>
                    <a:lnTo>
                      <a:pt x="2334" y="1956"/>
                    </a:lnTo>
                    <a:lnTo>
                      <a:pt x="2256" y="1860"/>
                    </a:lnTo>
                    <a:lnTo>
                      <a:pt x="2172" y="1752"/>
                    </a:lnTo>
                    <a:lnTo>
                      <a:pt x="2088" y="1632"/>
                    </a:lnTo>
                    <a:lnTo>
                      <a:pt x="2004" y="1518"/>
                    </a:lnTo>
                    <a:lnTo>
                      <a:pt x="1920" y="1386"/>
                    </a:lnTo>
                    <a:lnTo>
                      <a:pt x="1836" y="1206"/>
                    </a:lnTo>
                    <a:lnTo>
                      <a:pt x="1752" y="1092"/>
                    </a:lnTo>
                    <a:lnTo>
                      <a:pt x="1668" y="912"/>
                    </a:lnTo>
                    <a:lnTo>
                      <a:pt x="1584" y="804"/>
                    </a:lnTo>
                    <a:lnTo>
                      <a:pt x="1500" y="834"/>
                    </a:lnTo>
                    <a:lnTo>
                      <a:pt x="1416" y="1056"/>
                    </a:lnTo>
                    <a:lnTo>
                      <a:pt x="1338" y="1062"/>
                    </a:lnTo>
                    <a:lnTo>
                      <a:pt x="1254" y="1050"/>
                    </a:lnTo>
                    <a:lnTo>
                      <a:pt x="1170" y="732"/>
                    </a:lnTo>
                    <a:lnTo>
                      <a:pt x="1086" y="522"/>
                    </a:lnTo>
                    <a:lnTo>
                      <a:pt x="1002" y="600"/>
                    </a:lnTo>
                    <a:lnTo>
                      <a:pt x="918" y="432"/>
                    </a:lnTo>
                    <a:lnTo>
                      <a:pt x="834" y="324"/>
                    </a:lnTo>
                    <a:lnTo>
                      <a:pt x="750" y="468"/>
                    </a:lnTo>
                    <a:lnTo>
                      <a:pt x="666" y="768"/>
                    </a:lnTo>
                    <a:lnTo>
                      <a:pt x="582" y="768"/>
                    </a:lnTo>
                    <a:lnTo>
                      <a:pt x="498" y="282"/>
                    </a:lnTo>
                    <a:lnTo>
                      <a:pt x="420" y="414"/>
                    </a:lnTo>
                    <a:lnTo>
                      <a:pt x="336" y="0"/>
                    </a:lnTo>
                    <a:lnTo>
                      <a:pt x="252" y="102"/>
                    </a:lnTo>
                    <a:lnTo>
                      <a:pt x="168" y="342"/>
                    </a:lnTo>
                    <a:lnTo>
                      <a:pt x="84" y="894"/>
                    </a:lnTo>
                    <a:lnTo>
                      <a:pt x="0" y="19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762200" y="1447920"/>
                <a:ext cx="1440" cy="414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724040" y="5591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724040" y="50770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724040" y="45532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724040" y="40388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724040" y="352440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724040" y="30006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724040" y="248616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724040" y="196236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724040" y="144792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1762200" y="5591520"/>
                <a:ext cx="5829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V="1">
                <a:off x="1762200" y="5591160"/>
                <a:ext cx="144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1895400" y="5591160"/>
                <a:ext cx="180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V="1">
                <a:off x="2028960" y="5591160"/>
                <a:ext cx="144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V="1">
                <a:off x="2162160" y="5591160"/>
                <a:ext cx="144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2295360" y="5591160"/>
                <a:ext cx="180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2428920" y="5591160"/>
                <a:ext cx="144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2552760" y="5591160"/>
                <a:ext cx="144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V="1">
                <a:off x="2685960" y="5591160"/>
                <a:ext cx="180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V="1">
                <a:off x="2819520" y="5591160"/>
                <a:ext cx="144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2952720" y="5591160"/>
                <a:ext cx="144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V="1">
                <a:off x="3085920" y="5591160"/>
                <a:ext cx="180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3219480" y="5591160"/>
                <a:ext cx="144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V="1">
                <a:off x="3352680" y="5591160"/>
                <a:ext cx="180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V="1">
                <a:off x="3486240" y="5591160"/>
                <a:ext cx="144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V="1">
                <a:off x="3619440" y="5591160"/>
                <a:ext cx="144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V="1">
                <a:off x="3753000" y="5591160"/>
                <a:ext cx="144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V="1">
                <a:off x="3886200" y="5591160"/>
                <a:ext cx="144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V="1">
                <a:off x="4010040" y="5591160"/>
                <a:ext cx="144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V="1">
                <a:off x="4143240" y="5591160"/>
                <a:ext cx="180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V="1">
                <a:off x="4276800" y="5591160"/>
                <a:ext cx="144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V="1">
                <a:off x="4410000" y="5591160"/>
                <a:ext cx="180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V="1">
                <a:off x="4543560" y="5591160"/>
                <a:ext cx="144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V="1">
                <a:off x="4676760" y="5591160"/>
                <a:ext cx="144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V="1">
                <a:off x="4809960" y="5591160"/>
                <a:ext cx="180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V="1">
                <a:off x="4943520" y="5591160"/>
                <a:ext cx="144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V="1">
                <a:off x="5076720" y="5591160"/>
                <a:ext cx="180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V="1">
                <a:off x="5210280" y="5591160"/>
                <a:ext cx="144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V="1">
                <a:off x="5343480" y="5591160"/>
                <a:ext cx="144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V="1">
                <a:off x="5467320" y="5591160"/>
                <a:ext cx="144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V="1">
                <a:off x="5600520" y="5591160"/>
                <a:ext cx="180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V="1">
                <a:off x="5734080" y="5591160"/>
                <a:ext cx="144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V="1">
                <a:off x="5867280" y="5591160"/>
                <a:ext cx="180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V="1">
                <a:off x="6000840" y="5591160"/>
                <a:ext cx="144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V="1">
                <a:off x="6134040" y="5591160"/>
                <a:ext cx="144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V="1">
                <a:off x="6267600" y="5591160"/>
                <a:ext cx="144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V="1">
                <a:off x="6400800" y="5591160"/>
                <a:ext cx="144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V="1">
                <a:off x="6534000" y="5591160"/>
                <a:ext cx="180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V="1">
                <a:off x="6667560" y="5591160"/>
                <a:ext cx="144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V="1">
                <a:off x="6800760" y="5591160"/>
                <a:ext cx="180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V="1">
                <a:off x="6924600" y="5591160"/>
                <a:ext cx="180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V="1">
                <a:off x="7058160" y="5591160"/>
                <a:ext cx="144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"/>
            <p:cNvSpPr/>
            <p:nvPr/>
          </p:nvSpPr>
          <p:spPr>
            <a:xfrm>
              <a:off x="1140840" y="2924280"/>
              <a:ext cx="512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,000,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rot="16200000">
              <a:off x="6665040" y="575676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1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5" name=""/>
            <p:cNvGrpSpPr/>
            <p:nvPr/>
          </p:nvGrpSpPr>
          <p:grpSpPr>
            <a:xfrm>
              <a:off x="7800840" y="809640"/>
              <a:ext cx="447840" cy="5591160"/>
              <a:chOff x="7800840" y="809640"/>
              <a:chExt cx="447840" cy="5591160"/>
            </a:xfrm>
          </p:grpSpPr>
          <p:sp>
            <p:nvSpPr>
              <p:cNvPr id="876" name=""/>
              <p:cNvSpPr/>
              <p:nvPr/>
            </p:nvSpPr>
            <p:spPr>
              <a:xfrm>
                <a:off x="7800840" y="809640"/>
                <a:ext cx="447840" cy="55911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848720" y="876240"/>
                <a:ext cx="66600" cy="666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952040" y="83808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2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848720" y="1066680"/>
                <a:ext cx="66600" cy="66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952040" y="102888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2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848720" y="1257480"/>
                <a:ext cx="66600" cy="666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952040" y="121932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2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848720" y="1447920"/>
                <a:ext cx="66600" cy="666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952040" y="14097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1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848720" y="1638360"/>
                <a:ext cx="66600" cy="66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952040" y="160020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1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848720" y="1828800"/>
                <a:ext cx="66600" cy="66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952040" y="179064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1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848720" y="2019240"/>
                <a:ext cx="66600" cy="66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952040" y="198108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1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848720" y="2209680"/>
                <a:ext cx="66600" cy="66960"/>
              </a:xfrm>
              <a:prstGeom prst="rect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952040" y="217188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1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848720" y="2400480"/>
                <a:ext cx="66600" cy="6660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952040" y="236232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1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848720" y="2590920"/>
                <a:ext cx="66600" cy="66600"/>
              </a:xfrm>
              <a:prstGeom prst="rect">
                <a:avLst/>
              </a:prstGeom>
              <a:solidFill>
                <a:srgbClr val="99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952040" y="25527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1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848720" y="2781360"/>
                <a:ext cx="66600" cy="6660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952040" y="274320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1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848720" y="2971800"/>
                <a:ext cx="66600" cy="66600"/>
              </a:xfrm>
              <a:prstGeom prst="rect">
                <a:avLst/>
              </a:prstGeom>
              <a:solidFill>
                <a:srgbClr val="33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952040" y="293364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1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848720" y="3162240"/>
                <a:ext cx="66600" cy="66600"/>
              </a:xfrm>
              <a:prstGeom prst="rect">
                <a:avLst/>
              </a:prstGeom>
              <a:solidFill>
                <a:srgbClr val="00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952040" y="312408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1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848720" y="3352680"/>
                <a:ext cx="66600" cy="6696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952040" y="331488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0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848720" y="3543480"/>
                <a:ext cx="66600" cy="66600"/>
              </a:xfrm>
              <a:prstGeom prst="rect">
                <a:avLst/>
              </a:prstGeom>
              <a:solidFill>
                <a:srgbClr val="00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952040" y="350532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0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848720" y="3733920"/>
                <a:ext cx="66600" cy="6660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952040" y="36957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0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848720" y="3924360"/>
                <a:ext cx="66600" cy="66600"/>
              </a:xfrm>
              <a:prstGeom prst="rect">
                <a:avLst/>
              </a:prstGeom>
              <a:solidFill>
                <a:srgbClr val="66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952040" y="388620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0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848720" y="4114800"/>
                <a:ext cx="66600" cy="666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952040" y="407664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0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848720" y="4305240"/>
                <a:ext cx="66600" cy="66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952040" y="426708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0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848720" y="4495680"/>
                <a:ext cx="66600" cy="66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952040" y="445788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848720" y="4686480"/>
                <a:ext cx="66600" cy="666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952040" y="464832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0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848720" y="4876920"/>
                <a:ext cx="66600" cy="666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952040" y="48387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0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848720" y="5067360"/>
                <a:ext cx="66600" cy="6660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7952040" y="502920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7848720" y="5257800"/>
                <a:ext cx="66600" cy="666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952040" y="521964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99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848720" y="5448240"/>
                <a:ext cx="66600" cy="6660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952040" y="541008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99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7848720" y="5638680"/>
                <a:ext cx="66600" cy="6696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7952040" y="560088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99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7848720" y="5829480"/>
                <a:ext cx="66600" cy="666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952040" y="579132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99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848720" y="6019920"/>
                <a:ext cx="66600" cy="666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952040" y="59817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99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848720" y="6210360"/>
                <a:ext cx="66600" cy="666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952040" y="617220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99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5" name=""/>
          <p:cNvSpPr/>
          <p:nvPr/>
        </p:nvSpPr>
        <p:spPr>
          <a:xfrm flipH="1">
            <a:off x="6781680" y="0"/>
            <a:ext cx="1524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cket No. RP03-        Exhibit No. HIO-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23:54:28Z</dcterms:created>
  <dc:creator>J. Scott Jenkins</dc:creator>
  <dc:description/>
  <dc:language>en-US</dc:language>
  <cp:lastModifiedBy>El Paso Energy Corp</cp:lastModifiedBy>
  <dcterms:modified xsi:type="dcterms:W3CDTF">2002-12-23T21:04:31Z</dcterms:modified>
  <cp:revision>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59616370</vt:r8>
  </property>
  <property fmtid="{D5CDD505-2E9C-101B-9397-08002B2CF9AE}" pid="3" name="_AuthorEmail">
    <vt:lpwstr>Vanessa.Lazalde@ElPaso.com</vt:lpwstr>
  </property>
  <property fmtid="{D5CDD505-2E9C-101B-9397-08002B2CF9AE}" pid="4" name="_AuthorEmailDisplayName">
    <vt:lpwstr>Lazalde, Vanessa</vt:lpwstr>
  </property>
  <property fmtid="{D5CDD505-2E9C-101B-9397-08002B2CF9AE}" pid="5" name="_EmailSubject">
    <vt:lpwstr>RE: </vt:lpwstr>
  </property>
  <property fmtid="{D5CDD505-2E9C-101B-9397-08002B2CF9AE}" pid="6" name="_ReviewingToolsShownOnce">
    <vt:lpwstr/>
  </property>
</Properties>
</file>