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A859-32BC-416B-84FA-3F5094D64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8FF4-FA36-4F77-B070-8672CABDC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D149-7BDB-46E5-B76F-DC8BB2AA0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EB6B-0C8E-4EE6-B441-B0DDC8690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77840"/>
            <a:ext cx="811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10B8-5CFB-476A-A1B2-98ABCEAB9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FFDD-1146-4FD0-B111-E84CA041F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E05C-4A99-46CB-B829-9AC55A7C3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D5A1-8879-4752-A34F-14C132203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177840"/>
            <a:ext cx="811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072D-9B5B-4F00-8D78-B3E288F47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639A-292E-43D3-8A5A-7C00A7097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F68B-983D-4CF6-A1DC-E4A0531E5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E1F4-20D6-4029-A28A-2F3BCACB6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8467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596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80960" indent="-352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70120" indent="-2746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7440" indent="-3394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7440" indent="-3394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7440" indent="-3394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222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67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8467c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06320" y="1895400"/>
            <a:ext cx="7694640" cy="3130560"/>
            <a:chOff x="706320" y="1895400"/>
            <a:chExt cx="7694640" cy="3130560"/>
          </a:xfrm>
        </p:grpSpPr>
        <p:sp>
          <p:nvSpPr>
            <p:cNvPr id="41" name=""/>
            <p:cNvSpPr/>
            <p:nvPr/>
          </p:nvSpPr>
          <p:spPr>
            <a:xfrm>
              <a:off x="7619760" y="1895400"/>
              <a:ext cx="0" cy="31305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06320" y="3548160"/>
              <a:ext cx="769464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1680" y="76320"/>
            <a:ext cx="2438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hibit No. SNG ____ (GAS-3)</a:t>
            </a:r>
            <a:endParaRPr b="1" lang="en-US" sz="1200" spc="-1" strike="noStrike">
              <a:solidFill>
                <a:srgbClr val="28467c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1066680"/>
          <a:ext cx="8915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9154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5:57:14Z</dcterms:created>
  <dc:creator>jlj8372</dc:creator>
  <dc:description/>
  <dc:language>en-US</dc:language>
  <cp:lastModifiedBy>Debbie Hendrix</cp:lastModifiedBy>
  <dcterms:modified xsi:type="dcterms:W3CDTF">2004-08-25T18:34:24Z</dcterms:modified>
  <cp:revision>20</cp:revision>
  <dc:subject/>
  <dc:title>Gallagher, Boland &amp; Meiburger</dc:title>
</cp:coreProperties>
</file>