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28600" y="68868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8467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E8A-7A4C-4150-BBF2-D3E32500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28600" y="687240"/>
            <a:ext cx="4604040" cy="3453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erves markets in 7 southeaster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ervices available to meet marke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mand peaks in winter, but summer load factor ha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significantly over the past few years as gas-fired po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has grown on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assets add significant value to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ipeline interconnections provide supply and market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a Island adds significant value to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BB68-3A36-48B4-9537-962BCBBF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D3AD-51B6-4E8A-8D4D-53336C9F3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F958-1A2A-43C2-BF29-6D83B1747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46AD-3539-4837-BA60-4ABB066D2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77840"/>
            <a:ext cx="811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FE37-A0A7-472B-A6EA-FBE030D0F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7125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002120"/>
            <a:ext cx="25023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C216-DCDE-40E7-A6CF-C346E678A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0FAA-D0A2-490C-8095-B6F5CE89B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60C2-1A53-4433-BE51-1249CC93A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177840"/>
            <a:ext cx="811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69FC-30A0-4008-8890-3AEDE7CD1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7E6C-382C-4926-A727-F1CC86D9C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021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87FC-9431-4360-8748-ABB056526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12520"/>
            <a:ext cx="3792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02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36CB-5DC6-479B-826D-9B8F6D9E4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77840"/>
            <a:ext cx="811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8467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2846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125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596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80960" indent="-352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70120" indent="-2746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7440" indent="-3394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7440" indent="-3394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7440" indent="-3394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222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67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8467c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06320" y="1895400"/>
            <a:ext cx="7694640" cy="3130560"/>
            <a:chOff x="706320" y="1895400"/>
            <a:chExt cx="7694640" cy="3130560"/>
          </a:xfrm>
        </p:grpSpPr>
        <p:sp>
          <p:nvSpPr>
            <p:cNvPr id="41" name=""/>
            <p:cNvSpPr/>
            <p:nvPr/>
          </p:nvSpPr>
          <p:spPr>
            <a:xfrm>
              <a:off x="7619760" y="1895400"/>
              <a:ext cx="0" cy="31305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06320" y="3548160"/>
              <a:ext cx="769464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629400" y="112680"/>
            <a:ext cx="25146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hibit No. SNG ____ (GAS-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461880"/>
          <a:ext cx="8076960" cy="624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1880"/>
                    <a:ext cx="8076960" cy="6243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5:57:14Z</dcterms:created>
  <dc:creator>jlj8372</dc:creator>
  <dc:description/>
  <dc:language>en-US</dc:language>
  <cp:lastModifiedBy>Debbie Hendrix</cp:lastModifiedBy>
  <dcterms:modified xsi:type="dcterms:W3CDTF">2004-08-25T18:35:49Z</dcterms:modified>
  <cp:revision>20</cp:revision>
  <dc:subject/>
  <dc:title>Gallagher, Boland &amp; Meiburger</dc:title>
</cp:coreProperties>
</file>